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93BC-C00B-42AC-8E71-8EB44B98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FA5-CAFC-4F21-8527-2E325231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A71-B6E5-42DE-88F3-4F0511A9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8612-6CF5-42A5-87F1-904C4170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4D6-9DD1-4839-A769-4BE6387E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508-E68A-4CB0-A0C8-5885DDF1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F20-3C92-4D95-8C84-1DC447B5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F34-DF97-4C3A-843B-A4246860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D78-6AFD-40FC-8075-38A4EC09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628-6300-406D-93FC-606AA737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F518-F6D7-424F-86FD-402B03AA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C539-D4ED-4191-98E3-3EDDCB0F2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10DA-BB59-4A72-B00E-33BF321B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C2C-96F5-4340-8673-BA82CCF4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29B4-19E5-4461-92F5-42E3542E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D2F-DC4E-4FEA-A9CC-F3ACE8CE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ACE-36D0-48B4-904B-2916B30C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0797-E851-4C20-BE71-6F43E5E4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656-520F-4F5E-B54D-94C1E2B7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4D0-AF09-43E5-9D18-39053079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AE0-EA4F-417B-AF75-8F12C612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0C53-A162-4B28-BF4D-311EB4F9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BE4-DFEB-4689-A38A-DE393CB1A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133344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FOOTBALL BOWL GAMES HAD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BACK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IDAHO  POTAT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–IT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U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MEXIC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7:35Z</dcterms:modified>
  <cp:revision>292</cp:revision>
  <dc:subject/>
  <dc:title>Slide 1</dc:title>
</cp:coreProperties>
</file>