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4.png" ContentType="image/png"/>
  <Override PartName="/ppt/media/image5.gif" ContentType="image/gif"/>
  <Override PartName="/ppt/media/image9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7F78-9B3C-4B86-AC18-F2284D276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DB41-D978-49C2-83FD-DB7F435A5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B391-8652-4E05-9833-F0A46B455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5D7B-893B-4A95-A1A2-CEF3AE2A1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0424-BD0B-464F-AAA0-ABD0423DC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B561-49F5-46D8-8063-3988434BA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A1F6-9267-473E-B046-FEB7F61BB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6976-B0C8-47B1-A06F-33A16056F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0DD0B-645F-4A88-A1F2-04B752096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5BBC-1437-4A5B-B1C3-46403B4E6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F55F-E278-4089-9E3A-1F0B787C0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0D6F-B400-47FE-A2F6-7EC3ED422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474E-02E2-4D80-BF81-114E4D0F4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EBAF-7CF5-4A95-AE7B-FFD93B5FD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A76B-10E1-4A73-8279-CE7B78108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E4D2-E7AA-4545-9E16-FEFD97077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9B61-617F-4CB9-8224-C688EDCBB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BEE8-D4C5-49A7-9B50-36BB46C8E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232A-8420-47C1-A272-FD8327990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57BB-DA3D-4770-B3F8-7CB799A9B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8BA5-2D5F-4A5D-AFB6-4F128097A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F3F3-C33F-4D6B-B50D-D4E52C7F3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4A8A-F32F-43CC-8947-ACB873D6C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19000" y="1333440"/>
            <a:ext cx="7506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LEGE FOOTBALL BOWL GAMES HAD THESE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WAI'I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093760" y="1295280"/>
            <a:ext cx="4956480" cy="356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135160" y="1295280"/>
            <a:ext cx="487368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BACK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725480" y="1295280"/>
            <a:ext cx="569304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IDAHO  POTATO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1839960" y="1295280"/>
            <a:ext cx="5464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EZ–IT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725560" y="1295280"/>
            <a:ext cx="3692880" cy="365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RUS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BERTY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"/>
          <p:cNvPicPr/>
          <p:nvPr/>
        </p:nvPicPr>
        <p:blipFill>
          <a:blip r:embed="rId1"/>
          <a:stretch/>
        </p:blipFill>
        <p:spPr>
          <a:xfrm>
            <a:off x="3027240" y="1295280"/>
            <a:ext cx="3089520" cy="3656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093760" y="1295280"/>
            <a:ext cx="4956480" cy="35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RMINGHAM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4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MEXICO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1620720" y="1295280"/>
            <a:ext cx="5902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W  ORLEANS  BOW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608120" y="1295280"/>
            <a:ext cx="5927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135160" y="1295280"/>
            <a:ext cx="48736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725480" y="1295280"/>
            <a:ext cx="569304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1839960" y="1295280"/>
            <a:ext cx="546408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725560" y="1295280"/>
            <a:ext cx="3692880" cy="365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762280" y="1295280"/>
            <a:ext cx="361944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3027240" y="1295280"/>
            <a:ext cx="3089520" cy="36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57600" cy="3694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47:35Z</dcterms:modified>
  <cp:revision>292</cp:revision>
  <dc:subject/>
  <dc:title>Slide 1</dc:title>
</cp:coreProperties>
</file>