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5AD7-9C81-4E38-9E12-E4CFA3EB1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044-B432-4F96-889A-55A3FC6B8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57C4-D579-4EDA-AD6B-A95DF135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F15C-027D-4261-8268-6E811ABE0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88C0-99CD-4672-8C7A-474E4D36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DEAB-B5BD-4069-A726-FE381803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E9EF-1134-4E70-B8FD-531F634A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4E8E-A8BE-458C-A57C-B2098219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5F26-1A57-407F-890F-59868324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A3A-18A5-40D8-AC91-CA2FED0AB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A73A-A617-4C26-BFFE-1C9B8A725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FFDB-4C1E-430E-B561-5BFFE7BAC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B221-53C6-4A66-AB76-F65C2209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14F8-E12A-4BF5-B8CD-F4E197E62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7C79-12AC-43C6-BB1E-561D6A7E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8FB6-6BCD-440C-87E0-D4268EE62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8596-5E67-4956-A001-B07DCC02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D639-9C4C-40A2-9371-2A06AF67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EFC-D7B7-4197-AEBC-BECACDF5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267B-EEC7-4A8F-8335-570648510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91B9-A5DA-4383-AD50-62D15FA8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FE34-13A3-4D7D-99DB-BE760F8C6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03A7-57D3-479B-BB1F-C9DB76922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5790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W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3526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GR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ING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213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NER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8620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33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ABU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35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NATIO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27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IGHT  WAT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35268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213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8620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33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35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27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8:06Z</dcterms:modified>
  <cp:revision>292</cp:revision>
  <dc:subject/>
  <dc:title>Slide 1</dc:title>
</cp:coreProperties>
</file>