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FB21-03A4-44F8-A834-EE0F1406B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9507-87C4-4110-9605-68417C17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EFFE-D33A-455F-B520-773AA7E2D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B364-97F7-4961-AFCA-D50966A4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C06-42B3-4F38-A46C-4BD0D22D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CFC7-BCA6-4E8B-A7DA-3E13D46D7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1430-8FF3-4437-B063-927C8EE67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B2C2-5933-4406-B02A-81F19FDF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5508-F562-446A-AF39-DE511943F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3626-C13A-4A20-B6C4-9CFFE3A09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025E-2732-491B-A161-3F32691B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F49F-8B77-41BD-9D0B-E07BF5A26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E21A-6F8F-41F6-9DD0-4193D4C8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B161-4BAE-456E-A6FD-EBDEAEA8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B779-D6B3-4117-BE7E-75950933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4BDA-81A8-41E6-9330-44EEBCF2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92F5-7C51-4E8C-9050-6BB83FDA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DC08-A3F8-4B5A-BC71-75F1D9C0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F8D8-C47D-40CC-B769-4AD997127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232D-6E0C-4711-AE75-1A067C6F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8AE5-D46E-4EE8-95DB-3BFEE6C7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2BA4-B768-4123-A47C-4A6796220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58E0-8BF1-4985-BFAF-77848CF9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5790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W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3526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GR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ING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213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NER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8620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33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ABU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35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NATIO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27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IGHT  WAT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35268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213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8620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33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35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27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8:06Z</dcterms:modified>
  <cp:revision>292</cp:revision>
  <dc:subject/>
  <dc:title>Slide 1</dc:title>
</cp:coreProperties>
</file>