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CFFB-AF7F-433D-B834-0B2D36DE3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F53F-6EFD-4DC6-B26E-E2FD90B20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3A64-E614-4A2F-A5DD-6792A4B96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5DAE-08B3-474F-9199-F42CFB929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0EC3-FB7D-48F2-9508-911EEE7FB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F87E-BFEE-410E-B11A-92FA3A1B0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2C2E-D84D-433E-9E51-3AC26B9AB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72D2-36B3-49AE-B682-4AD021CF6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0DA8-3340-4FCD-B4BB-B1642E1C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3FA0D-D5AA-464E-8BE7-2DDBB07DC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B613-4206-4397-9FB7-79BE70AC9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7242-8F05-413F-8020-15815E6F2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EC2F-16CD-44FC-82A2-D0ADAB2AE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E6D63-142E-408C-8A72-EC1D68377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750E-3D51-433C-8DDA-B8E1CB6AA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97C8-C5D2-40F7-990A-DF6DAA60E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A053-0B2B-43EE-8932-5726092C0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046A-0597-4F4B-939A-A72D0348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CF9D-5F92-410C-ABC7-C2B5224ED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59DC-AD63-44D2-8E67-1B645F4DD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E620-B459-4CA2-83CA-B2114F9F7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0CFA-A1E0-4068-9CE6-71C6C4AF1A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4A302-46A0-4053-9EDC-78BDA332D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76520" y="1676520"/>
            <a:ext cx="57909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W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tretch/>
        </p:blipFill>
        <p:spPr>
          <a:xfrm>
            <a:off x="2787480" y="1295280"/>
            <a:ext cx="356904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35268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GRE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50496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STING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1508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2136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RNER  MUS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8620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WEST  AIRL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DPR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33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ATABUR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419720" cy="356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743200" y="12193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  NATION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27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EIGHT  WATC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787480" y="1295280"/>
            <a:ext cx="356904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G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35268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5812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2136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8620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810240" cy="35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337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419720" cy="356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27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8:06Z</dcterms:modified>
  <cp:revision>292</cp:revision>
  <dc:subject/>
  <dc:title>Slide 1</dc:title>
</cp:coreProperties>
</file>