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8.gif" ContentType="image/gi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8.gif" ContentType="image/gif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5814-0578-44AD-9761-530CCA8E1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AAF2-9FF4-4264-AA48-FABB3C6B9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7AD2-75EA-41E8-AFDB-71CB48D1D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FA5F-C837-4DB0-B356-38558C001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E3B4-0C68-493F-8F87-27D750FAC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F22F-480C-42D7-8992-3D387DAA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2DFD-6CFE-45F8-B8F1-7A31BF236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CAD0-140C-40D9-9701-35F74531A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AF8E-9200-42E0-81F6-900654ECC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8E0-3A3C-4AEF-8D9D-7BF817A74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1285-4EB5-4670-8CF1-041D87949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21B0-2B6A-465E-9FDA-6C778EDBC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385-2B8C-42D6-815A-5FA1C9490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D757-7B04-4A7D-B7EC-B30A2234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94E0-BC6B-4023-870C-67C32AF34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C7B-B1A8-4FC1-B3DB-85EED915F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F7C-40D9-4DBE-B523-8F8EB7012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A73A-EAA1-4FAF-9B65-4912B98FE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A29C-645F-4E6D-96E8-67541B273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8364-E5EE-4172-A1E5-33B734BD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1C84-3459-4EC4-B242-0008D0033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8C71-27C6-4D0D-B147-759D1DA4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A679-5007-493B-B81F-BFBDA568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OGOS HAVE THESE UNUSUAL O'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673360" y="1371600"/>
            <a:ext cx="37972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2644920" y="1371600"/>
            <a:ext cx="3854160" cy="37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1874880" y="1295280"/>
            <a:ext cx="53942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1508040" y="1295280"/>
            <a:ext cx="612792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571680" y="1371600"/>
            <a:ext cx="8001000" cy="29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846000" y="1371600"/>
            <a:ext cx="745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714240" y="1371600"/>
            <a:ext cx="77155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492120" y="1447920"/>
            <a:ext cx="8180280" cy="28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870200" y="1295280"/>
            <a:ext cx="5403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476280" y="1471680"/>
            <a:ext cx="819144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501480" y="1447920"/>
            <a:ext cx="8123400" cy="35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549360" y="1447920"/>
            <a:ext cx="8045280" cy="25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tretch/>
        </p:blipFill>
        <p:spPr>
          <a:xfrm>
            <a:off x="1943280" y="1371600"/>
            <a:ext cx="5257800" cy="38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254240" y="1371600"/>
            <a:ext cx="663552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698920" y="1371600"/>
            <a:ext cx="374616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668680" y="1295280"/>
            <a:ext cx="380664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2712960" y="1371600"/>
            <a:ext cx="37180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511360" y="1371600"/>
            <a:ext cx="4121280" cy="36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355840" y="1295280"/>
            <a:ext cx="4432320" cy="377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8:30Z</dcterms:modified>
  <cp:revision>292</cp:revision>
  <dc:subject/>
  <dc:title>Slide 1</dc:title>
</cp:coreProperties>
</file>