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gif" ContentType="image/gif"/>
  <Override PartName="/ppt/media/image12.jpeg" ContentType="image/jpeg"/>
  <Override PartName="/ppt/media/image7.jpeg" ContentType="image/jpeg"/>
  <Override PartName="/ppt/media/image6.gif" ContentType="image/gif"/>
  <Override PartName="/ppt/media/image5.jpeg" ContentType="image/jpeg"/>
  <Override PartName="/ppt/media/image8.gif" ContentType="image/gif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8.gif" ContentType="image/gif"/>
  <Override PartName="/ppt/media/image13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C367-A288-4895-B130-6DFF0C2ED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951C-B48A-44FD-A6DB-017F92A9D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6502-E874-460F-8AF3-F98C9EB4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573C-1864-48E0-82AD-746C507DC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9681-979F-4284-915C-FD0D89CD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4EC9-EEEB-4E99-8961-A088F402F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71DC-B61F-49F2-8216-FDA977D27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4EAC-8B0A-4D79-8A87-617120E15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1D9C-0468-47C6-9EF0-DEF02CE2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3B6C-368F-4A8A-A2C1-0C7936BAF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5A0B-2013-4ED4-918A-803AA4794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21E6-0DFF-4FC1-AA50-ED82801AE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684D-1ABC-4A88-A9C6-3F223F0F2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DA07-DAE3-4C3C-B7A4-C50F72E3B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C6DF-A23A-4867-8379-6657A27F9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A469-5C8D-40EA-9992-A713F137A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BDBB-C2EC-46A9-9EDD-E3B010F96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1C9B-0DE8-4B66-97BC-6E446B177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7F6-9D82-4205-A04E-CF4DF592E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06B4-0F24-4B20-9225-77EA4D52D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AC770-D278-4E8F-99AA-39730A2D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205D-313C-472D-8390-E5D9FF65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DBFE1-140D-49F4-A81F-99341E5BB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LOGOS HAVE THESE UNUSUAL O'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2673360" y="1371600"/>
            <a:ext cx="379728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2644920" y="1371600"/>
            <a:ext cx="3854160" cy="37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874880" y="1295280"/>
            <a:ext cx="539424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Picture 4" descr=""/>
          <p:cNvPicPr/>
          <p:nvPr/>
        </p:nvPicPr>
        <p:blipFill>
          <a:blip r:embed="rId1"/>
          <a:stretch/>
        </p:blipFill>
        <p:spPr>
          <a:xfrm>
            <a:off x="1508040" y="1295280"/>
            <a:ext cx="612792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571680" y="1371600"/>
            <a:ext cx="8001000" cy="29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846000" y="1371600"/>
            <a:ext cx="74520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3" name="Picture 2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822960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714240" y="1371600"/>
            <a:ext cx="771552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492120" y="1447920"/>
            <a:ext cx="8180280" cy="28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870200" y="1295280"/>
            <a:ext cx="540360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2" descr=""/>
          <p:cNvPicPr/>
          <p:nvPr/>
        </p:nvPicPr>
        <p:blipFill>
          <a:blip r:embed="rId1"/>
          <a:stretch/>
        </p:blipFill>
        <p:spPr>
          <a:xfrm>
            <a:off x="476280" y="1471680"/>
            <a:ext cx="8191440" cy="23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1"/>
          <a:stretch/>
        </p:blipFill>
        <p:spPr>
          <a:xfrm>
            <a:off x="501480" y="1447920"/>
            <a:ext cx="8123400" cy="35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549360" y="1447920"/>
            <a:ext cx="8045280" cy="25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3" descr=""/>
          <p:cNvPicPr/>
          <p:nvPr/>
        </p:nvPicPr>
        <p:blipFill>
          <a:blip r:embed="rId2"/>
          <a:stretch/>
        </p:blipFill>
        <p:spPr>
          <a:xfrm>
            <a:off x="1943280" y="1371600"/>
            <a:ext cx="5257800" cy="38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254240" y="1371600"/>
            <a:ext cx="663552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698920" y="1371600"/>
            <a:ext cx="3746160" cy="37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2668680" y="1295280"/>
            <a:ext cx="3806640" cy="382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2" descr=""/>
          <p:cNvPicPr/>
          <p:nvPr/>
        </p:nvPicPr>
        <p:blipFill>
          <a:blip r:embed="rId1"/>
          <a:stretch/>
        </p:blipFill>
        <p:spPr>
          <a:xfrm>
            <a:off x="2712960" y="1371600"/>
            <a:ext cx="371808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6" name="Picture 2" descr=""/>
          <p:cNvPicPr/>
          <p:nvPr/>
        </p:nvPicPr>
        <p:blipFill>
          <a:blip r:embed="rId1"/>
          <a:stretch/>
        </p:blipFill>
        <p:spPr>
          <a:xfrm>
            <a:off x="2511360" y="1371600"/>
            <a:ext cx="4121280" cy="36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2355840" y="1295280"/>
            <a:ext cx="4432320" cy="377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8:30Z</dcterms:modified>
  <cp:revision>292</cp:revision>
  <dc:subject/>
  <dc:title>Slide 1</dc:title>
</cp:coreProperties>
</file>