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1A31-86AA-4A35-BDD0-8E50E0D1F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1CD2-6034-4E8C-B941-CBEA9DD65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BE52-3888-484A-A643-460C70287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9F77-54BD-4FC6-AB12-042C8DB97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9C16-082B-40BB-B316-7818AA7E0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1511-F72C-419F-87BF-D381EEE0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869D-3C88-4844-B9D9-3F87654A6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D17A-0517-4709-A602-E293EB904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20DC-D53D-4991-89A9-CB779E460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645F-CAF0-47A8-AE4B-983ED1C2F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DD3D-58DB-4989-BC75-898377B08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9844-0178-44B4-B268-A79EB461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B3E0-B777-44A3-86EB-FED3BB4FF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8968-1599-4B5C-B593-98DD2581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A635-A2D0-4AA0-8B0C-DE9105C5F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EED2-0FAF-4F7C-83CE-311328834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3632-8659-4CC9-BA0C-AB04C48B9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2F96-00EB-4120-84CA-85340F89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A0E6-45CC-4D7C-AAC5-1D9A19B72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32B9-8CF2-4095-8A2A-0B0DA665D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770D-5932-44FD-849A-C7BDD7D2B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335A-2944-42A2-B14E-E4BDE036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AB35-6C49-44C5-9D3B-7278A8C47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6761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LOGOS DO THESE "LETTERS" COM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1216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819520" y="1333440"/>
            <a:ext cx="35049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P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1257480" y="1371600"/>
            <a:ext cx="662940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AN  TR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639040" cy="32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H 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374840" y="1371600"/>
            <a:ext cx="6394320" cy="30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S 'R'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004760" y="1467000"/>
            <a:ext cx="7134480" cy="19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1066680" y="1374840"/>
            <a:ext cx="7010640" cy="25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898640" y="1447920"/>
            <a:ext cx="534672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3371760" y="1295280"/>
            <a:ext cx="24004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A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397160" y="1479600"/>
            <a:ext cx="6349680" cy="22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PIC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1073160" y="1447920"/>
            <a:ext cx="699768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LO  TROP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657440" y="1395360"/>
            <a:ext cx="582912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4010040" y="1365120"/>
            <a:ext cx="11239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59160" y="1295280"/>
            <a:ext cx="4225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846600" y="1282680"/>
            <a:ext cx="145080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957400" y="1295280"/>
            <a:ext cx="32292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3159000" y="1295280"/>
            <a:ext cx="2826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840040" y="1295280"/>
            <a:ext cx="3463920" cy="33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995640" y="1295280"/>
            <a:ext cx="11527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9:00Z</dcterms:modified>
  <cp:revision>292</cp:revision>
  <dc:subject/>
  <dc:title>Slide 1</dc:title>
</cp:coreProperties>
</file>