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0E9-99D1-4F49-960A-C727CBD2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E98-61F0-496F-92A2-1AF93630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05AE-8D54-4F09-8ECB-9452F9D9D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2346-EA57-4A32-8B01-D964F275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2CE-8F2B-49C3-A874-6C40535C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CECF-7BB5-4809-997A-77D7C33E1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E84-A83E-48D2-A7EF-B43B2EDB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1666-5217-41FE-8CBB-49B701E5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35EA-F762-4D02-8E39-03A4FC2F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E36-8C54-4805-B891-606DF09B2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AF6-C19C-4237-96F8-CB6B9C49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CCEB-5482-4DF5-BE30-795DA2BB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EEDD-E542-496E-B0DC-7691AA300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789-247E-4DC0-9E09-5964C4EA1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685-50AE-48D6-A61B-8FBDED5F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998-721A-4A7C-B991-C57B6A38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55A-FE8C-4F98-B1DD-5BF16BF2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F32-AE63-411D-AD24-5AD0F615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7A5-35FC-4FF0-B5E2-5F862BCF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C414-4AAC-4119-83C9-762AEE50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13C-DDEB-4A05-8A08-62131A7B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61E-650A-40D9-9FBB-2009A947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5534-60AB-4289-ACD6-12C03D58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DO THESE "LETTERS"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216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19520" y="1333440"/>
            <a:ext cx="35049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257480" y="1371600"/>
            <a:ext cx="66294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TR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H 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374840" y="1371600"/>
            <a:ext cx="639432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'R'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004760" y="1467000"/>
            <a:ext cx="713448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066680" y="1374840"/>
            <a:ext cx="701064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898640" y="1447920"/>
            <a:ext cx="534672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371760" y="1295280"/>
            <a:ext cx="2400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397160" y="1479600"/>
            <a:ext cx="63496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073160" y="1447920"/>
            <a:ext cx="699768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LO  TRO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57440" y="1395360"/>
            <a:ext cx="58291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010040" y="1365120"/>
            <a:ext cx="11239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59160" y="1295280"/>
            <a:ext cx="4225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46600" y="1282680"/>
            <a:ext cx="14508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159000" y="1295280"/>
            <a:ext cx="2826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840040" y="1295280"/>
            <a:ext cx="346392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11527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9:00Z</dcterms:modified>
  <cp:revision>292</cp:revision>
  <dc:subject/>
  <dc:title>Slide 1</dc:title>
</cp:coreProperties>
</file>