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4F46-A687-41F5-95CC-3944F47BA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F704-187C-48EC-A4FF-6B9CD3E4B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06EA-121A-4532-A6C0-204E7A279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2339-E308-44E7-9114-CEC73D0D0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4500-109D-423B-8585-19A79B539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5B8D-5065-4467-8DFB-E06DD9BB7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A781-F4EC-4565-B671-9FDA50FE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DB5-BD34-41C6-A1D3-73A4843DE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67EE-BA5B-4731-A31E-3CC79EE41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B802-FC63-4F81-93D5-E16A812C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49D3-30E2-4725-8001-CF4AAEA92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CB8-9F12-4E71-AEEB-BD5E5C06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DD81-7DCA-4A8D-A889-ED3DFB6E6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0D2B-B9C4-4F8C-8273-34044E465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853B-71C3-458A-BD4A-19AAB47A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C2F7-B715-4369-B2DE-09DE0154D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534D-769C-40AA-A553-A4AF49161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0872-76C1-4859-8762-1E365C961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7EDA-AF3E-4E27-A761-19E9D7417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EBC3-9EA9-4E14-AA6E-E041EB727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C86E-D497-42C6-9217-8013F5D2A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C41-5281-4A44-816E-F4D7BA611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C387-4A3B-477A-8FC9-5885125B3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RIPED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  OF  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3.jpg"/>
          <p:cNvPicPr/>
          <p:nvPr/>
        </p:nvPicPr>
        <p:blipFill>
          <a:blip r:embed="rId1"/>
          <a:stretch/>
        </p:blipFill>
        <p:spPr>
          <a:xfrm>
            <a:off x="2271600" y="1295280"/>
            <a:ext cx="46008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5.jpg"/>
          <p:cNvPicPr/>
          <p:nvPr/>
        </p:nvPicPr>
        <p:blipFill>
          <a:blip r:embed="rId1"/>
          <a:stretch/>
        </p:blipFill>
        <p:spPr>
          <a:xfrm>
            <a:off x="2770200" y="1295280"/>
            <a:ext cx="3603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3956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FORT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7.jpg"/>
          <p:cNvPicPr/>
          <p:nvPr/>
        </p:nvPicPr>
        <p:blipFill>
          <a:blip r:embed="rId1"/>
          <a:stretch/>
        </p:blipFill>
        <p:spPr>
          <a:xfrm>
            <a:off x="2760840" y="1295280"/>
            <a:ext cx="36223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&amp;  DE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3" descr="1.jpg"/>
          <p:cNvPicPr/>
          <p:nvPr/>
        </p:nvPicPr>
        <p:blipFill>
          <a:blip r:embed="rId1"/>
          <a:stretch/>
        </p:blipFill>
        <p:spPr>
          <a:xfrm>
            <a:off x="1143000" y="1295280"/>
            <a:ext cx="6929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T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O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8.jpg"/>
          <p:cNvPicPr/>
          <p:nvPr/>
        </p:nvPicPr>
        <p:blipFill>
          <a:blip r:embed="rId1"/>
          <a:stretch/>
        </p:blipFill>
        <p:spPr>
          <a:xfrm>
            <a:off x="2590920" y="1295280"/>
            <a:ext cx="4125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CAR  R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19.jpg"/>
          <p:cNvPicPr/>
          <p:nvPr/>
        </p:nvPicPr>
        <p:blipFill>
          <a:blip r:embed="rId1"/>
          <a:stretch/>
        </p:blipFill>
        <p:spPr>
          <a:xfrm>
            <a:off x="2514600" y="1295280"/>
            <a:ext cx="4071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2.jpg"/>
          <p:cNvPicPr/>
          <p:nvPr/>
        </p:nvPicPr>
        <p:blipFill>
          <a:blip r:embed="rId1"/>
          <a:stretch/>
        </p:blipFill>
        <p:spPr>
          <a:xfrm>
            <a:off x="2819520" y="1295280"/>
            <a:ext cx="3601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3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06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5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79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6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56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7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8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16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50:11Z</dcterms:modified>
  <cp:revision>290</cp:revision>
  <dc:subject/>
  <dc:title>Slide 1</dc:title>
</cp:coreProperties>
</file>