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B224-837B-4DDF-B454-6AAAD269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710-8336-439F-B18B-9EB8B66E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8701-6DF7-4A6C-961A-2D4D1C9B3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2E3D-16F0-4631-A296-A46895D9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0BE3-7D22-4D0D-B255-51CD6D97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A5EA-D099-43A4-931C-DD8398BA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0C5A-7E51-4344-9FFA-E9744507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64A9-DE71-4C31-B8B4-F16906A3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B48-C41E-4D7E-AA3C-86D06DA5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7C34-4506-4E01-B0EC-C3524119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C463-53F8-4E0E-80A0-F34CEE7E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AE13-4B8F-47A5-B2BC-767C7F8D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E3A-A419-4008-9E75-0C9A4F28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617-120A-4920-B52B-918BED77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BAB-E71F-40A4-8440-AA8D2834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DEED-C9BA-4CF4-83DE-BA4667047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C28-D61A-468E-8275-87870CD8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690-077D-4718-AA2E-42087236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850-8364-43A8-AFE1-3B49C5DA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AE7-A8ED-4BCF-A84F-227983DD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98E-8D94-4B2C-A827-C268F033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2277-ED4D-4132-B6EF-7FAA4BE3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5E8-431F-4FF1-8610-28C784B2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RIPE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OF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3.jpg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5.jpg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395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7.jpg"/>
          <p:cNvPicPr/>
          <p:nvPr/>
        </p:nvPicPr>
        <p:blipFill>
          <a:blip r:embed="rId1"/>
          <a:stretch/>
        </p:blipFill>
        <p:spPr>
          <a:xfrm>
            <a:off x="2760840" y="1295280"/>
            <a:ext cx="3622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&amp;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T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CAR  R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3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06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5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79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7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50:11Z</dcterms:modified>
  <cp:revision>290</cp:revision>
  <dc:subject/>
  <dc:title>Slide 1</dc:title>
</cp:coreProperties>
</file>