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4D99-863F-4D2A-9C68-1C1B4EAA0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4EAA-BCBD-46B8-84D8-67D6E4799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232C-417A-4777-860D-BB513AA99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CD3B-9825-48E0-9472-B11AF3452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22DC-FB2D-49C9-982E-1C8246925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D16A-BB6D-4F84-BB0A-092757A6E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3308-F186-436B-B6E0-E1C263968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7FEF-9B29-493D-BE16-16A0A5ADC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DE17-3EEA-4841-B60B-934EFF5F9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D699-3176-43B1-93C4-46FD6C6A6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8513-DEA1-466B-91EF-D9A395098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95C4-59F9-4CD7-8246-46490086B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80A2-4001-4B10-AAA9-75F9CC22E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6A0D-1C0D-4EF0-95DD-CDDCB8E89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C8D6-D95C-40C3-9A01-5CCAE15DD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2659-C6C2-48A0-A19F-5F88BF961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9650-FE93-4243-9A8A-0B0E40F63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7FF2-995D-4EA4-A1EF-AB25968F2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E235-045E-4278-A861-47F595C82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8B12-3E6C-4870-9D49-FF633F07B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D84F-34FE-4A1E-9017-191FDF770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256A-DC63-4D38-9945-4486646BB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844F-1FEC-4E06-A9EE-4CB714291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33344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OLLEGES WITH THESE "M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965320" y="1295280"/>
            <a:ext cx="3213360" cy="35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044880" y="1295280"/>
            <a:ext cx="3054240" cy="35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IGAN  WOLVER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998720" y="1285920"/>
            <a:ext cx="5146560" cy="37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  GOLDEN  GOP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612800" y="1295280"/>
            <a:ext cx="5918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MPHIS  TI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476440" y="1295280"/>
            <a:ext cx="4191120" cy="364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ER  BE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170080" y="1295280"/>
            <a:ext cx="48038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LAND  TERRAP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914560" y="1295280"/>
            <a:ext cx="33148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ISSIPPI  STATE  BULL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627200" y="1295280"/>
            <a:ext cx="5889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NHATTAN  JASP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427120" y="1295280"/>
            <a:ext cx="4289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998720" y="1295280"/>
            <a:ext cx="514656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MI  (OHIO)  REDHAW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190600" y="1295280"/>
            <a:ext cx="4762800" cy="362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RAY  STATE  RA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965320" y="1295280"/>
            <a:ext cx="3213360" cy="357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SHALL  THUNDERING  HE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044880" y="1295280"/>
            <a:ext cx="3054240" cy="35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612800" y="1295280"/>
            <a:ext cx="5918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476440" y="1295280"/>
            <a:ext cx="4191120" cy="36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170080" y="1295280"/>
            <a:ext cx="4803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914560" y="1295280"/>
            <a:ext cx="33148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627200" y="1295280"/>
            <a:ext cx="5889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427120" y="1295280"/>
            <a:ext cx="42897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190600" y="1295280"/>
            <a:ext cx="4762800" cy="362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12-18T19:08:01Z</dcterms:modified>
  <cp:revision>288</cp:revision>
  <dc:subject/>
  <dc:title>Slide 1</dc:title>
</cp:coreProperties>
</file>