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396-88A6-435D-8FBC-C06E96C10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5376-768A-43A4-8743-C96055481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5B64-D457-45F1-87ED-EE2EAD44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FDE-0754-4A13-A0AB-0B2CAC1D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8B1-9794-4265-9745-FCE92AA5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F1C-BE3B-4A48-80D6-4CB09FF9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3BE1-5842-4DD6-84C1-EF9D6D44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011-5552-4AEE-A3E8-8CFEBB23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B38D-BEF6-4BDF-8CB4-D294781A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B1CD-88BE-4D07-81B3-E2D00E04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0069-C164-41DB-93E4-21D1B9CF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889E-505F-439D-926A-B32FBB3F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2E3-7609-4A4D-9EFE-B3170246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251-0E7C-4D1B-A8C9-56F02EC5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857-BA78-44A8-976E-7ED8DED3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2630-3D0C-458C-96A1-D2F3AFA7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A00-5C6D-41FC-9880-9D6DBF77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4C7-5A0B-4C80-A947-F9027129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CFF-8AD0-4C96-B0D8-B7EDD813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1EF4-B26A-4487-A24A-F9FC72777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034-BEF5-4501-B755-D0062988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3167-86B0-414C-BC37-77900CB9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379-5F68-4041-9636-6FDC77F6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OLLEGES WITH THESE "M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044880" y="1295280"/>
            <a:ext cx="30542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WOLVER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98720" y="1285920"/>
            <a:ext cx="51465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GOLDEN  GOP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12800" y="1295280"/>
            <a:ext cx="591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MPHIS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R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70080" y="1295280"/>
            <a:ext cx="4803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  TERRAP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STATE  BULL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627200" y="1295280"/>
            <a:ext cx="5889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  JAS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98720" y="1295280"/>
            <a:ext cx="514656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(OHIO)  REDHA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90600" y="1295280"/>
            <a:ext cx="476280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STATE  RA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HALL  THUNDERING  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4880" y="1295280"/>
            <a:ext cx="305424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12800" y="1295280"/>
            <a:ext cx="591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70080" y="1295280"/>
            <a:ext cx="4803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27200" y="1295280"/>
            <a:ext cx="5889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190600" y="1295280"/>
            <a:ext cx="4762800" cy="36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9:08:01Z</dcterms:modified>
  <cp:revision>288</cp:revision>
  <dc:subject/>
  <dc:title>Slide 1</dc:title>
</cp:coreProperties>
</file>