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2EE9-7461-4ACD-98F9-A83967C7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22E7-E33B-4E6A-A18B-56C21B26B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5D3C-BD96-4F98-A071-FCAE1860B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C3AD-6924-467B-9A4F-298CF5849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A2CF-333F-4DB3-873A-C94AE2F4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7850-22DA-42BC-A569-9907DD1E8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5BA6-E873-4AC3-B869-729DE248B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52ED-6596-497F-8B54-AE49B469F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92A0-A6E4-4ABA-A13B-E6105AFC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20A6-BFD1-4C6A-B010-838506AF8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649A-A2C5-4135-8BC3-B3CE3C865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EA72-489E-4EEF-B696-13373B95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60A7-9299-4432-80BE-D94E4BAF5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6B7B-F845-44ED-B4B7-16C2088F8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AA38-1994-4CD3-880E-89B786385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B32F-8DE9-4889-8306-37B6FF127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F913-48A8-4A67-9DEE-BA60CC98D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C502-C666-4325-916D-607DE1DED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A9FE-C801-4133-8B9F-CCC76E099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24A3-908A-427D-8DE9-8A52DC9C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CB40-FB78-47D9-BBC2-2CDD404C3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93A-7B09-4DED-A35B-94A8FE8A2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A3883-47B8-44FA-B378-A144671E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76520" y="1676160"/>
            <a:ext cx="57909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"F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47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282840" y="1295280"/>
            <a:ext cx="2578320" cy="35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6188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DA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ON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70280" y="129528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HOSP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6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60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AL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32120" y="13716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FOOT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8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4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282840" y="1295280"/>
            <a:ext cx="2578320" cy="35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870280" y="1295280"/>
            <a:ext cx="3403440" cy="340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32120" y="1371600"/>
            <a:ext cx="347976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9:25:55Z</dcterms:modified>
  <cp:revision>289</cp:revision>
  <dc:subject/>
  <dc:title>Slide 1</dc:title>
</cp:coreProperties>
</file>