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7FBF-76A7-42D6-A49E-6E618F6C5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6F95-3720-4EC7-98C7-58BBA3CE0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A1E2-BD69-4F95-B160-09DC01B7F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DD72-4754-4652-94F1-0D6C9795A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E841-AC29-448C-94E1-5693D93C5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BD1A-2D50-46E1-B4CA-044C8B370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20C8-3BF6-4CC8-9E8B-AD3874324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32D5-4D9D-4A1B-B629-56952A693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1690-2CB4-4342-BF99-8D94C3D0D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CC76-27B3-4305-BF92-6D5E0CA2A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19EF-CAAC-4255-A7F6-FD886A803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D623-B2E1-4683-A088-85A877CC2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4423-222D-4376-B7ED-7001C6E7B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E08D-5022-44CF-A476-19DDA4A2A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5A52-A64E-4C83-A9B3-61C148861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047E-BB58-4FC6-AC60-0A3FC81E0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9C8A-3403-41FF-B045-CD3B29B0F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D58D-C4D1-409D-B412-934A1287A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3848-167C-491F-98AA-349B43A7F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4ABC-7FFA-4992-BF37-B62451556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56E3-C761-4801-BAC9-5C9C03985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3605-94F5-4064-9F3D-1D6186654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BC9E-A11A-41F2-886F-8062EAAC3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76520" y="1676160"/>
            <a:ext cx="57909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 "F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797200" y="1295280"/>
            <a:ext cx="3549600" cy="34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282840" y="1295280"/>
            <a:ext cx="2578320" cy="35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4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6188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NDA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5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NT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70280" y="1295280"/>
            <a:ext cx="3403440" cy="340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IDA  HOS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6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6044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AL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832120" y="1371600"/>
            <a:ext cx="3479760" cy="34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683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OUS  FOOTW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4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797200" y="1295280"/>
            <a:ext cx="3549600" cy="34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URSQU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282840" y="1295280"/>
            <a:ext cx="2578320" cy="35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870280" y="1295280"/>
            <a:ext cx="3403440" cy="34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832120" y="1371600"/>
            <a:ext cx="347976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781360" y="13716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12-18T19:25:55Z</dcterms:modified>
  <cp:revision>289</cp:revision>
  <dc:subject/>
  <dc:title>Slide 1</dc:title>
</cp:coreProperties>
</file>