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0756-3CDD-49A3-A2EF-5E4266478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F948-08B5-4A3D-9E8D-8EDCF4205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44E3-F2A5-4592-91C4-AD1562268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7463-F1CC-4745-AD3B-0BA650D06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4F8B-0113-4D0B-B994-30DF23342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34E5-87EA-4A11-B5A5-5F3DE9230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EAB6-FD1A-45E3-BE5E-7147A945D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0B88-32DA-4B3B-B51A-B757DACBA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BD55-F20D-4FA5-8CAA-3C9D417F3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95CC-A598-448E-A9DA-13354AEF1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6B71-79D5-4D8F-955D-6E903B699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9921-2E35-4508-BA63-0481DCC6A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253F-52F7-4A62-915C-39DC4B074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8623-AA03-434D-8034-6A177F7FC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6FD7-01AD-42E4-B2EF-7CA7ACCF6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9267-9FCA-492F-A146-B76F4932B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2827-DB7F-4636-A36E-14E4E173A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5487-FEEB-4F08-BD74-5A397DBC5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9777-59D6-4883-B6E1-24749D9A2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1C6E-51CE-4135-840A-5A669276B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19C8-D9A3-4D28-BDCF-2F3422B29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2872-AAA3-476A-AE47-D61210E8A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6FD5-2B5B-4510-A858-5F4BA2E5B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95280" y="1333440"/>
            <a:ext cx="6553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LLEGE SPORTS TEAMS HAVE THESE LOGO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785880" y="1295280"/>
            <a:ext cx="75722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630600" y="1301760"/>
            <a:ext cx="1882800" cy="36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 FLORIDA  BU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41936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IGAN  STATE  SPART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006720" y="1295280"/>
            <a:ext cx="313056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GHAM  YOUNG  COUG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887480" y="1371600"/>
            <a:ext cx="53690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OWA  HAWK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063880" y="1295280"/>
            <a:ext cx="50162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AS  LONGHO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325520" y="1346040"/>
            <a:ext cx="6492960" cy="332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MSON  TI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46440" y="1295280"/>
            <a:ext cx="36511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  STATE  NITTANY  L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94040" y="1295280"/>
            <a:ext cx="5155920" cy="35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41936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MI  HURRIC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647720" y="1295280"/>
            <a:ext cx="58485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KANSAS  RAZOR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785880" y="1295280"/>
            <a:ext cx="75722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ZONA  STATE  SUN  DEV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630600" y="1301760"/>
            <a:ext cx="1882800" cy="36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006720" y="1295280"/>
            <a:ext cx="313056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887480" y="1371600"/>
            <a:ext cx="53690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063880" y="1295280"/>
            <a:ext cx="50162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325520" y="1346040"/>
            <a:ext cx="649296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46440" y="1295280"/>
            <a:ext cx="36511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994040" y="1295280"/>
            <a:ext cx="5155920" cy="35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647720" y="1295280"/>
            <a:ext cx="58485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1-30T19:20:24Z</dcterms:modified>
  <cp:revision>287</cp:revision>
  <dc:subject/>
  <dc:title>Slide 1</dc:title>
</cp:coreProperties>
</file>