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6BF4-044A-4785-B87D-4DB22DA37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D00E-9F15-4EB7-B27A-C404207AD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971F-7581-48C2-A13F-7CFCDEF00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87CC-CB0C-4EBA-81DB-56C2452D3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5C4D-C01F-4615-925B-565B235A8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FAE3-7E68-47AE-A9CB-F42FE0AA4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8EF7-F059-4347-85AD-608D4F40B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1591-B43B-4F4D-9327-59445C9A7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DF00-F86A-40A4-BCED-DAE73B436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0524-0AF6-477D-AD35-5F49B6EDB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DD37-0320-4E49-BC9C-6C7B84CD7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EB86-15E1-496B-A206-7B8B6D9AD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655B-EEFC-42C2-A25B-B7DACA97D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8961-FD61-4141-83AE-440EAD101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2047-4634-4EC6-BCB2-7DF0BDEFA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6065-1BB7-4488-BD12-BEEA73BE8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057B-B10B-4B40-AD52-D5D19FC48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62A5-C489-4160-8E8B-43AB64039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365D-1EF8-47D2-AE06-E80A539B1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3190-C0DA-42C1-ABAF-426509923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107B-9A85-4786-8AE2-1CFBC7592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FA79-6D4C-4A60-B87D-96DFF5598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44E3-B20C-403F-BF9F-A7734D026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95280" y="1333440"/>
            <a:ext cx="6553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LLEGE SPORTS TEAMS HAVE THESE LOGO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785880" y="1295280"/>
            <a:ext cx="75722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630600" y="1301760"/>
            <a:ext cx="1882800" cy="36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  FLORIDA  BU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41936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IGAN  STATE  SPART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006720" y="1295280"/>
            <a:ext cx="313056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GHAM  YOUNG  COUG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887480" y="1371600"/>
            <a:ext cx="53690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OWA  HAWK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063880" y="1295280"/>
            <a:ext cx="50162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XAS  LONGHO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325520" y="1346040"/>
            <a:ext cx="6492960" cy="332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MSON  TI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46440" y="1295280"/>
            <a:ext cx="36511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  STATE  NITTANY  L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94040" y="1295280"/>
            <a:ext cx="5155920" cy="35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41936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MI  HURRIC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647720" y="1295280"/>
            <a:ext cx="58485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KANSAS  RAZOR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785880" y="1295280"/>
            <a:ext cx="75722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ZONA  STATE  SUN  DEV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630600" y="1301760"/>
            <a:ext cx="1882800" cy="36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006720" y="1295280"/>
            <a:ext cx="3130560" cy="35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887480" y="1371600"/>
            <a:ext cx="53690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063880" y="1295280"/>
            <a:ext cx="50162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325520" y="1346040"/>
            <a:ext cx="649296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46440" y="1295280"/>
            <a:ext cx="36511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994040" y="1295280"/>
            <a:ext cx="5155920" cy="35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647720" y="1295280"/>
            <a:ext cx="58485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1-30T19:20:24Z</dcterms:modified>
  <cp:revision>287</cp:revision>
  <dc:subject/>
  <dc:title>Slide 1</dc:title>
</cp:coreProperties>
</file>