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F9C0-9715-4220-8782-F2AD2E2DC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BDE0-E9DD-4348-B3A7-4471F59B7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A2D-6D36-4EE8-A8CE-49AA662A8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50BA-B6BD-46A0-8241-532C4064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9C4D-3DDE-4A74-8A0B-B8CB170C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19AC-F268-434F-A52C-DACA9DB23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6F5F-4542-4C4D-9429-B37DDFA70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919E-8966-4B68-A945-C5C0B0FE1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1C19-9810-4B3D-B653-15A510D0A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AA7-D533-4631-8235-FBE43092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A056-24A7-4C14-BDBD-8DA3DDAB2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D778-47CC-41E3-A7F2-346F6A676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044D-CBB2-41E7-94C4-9FEA0ADF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9964-89B2-4B9D-836C-333C77F27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F47B-F8DB-4EE6-80F1-A805052B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F900-83F6-4EBE-ACF0-8F77CBB59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01DA-B843-4A02-90D3-66D7B0CF4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ABD2-78B4-4AF6-8F41-FCE0BD490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D81F-3BD3-4E44-9832-2B84C3B92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9FB7-0573-4A81-AB2D-C5421778D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FB1D-1D27-4E91-9EBB-B51AD5F9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D4EE-D039-4600-9896-D878B7C5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29B1-966D-4F73-A342-4883C36BA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905120" y="1676160"/>
            <a:ext cx="5333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N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637000" y="1295280"/>
            <a:ext cx="3870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FL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479760" y="1295280"/>
            <a:ext cx="21844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WIDE  IN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975040" y="1295280"/>
            <a:ext cx="3193920" cy="36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596960" y="1295280"/>
            <a:ext cx="595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S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654280" y="1295280"/>
            <a:ext cx="3835440" cy="35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WEST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670120" y="1295280"/>
            <a:ext cx="3803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084400" y="1295280"/>
            <a:ext cx="497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VE   EYE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927080" y="1295280"/>
            <a:ext cx="52898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479760" y="1295280"/>
            <a:ext cx="21844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RENT–A–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82720" y="1295280"/>
            <a:ext cx="3778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NTENDO  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637000" y="1295280"/>
            <a:ext cx="3870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SPR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75040" y="1295280"/>
            <a:ext cx="31939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96960" y="1295280"/>
            <a:ext cx="5950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654280" y="1295280"/>
            <a:ext cx="3835440" cy="35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670120" y="1295280"/>
            <a:ext cx="3803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84400" y="1295280"/>
            <a:ext cx="497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927080" y="1295280"/>
            <a:ext cx="52898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82720" y="1295280"/>
            <a:ext cx="3778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5-06T17:43:15Z</dcterms:modified>
  <cp:revision>288</cp:revision>
  <dc:subject/>
  <dc:title>Slide 1</dc:title>
</cp:coreProperties>
</file>