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gif" ContentType="image/gif"/>
  <Override PartName="/ppt/media/image4.jpeg" ContentType="image/jpeg"/>
  <Override PartName="/ppt/media/image6.gif" ContentType="image/gif"/>
  <Override PartName="/ppt/media/image11.gif" ContentType="image/gif"/>
  <Override PartName="/ppt/media/image7.jpeg" ContentType="image/jpeg"/>
  <Override PartName="/ppt/media/image8.jpeg" ContentType="image/jpe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FBFD-770E-48AC-8843-43B06A2AC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C3F0-E341-4177-B9C4-0E648C0D6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B1C7-0C79-4BBC-B143-0E112EF97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62D4-4421-4B45-B7B2-235E2AC5F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825F-88C5-4D1A-9A4E-BE2F00E71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E98D-0127-4C22-BBC8-3ECBBE808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144C-3FD2-4219-AC2B-652C3D107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057E-A6EB-40AB-B083-81B2FB3FE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0153-622C-4DF8-B6CE-1344D63BF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A3DD-0587-403E-86BA-ACF28171C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2D74-E3BA-4EA9-85D2-B1BFC147C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E93B-EBFB-4BFE-BDFE-1D618FEB3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7D95-F57E-4F19-885F-CB95D7C5B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509E-C49E-4496-9664-8B509177A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F015-DD3C-4BBF-B5F2-364572F6C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C73D-DA49-452E-9146-168EEC2D4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9647-4EA7-44BA-95B0-0234AFCFA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E672-07DA-41A4-A3F7-99B221FD9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12DF-F1F2-404D-8136-539E6255B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5B7D-221F-4CA9-82C0-F9CBC81FC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7B29-FFF3-4A57-A5DA-EF5954090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AAFC-5F0C-4B3D-BE53-850968C99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8431-CD34-47CB-BB10-69D0DFC27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905120" y="1676160"/>
            <a:ext cx="5333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"N"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637000" y="1295280"/>
            <a:ext cx="38700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766960" y="1295280"/>
            <a:ext cx="36100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TFL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3479760" y="1295280"/>
            <a:ext cx="2184480" cy="356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IONWIDE  INSU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975040" y="1295280"/>
            <a:ext cx="3193920" cy="362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BAL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1596960" y="1295280"/>
            <a:ext cx="59500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TSCA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2654280" y="1295280"/>
            <a:ext cx="3835440" cy="354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WEST  AIR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670120" y="1295280"/>
            <a:ext cx="38037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084400" y="1295280"/>
            <a:ext cx="49752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IVE   EYEW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1927080" y="1295280"/>
            <a:ext cx="528984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479760" y="1295280"/>
            <a:ext cx="218448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IONAL  RENT–A–C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682720" y="1295280"/>
            <a:ext cx="37785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NTENDO  6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637000" y="1295280"/>
            <a:ext cx="38700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SPRES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766960" y="1295280"/>
            <a:ext cx="36100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975040" y="1295280"/>
            <a:ext cx="3193920" cy="36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596960" y="1295280"/>
            <a:ext cx="59500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654280" y="1295280"/>
            <a:ext cx="3835440" cy="354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670120" y="1295280"/>
            <a:ext cx="38037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084400" y="1295280"/>
            <a:ext cx="49752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927080" y="1295280"/>
            <a:ext cx="528984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682720" y="1295280"/>
            <a:ext cx="3778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5-06T17:43:15Z</dcterms:modified>
  <cp:revision>288</cp:revision>
  <dc:subject/>
  <dc:title>Slide 1</dc:title>
</cp:coreProperties>
</file>