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png" ContentType="image/png"/>
  <Override PartName="/ppt/media/image9.gif" ContentType="image/gif"/>
  <Override PartName="/ppt/media/image16.jpeg" ContentType="image/jpeg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6.gif" ContentType="image/gif"/>
  <Override PartName="/ppt/media/image11.gif" ContentType="image/gif"/>
  <Override PartName="/ppt/media/image15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14.jpeg" ContentType="image/jpe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9A3D-EA4C-4646-9933-8DAAD4B6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86DEE-F4EB-483C-9CA3-3287A0AD8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77272-8660-47F8-BA5B-1DB96B80A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37E40-6770-4CD7-AED0-226405142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B6BF-FA84-47D5-8A60-4BA0BE6B4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6DB4-CFD0-41DC-8CC6-F0ECBC682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7A5B-D8CA-40AC-B510-A7934678A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4C70-455D-4E48-87E1-5F8A73601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DE95-3A4F-4655-B1E7-34DE81760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1FD4-247D-4703-8045-D55B24EF6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79B6-0A50-4E69-AFA4-887416680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18DE-96CE-4409-9BEB-966A61145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AFE3-9A7F-4674-A262-86E748821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1067-5E34-45CC-967B-669C82986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9F50-DBC0-44C6-BAAF-3B9284F48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C615-3C10-4692-BC7A-98BDF59F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10CA-9E9A-4259-889D-19B34B9E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F710-ACF7-4377-BCC3-2A6270E41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1C8F-8DB7-41F8-AACA-CD6526F05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31D0-2084-440F-A494-14D89487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C1BE-E52A-428D-BE86-F87C7A339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C072-F963-4246-B2E0-5CD322ACB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63CF-C811-42AD-BB88-A39F95F6C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952560" y="1333440"/>
            <a:ext cx="7238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 THESE LOGOS ACTUALLY HAVE APOSTROPH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757080" y="1409760"/>
            <a:ext cx="76298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009880" y="1371600"/>
            <a:ext cx="51242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66720" y="1371600"/>
            <a:ext cx="781056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502920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2532240" y="1371600"/>
            <a:ext cx="407952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1457280" y="1371600"/>
            <a:ext cx="62294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619760" cy="33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635040" y="1366920"/>
            <a:ext cx="787392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2992320" y="1371600"/>
            <a:ext cx="31593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892080" y="1371600"/>
            <a:ext cx="7359840" cy="36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857160" y="1295280"/>
            <a:ext cx="742968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522360" y="1371600"/>
            <a:ext cx="8099280" cy="212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57080" y="1409760"/>
            <a:ext cx="76298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022480" y="1295280"/>
            <a:ext cx="509904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32240" y="1371600"/>
            <a:ext cx="407952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457280" y="1371600"/>
            <a:ext cx="62294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803160" y="1447920"/>
            <a:ext cx="7537680" cy="32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68480" y="1371600"/>
            <a:ext cx="7007040" cy="32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92320" y="1371600"/>
            <a:ext cx="31593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1625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22360" y="1371600"/>
            <a:ext cx="8099280" cy="2127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8-10T10:25:45Z</dcterms:modified>
  <cp:revision>289</cp:revision>
  <dc:subject/>
  <dc:title>Slide 1</dc:title>
</cp:coreProperties>
</file>