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gif" ContentType="image/gif"/>
  <Override PartName="/ppt/media/image16.jpeg" ContentType="image/jpeg"/>
  <Override PartName="/ppt/media/image1.jpeg" ContentType="image/jpeg"/>
  <Override PartName="/ppt/media/image10.png" ContentType="image/png"/>
  <Override PartName="/ppt/media/image2.gif" ContentType="image/gif"/>
  <Override PartName="/ppt/media/image7.jpeg" ContentType="image/jpeg"/>
  <Override PartName="/ppt/media/image6.gif" ContentType="image/gif"/>
  <Override PartName="/ppt/media/image11.gif" ContentType="image/gif"/>
  <Override PartName="/ppt/media/image15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14.jpeg" ContentType="image/jpe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A0A5-0883-4EEA-9A57-1137BF3F7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D3E5-9FD4-4821-9101-F6EB4C1A4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4C53-C939-4FB6-9F9E-34D9DF029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2489-B28F-4EEF-ADD6-52F188417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5819-AC8C-4474-8BDD-A7CB5565B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8CE5-BF31-4F72-B0F3-D173CADD4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F537-0D32-44A0-86E9-041FA9F9E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27FD-E976-4ACC-93C7-5F8EB6F00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CE67-8EC4-4CCF-8F9B-0CE21D657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2CC5-A494-49B8-947D-7A8DBCBBC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E893-9AE1-4650-912D-EE1C3FAAC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3F5D-FBC7-46AD-997C-8253F4CA0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5DD5-B07D-415C-B89B-53D08BC44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CE41-B6EC-4346-8E07-AC57210AD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0B2C-B78E-48E9-AFDC-C65FCD856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07FD-938D-4ABB-8B0E-1DFD13D7E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DE74-6519-49CC-853A-418A541E5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7276-3EE3-4687-AC76-97CF41163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4947-F8A9-4706-99B4-04BA80320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0E92-A5ED-43F8-AA55-F2797A52C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2D08-51C2-4752-B12C-8E61C0F99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59F3-3C12-4ED8-A022-7368C5713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6A74-72BB-4CBE-87A5-66DACE40A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52560" y="133344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 THESE LOGOS ACTUALLY HAVE APOSTROPH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757080" y="1409760"/>
            <a:ext cx="76298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009880" y="1371600"/>
            <a:ext cx="51242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66720" y="1371600"/>
            <a:ext cx="781056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532240" y="1371600"/>
            <a:ext cx="40795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457280" y="1371600"/>
            <a:ext cx="62294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635040" y="1366920"/>
            <a:ext cx="7873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992320" y="1371600"/>
            <a:ext cx="31593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892080" y="1371600"/>
            <a:ext cx="73598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857160" y="1295280"/>
            <a:ext cx="74296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22360" y="1371600"/>
            <a:ext cx="8099280" cy="212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757080" y="1409760"/>
            <a:ext cx="762984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022480" y="1295280"/>
            <a:ext cx="50990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32240" y="1371600"/>
            <a:ext cx="407952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457280" y="1371600"/>
            <a:ext cx="62294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803160" y="1447920"/>
            <a:ext cx="7537680" cy="32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68480" y="1371600"/>
            <a:ext cx="70070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992320" y="1371600"/>
            <a:ext cx="31593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22360" y="1371600"/>
            <a:ext cx="8099280" cy="212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8-10T10:25:45Z</dcterms:modified>
  <cp:revision>289</cp:revision>
  <dc:subject/>
  <dc:title>Slide 1</dc:title>
</cp:coreProperties>
</file>