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8C84-4995-4E06-8DEE-84C432775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A922-FEEB-46C1-AD86-F0A88F79D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9FA8-018B-4576-93C0-CCED63811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2A41-42B4-45D7-91E9-714ECC4F0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D1A8-7459-4C07-AA1B-A92A8F641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97F0-28BE-48E9-A4F8-34245215C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4DC7-EB2C-44F3-A8A2-337E93E20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2BAA-F642-4AAB-A639-7636ACDBB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6959-7520-47AE-99DE-723CD615A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A67E-A3C4-4C07-A642-B610EFAEF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9E5D-BF24-46C5-81A0-252488E5E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42BC-47FB-4435-803D-93F07E4FB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6674-D7AB-472A-AC3E-243328588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D702-2B09-4DEA-8F03-4AC8E9605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DE74-E69A-491C-A66A-82B5409B0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8751-E74B-4322-B467-272CB8FA0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EC07-F113-46C2-B6A7-EDC7A423E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654C-4EC3-48BD-AB43-35D5E8F75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CBE1-FF7B-47F3-8E28-281C75F62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A3FA-D93C-4F97-BC95-0D4F021C7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4E78-6500-4809-8891-8BDAA7A34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CF31-82FA-4995-A3E7-FC44F9BBE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A59E-C8F3-4796-8944-7DD875CC0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38360" y="1371600"/>
            <a:ext cx="5867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NBA LOGO BY ONLY THE BASKETB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684520" y="1295280"/>
            <a:ext cx="3774960" cy="37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X  S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316240" y="1295280"/>
            <a:ext cx="45115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MI 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809800" y="1295280"/>
            <a:ext cx="3524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  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143080" y="1295280"/>
            <a:ext cx="48578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TAH  JAZ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070000" y="1295280"/>
            <a:ext cx="5004000" cy="35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  CLI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701800" y="1282680"/>
            <a:ext cx="3740400" cy="37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ONTO  RAP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5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ADELPHIA  76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749680" y="1295280"/>
            <a:ext cx="36446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16240" y="1295280"/>
            <a:ext cx="4511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  WIZ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827440" y="1295280"/>
            <a:ext cx="3489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35680"/>
            <a:ext cx="82296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OKLYN  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684520" y="1295280"/>
            <a:ext cx="3774960" cy="374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TROIT  PIS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800440" y="1295280"/>
            <a:ext cx="354312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809800" y="1295280"/>
            <a:ext cx="3524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143080" y="1295280"/>
            <a:ext cx="48578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070000" y="1295280"/>
            <a:ext cx="500400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01800" y="1282680"/>
            <a:ext cx="374040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749680" y="1295280"/>
            <a:ext cx="36446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827440" y="1295280"/>
            <a:ext cx="3489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6-20T18:42:38Z</dcterms:modified>
  <cp:revision>289</cp:revision>
  <dc:subject/>
  <dc:title>Slide 1</dc:title>
</cp:coreProperties>
</file>