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CFA7-9FB5-48E0-8A91-75B47790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CF72-BC90-4A8F-8941-927485ACB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B2DE-58D6-486B-8F70-2A280979A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64D9-598F-4046-BE22-42E9F0CEF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F952-7687-4D0D-9E46-D0EB30FFD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483D-6E9E-4799-B503-35862625B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8F5F-F76F-43E7-B11B-E63370C0E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1619-27D5-4325-9007-E86A021A0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211A-B49B-48B8-8200-EB125A50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0CD0-67E6-4F1A-BCB1-6DC6D9D06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9EFF-F59C-4FB5-B1F5-B1573F3AA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6F57-2AE6-4EF4-8539-D555F5642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D09B-26D2-43FC-B029-4F3CD883F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5851-89E1-4074-9ED9-DCC229247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1C26-DC3D-4DD4-9186-3F86971F4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8AB7-C9C2-4CB9-BBBF-8B5642849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7ED0-2D2D-44CC-B82D-EFFF754BF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0511-9EEB-4FEF-A05D-B6D4718C2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A6B2-3D64-4B8E-9FDC-E4C8253E6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CF0A-A1F8-4D2D-A191-58452B97D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6F72-3FBB-4815-9B6F-3E879594A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AC72-702E-4ADB-85BF-2483FDF9A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12EB-2C08-41A3-AE56-E613AB65B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38360" y="1371600"/>
            <a:ext cx="5867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NBA LOGO BY ONLY THE BASKETB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684520" y="1295280"/>
            <a:ext cx="3774960" cy="37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  S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316240" y="1295280"/>
            <a:ext cx="4511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 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ANDO  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143080" y="1295280"/>
            <a:ext cx="48578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TAH  JAZ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070000" y="1295280"/>
            <a:ext cx="5004000" cy="35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CLI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701800" y="1282680"/>
            <a:ext cx="374040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ONTO  RA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5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  76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749680" y="1295280"/>
            <a:ext cx="3644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16240" y="1295280"/>
            <a:ext cx="4511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WIZ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2827440" y="1295280"/>
            <a:ext cx="3489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35680"/>
            <a:ext cx="822960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LYN  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684520" y="1295280"/>
            <a:ext cx="3774960" cy="374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  PIS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800440" y="1295280"/>
            <a:ext cx="354312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43080" y="1295280"/>
            <a:ext cx="48578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070000" y="1295280"/>
            <a:ext cx="500400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01800" y="1282680"/>
            <a:ext cx="374040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49680" y="1295280"/>
            <a:ext cx="3644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27440" y="1295280"/>
            <a:ext cx="3489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6-20T18:42:38Z</dcterms:modified>
  <cp:revision>289</cp:revision>
  <dc:subject/>
  <dc:title>Slide 1</dc:title>
</cp:coreProperties>
</file>