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8100-84BB-4EFA-A9E3-98E50209F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04BC-D15B-44C5-9314-AFF7BB455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DE07-A327-44C6-8D0E-51BBC9542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04E3-2D15-4729-8E66-DBB29809A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F20F-3931-4BF1-9952-6A1067D2B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C16D-8193-4117-8236-A4F3693CA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F3D5-ED48-485A-8644-38C136A73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C6EF-7ECC-4DFF-9E36-5D8F385DB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3830-C39F-4931-AD45-6C18552A6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8F29-7158-4B40-A0DA-DFF3D4C10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8F61-D94A-4081-B4D6-3F6CF0EBC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2DD0-9003-4153-B7CB-07F08EAB1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0789-746A-4802-8CAD-D5804217C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D4C7-3757-4BE8-9733-1B4824D5E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F471-1497-4892-A7BE-8B91BDA02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521D-23AB-4471-B0A6-3CEDB78BC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F1DE-10C0-401E-A165-5FD9854A5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B765-AFC7-42E5-BFB3-8ED047E5C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E7F6-B6CC-4D61-B4A3-A9DE723D4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2629-2B2F-4D14-B19D-789BBF661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9E52-1ED4-45A1-BA6C-010EBA96F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745C-B60C-41FF-B9DF-C5C5A19F0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2BF9-EE88-4E6F-8701-6FFFA9BF4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8076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T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101600" y="1295280"/>
            <a:ext cx="69408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4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 – MOB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014640" y="1295280"/>
            <a:ext cx="3114720" cy="363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C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865600" y="1295280"/>
            <a:ext cx="341280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MBL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Y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060640" y="1295280"/>
            <a:ext cx="50227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IS  CHA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771640" y="1295280"/>
            <a:ext cx="360072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S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766960" y="1295280"/>
            <a:ext cx="3610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SON  F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797200" y="1295280"/>
            <a:ext cx="3549600" cy="35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014640" y="1295280"/>
            <a:ext cx="3114720" cy="36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X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3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XAS  LONGHOR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101600" y="1295280"/>
            <a:ext cx="69408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4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865600" y="1295280"/>
            <a:ext cx="34128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060640" y="1295280"/>
            <a:ext cx="50227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771640" y="1295280"/>
            <a:ext cx="3600720" cy="35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66960" y="1295280"/>
            <a:ext cx="3610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797200" y="1295280"/>
            <a:ext cx="354960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3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6-27T17:38:56Z</dcterms:modified>
  <cp:revision>290</cp:revision>
  <dc:subject/>
  <dc:title>Slide 1</dc:title>
</cp:coreProperties>
</file>