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571BE-86A2-42E4-9175-D9713A646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684B-06FA-4A3A-AA3B-211F9B2D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20B6-0CCE-4715-9EA2-6EE42A78D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852F-0705-4CA6-A9CB-B547B5408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7E44-4752-4E60-8A51-703DCC433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27AD-EF4D-4791-92D4-3B0F2F8D5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B43C-E02D-4C29-8EDA-E8BAED516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B445-5917-402A-931C-F6F2556E8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EAC7-2C24-4AD3-8E7C-E206C16CD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6A95-5A45-44D0-8893-60FF65C00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AC79-BAE5-423B-88C3-64F8612A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AF426-DCBF-41DF-978C-3B14EC0AB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1454-52FB-4258-8847-9E1E936C3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ED32-8A2C-4C70-BA48-8B1D5CBD1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8D4F-EC0C-40F8-8062-663F64655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952B-E242-41BF-9757-9A4A6E438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F80E7-BE12-4A95-B25F-5FFB5491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9557-E6F2-46D9-8090-F4155786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A3DB-80BE-402C-90C4-C9AB3572E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1B82-0279-45D5-85A2-3DFC2B12F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9E93-0797-4238-85C7-77A635C13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FE515-5021-40AE-90E8-A0EC5689A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FE2B-AD31-4D93-8D0E-EF3D6B5C1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076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T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101600" y="1295280"/>
            <a:ext cx="69408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3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 – MO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3114720" cy="363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C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865600" y="1295280"/>
            <a:ext cx="3412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MBL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Y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IS  CHA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S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SON  FO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14640" y="1295280"/>
            <a:ext cx="3114720" cy="36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LONGHOR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101600" y="1295280"/>
            <a:ext cx="69408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865600" y="1295280"/>
            <a:ext cx="3412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71640" y="1295280"/>
            <a:ext cx="36007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766960" y="1295280"/>
            <a:ext cx="3610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97200" y="1295280"/>
            <a:ext cx="354960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3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6-27T17:38:56Z</dcterms:modified>
  <cp:revision>290</cp:revision>
  <dc:subject/>
  <dc:title>Slide 1</dc:title>
</cp:coreProperties>
</file>