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21DC4-D286-4DE9-9410-6D86877E2F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2DCB2-782F-447C-AED7-DDA00FDC8F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E2E8C-A758-48F6-91CE-29961D81DA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BDD7E-1261-4B00-94A5-FFA68F448F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54608-4979-444A-8766-C41A0155E2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2F065-267B-4458-8CCD-8E50C3DBDA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FADAA-ADD3-4A08-9811-CEA0ECF08A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37CCA-07AE-4638-959E-C9706C4969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949F3-33EE-4421-9781-BE93A2BBE4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E2DE7-9CB8-4955-82CC-AEB4B4AFCF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67D6B-091D-47D2-8BAA-2AF6D2D539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13888-2008-4805-9775-504D0994E1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0DFAF-E8F5-4183-ABA3-45837E728C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239BF-D40C-4C88-AFAE-3A168C1B3D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1EB96-AE14-4CD6-8F46-DC40BEA209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D3117-4E3D-43B8-A966-D372830287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9A1FD-3569-47C7-B042-1F48CB1988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74544-E5EC-4B38-9C8D-B5F6B001BC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F6BA8-80A2-4181-9414-D922E9F262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8C368-C50B-4A7D-9140-9173992BDE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2D0E3-A5BB-48AE-B003-CF4B132DE4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7D863-9455-4A62-A5F8-19AA23FC06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CBBA4-802F-4687-9286-A8F637C119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562040" y="1676160"/>
            <a:ext cx="60199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CAR LOG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Renault.jpg"/>
          <p:cNvPicPr/>
          <p:nvPr/>
        </p:nvPicPr>
        <p:blipFill>
          <a:blip r:embed="rId1"/>
          <a:stretch/>
        </p:blipFill>
        <p:spPr>
          <a:xfrm>
            <a:off x="3147840" y="1371600"/>
            <a:ext cx="284832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Lincoln.jpg"/>
          <p:cNvPicPr/>
          <p:nvPr/>
        </p:nvPicPr>
        <p:blipFill>
          <a:blip r:embed="rId1"/>
          <a:stretch/>
        </p:blipFill>
        <p:spPr>
          <a:xfrm>
            <a:off x="3282840" y="1371600"/>
            <a:ext cx="257832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49528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YO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Toyota.jpg"/>
          <p:cNvPicPr/>
          <p:nvPr/>
        </p:nvPicPr>
        <p:blipFill>
          <a:blip r:embed="rId1"/>
          <a:stretch/>
        </p:blipFill>
        <p:spPr>
          <a:xfrm>
            <a:off x="2419200" y="1371600"/>
            <a:ext cx="4303800" cy="322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VROL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chevrolet.png"/>
          <p:cNvPicPr/>
          <p:nvPr/>
        </p:nvPicPr>
        <p:blipFill>
          <a:blip r:embed="rId1"/>
          <a:stretch/>
        </p:blipFill>
        <p:spPr>
          <a:xfrm>
            <a:off x="1863720" y="1447920"/>
            <a:ext cx="5415120" cy="266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4952880"/>
            <a:ext cx="85341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BAR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subaru.jpg"/>
          <p:cNvPicPr/>
          <p:nvPr/>
        </p:nvPicPr>
        <p:blipFill>
          <a:blip r:embed="rId1"/>
          <a:stretch/>
        </p:blipFill>
        <p:spPr>
          <a:xfrm>
            <a:off x="1676520" y="1371600"/>
            <a:ext cx="5736960" cy="312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RCE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4" descr="61VaoHj7IbL._SL1500_.jpg"/>
          <p:cNvPicPr/>
          <p:nvPr/>
        </p:nvPicPr>
        <p:blipFill>
          <a:blip r:embed="rId1"/>
          <a:stretch/>
        </p:blipFill>
        <p:spPr>
          <a:xfrm>
            <a:off x="2857680" y="1371600"/>
            <a:ext cx="3429000" cy="3308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756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FINI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infinity.png"/>
          <p:cNvPicPr/>
          <p:nvPr/>
        </p:nvPicPr>
        <p:blipFill>
          <a:blip r:embed="rId1"/>
          <a:stretch/>
        </p:blipFill>
        <p:spPr>
          <a:xfrm>
            <a:off x="2416320" y="1438200"/>
            <a:ext cx="4311360" cy="339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864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ERRAR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ferrari.jpg"/>
          <p:cNvPicPr/>
          <p:nvPr/>
        </p:nvPicPr>
        <p:blipFill>
          <a:blip r:embed="rId1"/>
          <a:stretch/>
        </p:blipFill>
        <p:spPr>
          <a:xfrm>
            <a:off x="3219480" y="1371600"/>
            <a:ext cx="2705040" cy="333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I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buick.png"/>
          <p:cNvPicPr/>
          <p:nvPr/>
        </p:nvPicPr>
        <p:blipFill>
          <a:blip r:embed="rId1"/>
          <a:stretch/>
        </p:blipFill>
        <p:spPr>
          <a:xfrm>
            <a:off x="2819520" y="1371600"/>
            <a:ext cx="350496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3" descr="Toyota.jpg"/>
          <p:cNvPicPr/>
          <p:nvPr/>
        </p:nvPicPr>
        <p:blipFill>
          <a:blip r:embed="rId1"/>
          <a:stretch/>
        </p:blipFill>
        <p:spPr>
          <a:xfrm>
            <a:off x="2438280" y="1447920"/>
            <a:ext cx="4303800" cy="322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43080" y="4952880"/>
            <a:ext cx="8458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YUNDA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4" descr="hyundai.png"/>
          <p:cNvPicPr/>
          <p:nvPr/>
        </p:nvPicPr>
        <p:blipFill>
          <a:blip r:embed="rId1"/>
          <a:stretch/>
        </p:blipFill>
        <p:spPr>
          <a:xfrm>
            <a:off x="2476440" y="1447920"/>
            <a:ext cx="4191120" cy="313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NA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Renault.jpg"/>
          <p:cNvPicPr/>
          <p:nvPr/>
        </p:nvPicPr>
        <p:blipFill>
          <a:blip r:embed="rId1"/>
          <a:stretch/>
        </p:blipFill>
        <p:spPr>
          <a:xfrm>
            <a:off x="3147840" y="1371600"/>
            <a:ext cx="284832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072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072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NCOL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Lincoln.jpg"/>
          <p:cNvPicPr/>
          <p:nvPr/>
        </p:nvPicPr>
        <p:blipFill>
          <a:blip r:embed="rId1"/>
          <a:stretch/>
        </p:blipFill>
        <p:spPr>
          <a:xfrm>
            <a:off x="3282840" y="1371600"/>
            <a:ext cx="257832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chevrolet.png"/>
          <p:cNvPicPr/>
          <p:nvPr/>
        </p:nvPicPr>
        <p:blipFill>
          <a:blip r:embed="rId1"/>
          <a:stretch/>
        </p:blipFill>
        <p:spPr>
          <a:xfrm>
            <a:off x="1863720" y="1447920"/>
            <a:ext cx="541512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subaru.jpg"/>
          <p:cNvPicPr/>
          <p:nvPr/>
        </p:nvPicPr>
        <p:blipFill>
          <a:blip r:embed="rId1"/>
          <a:stretch/>
        </p:blipFill>
        <p:spPr>
          <a:xfrm>
            <a:off x="1676520" y="1371600"/>
            <a:ext cx="5736960" cy="31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61VaoHj7IbL._SL1500_.jpg"/>
          <p:cNvPicPr/>
          <p:nvPr/>
        </p:nvPicPr>
        <p:blipFill>
          <a:blip r:embed="rId1"/>
          <a:stretch/>
        </p:blipFill>
        <p:spPr>
          <a:xfrm>
            <a:off x="2857680" y="1447920"/>
            <a:ext cx="3429000" cy="330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3" descr="infinity.png"/>
          <p:cNvPicPr/>
          <p:nvPr/>
        </p:nvPicPr>
        <p:blipFill>
          <a:blip r:embed="rId1"/>
          <a:stretch/>
        </p:blipFill>
        <p:spPr>
          <a:xfrm>
            <a:off x="2416320" y="1442880"/>
            <a:ext cx="4311360" cy="339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ferrari.jpg"/>
          <p:cNvPicPr/>
          <p:nvPr/>
        </p:nvPicPr>
        <p:blipFill>
          <a:blip r:embed="rId1"/>
          <a:stretch/>
        </p:blipFill>
        <p:spPr>
          <a:xfrm>
            <a:off x="3086280" y="1371600"/>
            <a:ext cx="2971800" cy="366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buick.png"/>
          <p:cNvPicPr/>
          <p:nvPr/>
        </p:nvPicPr>
        <p:blipFill>
          <a:blip r:embed="rId1"/>
          <a:stretch/>
        </p:blipFill>
        <p:spPr>
          <a:xfrm>
            <a:off x="2819520" y="1415880"/>
            <a:ext cx="350496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hyundai.png"/>
          <p:cNvPicPr/>
          <p:nvPr/>
        </p:nvPicPr>
        <p:blipFill>
          <a:blip r:embed="rId1"/>
          <a:stretch/>
        </p:blipFill>
        <p:spPr>
          <a:xfrm>
            <a:off x="2476440" y="1447920"/>
            <a:ext cx="4191120" cy="3130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0-08-30T23:23:14Z</dcterms:modified>
  <cp:revision>286</cp:revision>
  <dc:subject/>
  <dc:title>Slide 1</dc:title>
</cp:coreProperties>
</file>