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5865-662B-4B47-8A09-54C3F8EF5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6A18A-FC23-4D5B-BCFD-BB60D35BF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0469-C56A-459F-A906-008BDA154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A629D-1CD8-416D-867E-B1C39261E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6A6CF-15FE-4220-8AED-9A598A86E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CA5A-365B-44CC-8208-0EC663466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730B-6235-4AFE-87C3-047DFF617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44A1-AD74-4490-A5C9-027778C8F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5FAB-F803-4DF3-871E-63957D247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D8BF-766E-4EA3-BA34-EE080ADF4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992D-00FF-4501-BB1A-3B1B25B7E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2A2EE-FF4B-44AC-ABD9-C675FF562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33E6-B312-4EDF-BB3C-3BBB648C3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0CDFA-9299-4397-A6E5-F62EBAAA8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580CD-42C1-434B-BD33-4A12F10F3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0BBE-37F0-4B36-B7A6-E95A05F1C9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BABF-3BE4-47AD-A811-DB2F78124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8C714-9D6E-4B71-8906-80F05B793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A462-CF65-4F36-8989-1F2E8A965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A537-A112-43FB-95DB-8A485CB95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B698-2D32-43FC-B8BE-B62692366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8C87-5BBA-4E6C-B981-577E3728B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E3A8C-C5C1-4FFD-8AEE-258BD8C4F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CIRCULAR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892080" y="1371600"/>
            <a:ext cx="735984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787480" y="1295280"/>
            <a:ext cx="35690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R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733840" y="1295280"/>
            <a:ext cx="3676320" cy="367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324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M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595600" y="1295280"/>
            <a:ext cx="3952800" cy="366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127240" y="1295280"/>
            <a:ext cx="48895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KIPE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602080" y="1295280"/>
            <a:ext cx="39398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T&amp;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728800" y="1295280"/>
            <a:ext cx="36864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UCC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81840" cy="359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STER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568520" y="1295280"/>
            <a:ext cx="6006960" cy="35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733840" y="1295280"/>
            <a:ext cx="367632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EDY  CENT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859120" y="1295280"/>
            <a:ext cx="3425760" cy="364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892080" y="1371600"/>
            <a:ext cx="735984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CEDES–BEN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787480" y="1295280"/>
            <a:ext cx="35690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95600" y="1295280"/>
            <a:ext cx="3952800" cy="366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127240" y="1295280"/>
            <a:ext cx="48895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602080" y="1295280"/>
            <a:ext cx="39398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728800" y="1295280"/>
            <a:ext cx="3686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5181840" cy="35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568520" y="1295280"/>
            <a:ext cx="6006960" cy="35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859120" y="1295280"/>
            <a:ext cx="3425760" cy="3640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8-22T13:33:05Z</dcterms:modified>
  <cp:revision>288</cp:revision>
  <dc:subject/>
  <dc:title>Slide 1</dc:title>
</cp:coreProperties>
</file>