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7747-BC17-4243-8377-615EE22B5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FE00-A955-4E1C-92AC-B3BDE2286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24FA-F73B-4827-965F-86633D5CD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BE44-FE6D-4769-A594-83E782781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1B76-41DE-4EA8-878E-9F7D51C14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CC83-D63D-4A87-A575-AE92B90D7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DAA6-C3F1-4D33-A909-E88B48ADE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47E3-7C48-48C4-8F79-642ABB2F3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16FD-88E3-46F8-88D1-BE8DD4EE5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CFA5-C941-4649-9B78-12D12E7D1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349F-D8CE-45B1-B0A6-747DBF3A8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315F-D6E2-4685-B380-851011B10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BC17-A760-4147-BD8B-AE917ADA4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2CFC-67F5-49E0-93AB-EFFA11401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11FA-C508-4CE1-BC4A-0AEC3FCAB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FABF-BA84-4208-A3AA-52B93856A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B7F2-6CEE-49E2-BAF0-8E2C6FC89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9DF0-6A32-4E52-8028-51D966CB2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47B3-076B-40C0-A215-0615EFC9F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9209-EFDD-407D-9370-96247A4E9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F7E6-5832-401E-B70F-2E62C7151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606C-1E73-447A-89DC-2686E3A06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FA96-280A-46A4-A349-836C82BC8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CIRCULAR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892080" y="1371600"/>
            <a:ext cx="735984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787480" y="1295280"/>
            <a:ext cx="35690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R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733840" y="1295280"/>
            <a:ext cx="3676320" cy="367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32440"/>
            <a:ext cx="8229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M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595600" y="1295280"/>
            <a:ext cx="3952800" cy="366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127240" y="1295280"/>
            <a:ext cx="48895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KIPE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602080" y="1295280"/>
            <a:ext cx="39398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T&amp;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728800" y="1295280"/>
            <a:ext cx="36864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C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181840" cy="359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STERC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568520" y="1295280"/>
            <a:ext cx="6006960" cy="35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733840" y="1295280"/>
            <a:ext cx="3676320" cy="36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EDY  CENT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859120" y="1295280"/>
            <a:ext cx="3425760" cy="364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892080" y="1371600"/>
            <a:ext cx="735984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CEDES–BEN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787480" y="1295280"/>
            <a:ext cx="35690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95600" y="1295280"/>
            <a:ext cx="3952800" cy="366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127240" y="1295280"/>
            <a:ext cx="48895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602080" y="1295280"/>
            <a:ext cx="39398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728800" y="1295280"/>
            <a:ext cx="36864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181840" cy="35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568520" y="1295280"/>
            <a:ext cx="6006960" cy="35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859120" y="1295280"/>
            <a:ext cx="3425760" cy="3640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8-22T13:33:05Z</dcterms:modified>
  <cp:revision>288</cp:revision>
  <dc:subject/>
  <dc:title>Slide 1</dc:title>
</cp:coreProperties>
</file>