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F5D6-ABD1-4233-AD0E-674EBB28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7EC8-5D0E-4175-A5A1-D5CF116C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1AA-749D-470C-8A5F-AC792E4D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62DD-C74F-4799-866C-443C42052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8CD6-969A-4BCB-9FA8-9D4C772C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FE39-7342-48AF-A2F4-70ED075E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89D1-EF62-48D6-81FC-632EB7FE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2993-815F-40A3-AD7E-CEC8F164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02E5-3135-4E42-A26D-731BBED3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BCA5-D9EF-4127-90BC-EDE010C4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840A-AF62-44FE-AA7D-6A69ADC0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88CE-C482-4AC3-9BED-8C29A8DF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EF48-2407-4E5E-B9BF-B0BB9F4A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87C0-2171-4A45-86E0-1A2E9045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202E-4AD7-4E31-9200-85069FD4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7876-4E12-4FD5-82C9-3E715FBB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DED-A435-4002-8ED5-48F8A03AD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5EAD-F2C1-4954-B0FC-4A7B64AE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FD24-4241-4E2B-BCE2-8E3D6E7B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D5D9-C67F-471C-9446-B331C9F9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4BA-9020-462B-83BD-3FE54D5B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DF06-EF49-4F94-929F-01FF8418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D5B-4394-4043-B0A2-B40B1063C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6761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CONTAIN THESE X'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38560" y="1295280"/>
            <a:ext cx="4466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4524480" cy="34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01880" y="1295280"/>
            <a:ext cx="3540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8200" y="1295280"/>
            <a:ext cx="392760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LEE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4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G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52640" y="1295280"/>
            <a:ext cx="3438720" cy="35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  OS 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X–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ER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01880" y="1295280"/>
            <a:ext cx="3540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X–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30520" y="1295280"/>
            <a:ext cx="5682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AVIER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338560" y="1295280"/>
            <a:ext cx="4466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 J  MA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4524480" cy="34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608200" y="1295280"/>
            <a:ext cx="392760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4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52640" y="1295280"/>
            <a:ext cx="3438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30520" y="1295280"/>
            <a:ext cx="5682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23T13:37:25Z</dcterms:modified>
  <cp:revision>290</cp:revision>
  <dc:subject/>
  <dc:title>Slide 1</dc:title>
</cp:coreProperties>
</file>