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3074-4B7C-4FB8-9F85-B54C5449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8C25-B2BE-45AA-9875-CF67D2B2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9962-685C-4E47-9194-F6E5CFD8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154F-2596-4CB2-9060-60775F27C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25A-E8E8-4860-8D65-2900D1AA9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15D6-4D86-4AB2-943E-011141B6D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30CF-0C47-4BF9-B3F0-F623A522B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E28A-F2B9-495A-A7B2-BA0FA19D8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ACFB-A4E8-42E3-98A1-905DA5EFE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1F78-833C-4412-BED3-BF9B6046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0F24-F1D9-4251-B4AA-A1918F3F0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301C-B7F1-4A86-BD57-F5A040AC2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FCA4-3DF4-4DB9-B963-E115250CF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8924-4CAF-4D42-AED0-3919141C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D575-96F4-455C-A48E-B69D5720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E30-00D0-40C5-9AE9-9AE74FE32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BD1-B330-4B23-A104-587921CB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721D-072F-4536-954E-79710E432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2FDF-E9AD-4DD9-BC00-D7DCE386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C598-21C1-4A82-A8E8-CADBB5340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555-6699-4A39-80E6-6DF40EE9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E4BA-D67C-4F22-AE51-9774468E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B26-2786-46B0-9493-5D8191286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6761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CONTAIN THESE X'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38560" y="1295280"/>
            <a:ext cx="4466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4524480" cy="34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01880" y="1295280"/>
            <a:ext cx="3540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08200" y="1295280"/>
            <a:ext cx="392760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EE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GU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2640" y="1295280"/>
            <a:ext cx="3438720" cy="357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  OS 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ER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2801880" y="1295280"/>
            <a:ext cx="3540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X–F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30520" y="1295280"/>
            <a:ext cx="5682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AVIER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338560" y="1295280"/>
            <a:ext cx="4466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 J  MA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09760" y="1295280"/>
            <a:ext cx="4524480" cy="349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608200" y="1295280"/>
            <a:ext cx="392760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4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52640" y="1295280"/>
            <a:ext cx="3438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27520" y="1295280"/>
            <a:ext cx="3288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730520" y="1295280"/>
            <a:ext cx="5682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23T13:37:25Z</dcterms:modified>
  <cp:revision>290</cp:revision>
  <dc:subject/>
  <dc:title>Slide 1</dc:title>
</cp:coreProperties>
</file>