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png" ContentType="image/png"/>
  <Override PartName="/ppt/media/image1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30B39-5A80-47F7-BA20-5448F32867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F7CAF-AF8A-40B8-B2D5-D26AA2D9B5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AAD55-0531-4601-96A7-D6E4292A54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B4199-8E51-440F-B481-70A4EA0A45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00772-11B7-43C2-8E5D-351E34B3C9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49A74-01D9-468A-820B-D3DE784500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75ED8-0E69-4A0F-A2B6-C116523138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F25B3-91A5-493E-B5D3-A68D92F147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86552-E384-4358-8370-48033117E9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14C4B-FB26-4B0C-BBF4-A686845840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90D86-6E02-4FBD-A762-76EB839EF5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B6F6B-F7DC-4C2F-94A9-0DF8C48AA6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267ED-2205-44F2-9AA8-1BD3A3E508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2D85E-AFAA-4CC0-B907-E55457DB8C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77749-70F0-49FC-AC97-A947A0631C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75803-8E5E-44D1-859A-E1B8753BEF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3F51D-E3F4-4439-AC89-F240B670B8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CCDA6-9BDD-40A6-933D-4DBC95BBD6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43687-BF03-4822-8DD8-CEB0A1BC57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52164-03D7-4C8B-A8B4-D2D218A1F3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3C2F7-D480-48FC-959C-EA188A9B5B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34257-3E95-4239-91BF-813D008817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7AB11-750E-4C25-B888-43FFACDA50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143000" y="1371600"/>
            <a:ext cx="68580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 U READY TO IDENTIFY SOME LOGOS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2971800" y="1295280"/>
            <a:ext cx="3200400" cy="352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" name="Picture 2" descr=""/>
          <p:cNvPicPr/>
          <p:nvPr/>
        </p:nvPicPr>
        <p:blipFill>
          <a:blip r:embed="rId1"/>
          <a:stretch/>
        </p:blipFill>
        <p:spPr>
          <a:xfrm>
            <a:off x="1754280" y="1295280"/>
            <a:ext cx="5635440" cy="3505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Rectangle 3"/>
          <p:cNvSpPr/>
          <p:nvPr/>
        </p:nvSpPr>
        <p:spPr>
          <a:xfrm>
            <a:off x="457200" y="502920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ADIO  SHA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3" descr=""/>
          <p:cNvPicPr/>
          <p:nvPr/>
        </p:nvPicPr>
        <p:blipFill>
          <a:blip r:embed="rId1"/>
          <a:stretch/>
        </p:blipFill>
        <p:spPr>
          <a:xfrm>
            <a:off x="2766960" y="1295280"/>
            <a:ext cx="3610080" cy="3600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Rectangle 3"/>
          <p:cNvSpPr/>
          <p:nvPr/>
        </p:nvSpPr>
        <p:spPr>
          <a:xfrm>
            <a:off x="457200" y="502920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UNITED  AIRLI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2" descr=""/>
          <p:cNvPicPr/>
          <p:nvPr/>
        </p:nvPicPr>
        <p:blipFill>
          <a:blip r:embed="rId1"/>
          <a:stretch/>
        </p:blipFill>
        <p:spPr>
          <a:xfrm>
            <a:off x="2063880" y="1295280"/>
            <a:ext cx="5016240" cy="358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Rectangle 3"/>
          <p:cNvSpPr/>
          <p:nvPr/>
        </p:nvSpPr>
        <p:spPr>
          <a:xfrm>
            <a:off x="304920" y="5029200"/>
            <a:ext cx="85341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EALT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4" descr=""/>
          <p:cNvPicPr/>
          <p:nvPr/>
        </p:nvPicPr>
        <p:blipFill>
          <a:blip r:embed="rId1"/>
          <a:stretch/>
        </p:blipFill>
        <p:spPr>
          <a:xfrm>
            <a:off x="2838600" y="1297080"/>
            <a:ext cx="3466800" cy="351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380880" y="685440"/>
            <a:ext cx="83822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UNIVI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" descr=""/>
          <p:cNvPicPr/>
          <p:nvPr/>
        </p:nvPicPr>
        <p:blipFill>
          <a:blip r:embed="rId1"/>
          <a:stretch/>
        </p:blipFill>
        <p:spPr>
          <a:xfrm>
            <a:off x="2876400" y="1333440"/>
            <a:ext cx="3391200" cy="3390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OUSTON  ROCKE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3" descr=""/>
          <p:cNvPicPr/>
          <p:nvPr/>
        </p:nvPicPr>
        <p:blipFill>
          <a:blip r:embed="rId1"/>
          <a:stretch/>
        </p:blipFill>
        <p:spPr>
          <a:xfrm>
            <a:off x="3079800" y="1295280"/>
            <a:ext cx="2984400" cy="3535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UNILEV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2" descr=""/>
          <p:cNvPicPr/>
          <p:nvPr/>
        </p:nvPicPr>
        <p:blipFill>
          <a:blip r:embed="rId1"/>
          <a:stretch/>
        </p:blipFill>
        <p:spPr>
          <a:xfrm>
            <a:off x="2832120" y="1295280"/>
            <a:ext cx="3479760" cy="3562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OLLS–ROY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3" descr=""/>
          <p:cNvPicPr/>
          <p:nvPr/>
        </p:nvPicPr>
        <p:blipFill>
          <a:blip r:embed="rId1"/>
          <a:stretch/>
        </p:blipFill>
        <p:spPr>
          <a:xfrm>
            <a:off x="3035160" y="1295280"/>
            <a:ext cx="3073680" cy="3505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" name="Picture 4" descr=""/>
          <p:cNvPicPr/>
          <p:nvPr/>
        </p:nvPicPr>
        <p:blipFill>
          <a:blip r:embed="rId1"/>
          <a:stretch/>
        </p:blipFill>
        <p:spPr>
          <a:xfrm>
            <a:off x="2766960" y="1295280"/>
            <a:ext cx="3610080" cy="360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380880" y="5029200"/>
            <a:ext cx="84582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UNITED  HEALTHCA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2" descr=""/>
          <p:cNvPicPr/>
          <p:nvPr/>
        </p:nvPicPr>
        <p:blipFill>
          <a:blip r:embed="rId1"/>
          <a:stretch/>
        </p:blipFill>
        <p:spPr>
          <a:xfrm>
            <a:off x="3622680" y="1371600"/>
            <a:ext cx="1898640" cy="3508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53352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Rectangle 3"/>
          <p:cNvSpPr/>
          <p:nvPr/>
        </p:nvSpPr>
        <p:spPr>
          <a:xfrm>
            <a:off x="457200" y="5029200"/>
            <a:ext cx="8229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OYS  "R"  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3" descr=""/>
          <p:cNvPicPr/>
          <p:nvPr/>
        </p:nvPicPr>
        <p:blipFill>
          <a:blip r:embed="rId1"/>
          <a:stretch/>
        </p:blipFill>
        <p:spPr>
          <a:xfrm>
            <a:off x="2971800" y="1295280"/>
            <a:ext cx="3200400" cy="3529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UNIVERSITY  OF  MIAM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6" descr=""/>
          <p:cNvPicPr/>
          <p:nvPr/>
        </p:nvPicPr>
        <p:blipFill>
          <a:blip r:embed="rId1"/>
          <a:stretch/>
        </p:blipFill>
        <p:spPr>
          <a:xfrm>
            <a:off x="1754280" y="1295280"/>
            <a:ext cx="5635440" cy="3505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2063880" y="1295280"/>
            <a:ext cx="5016240" cy="358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Picture 3" descr=""/>
          <p:cNvPicPr/>
          <p:nvPr/>
        </p:nvPicPr>
        <p:blipFill>
          <a:blip r:embed="rId1"/>
          <a:stretch/>
        </p:blipFill>
        <p:spPr>
          <a:xfrm>
            <a:off x="2838600" y="1297080"/>
            <a:ext cx="3466800" cy="351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2876400" y="1333440"/>
            <a:ext cx="3391200" cy="3390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3079800" y="1295280"/>
            <a:ext cx="2984400" cy="3535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2832120" y="1295280"/>
            <a:ext cx="3479760" cy="3562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3035160" y="1295280"/>
            <a:ext cx="3073680" cy="3505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3622680" y="1371600"/>
            <a:ext cx="1898640" cy="35082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11T14:39:58Z</dcterms:created>
  <dc:creator>Jennifer Budzinski</dc:creator>
  <dc:description/>
  <dc:language>en-US</dc:language>
  <cp:lastModifiedBy>Erich Friedman</cp:lastModifiedBy>
  <dcterms:modified xsi:type="dcterms:W3CDTF">2022-10-15T21:07:03Z</dcterms:modified>
  <cp:revision>290</cp:revision>
  <dc:subject/>
  <dc:title>Slide 1</dc:title>
</cp:coreProperties>
</file>