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859C-AB4D-4B29-904F-A139FE9C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7E79-97E5-4111-B3B1-55E4D58B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B3A6-783A-4ED2-BC1B-2499E13E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576A-42C3-4ADE-A47E-373471A6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4DD1-76C7-4139-8844-5019C944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27C8-353F-494C-B3EF-139A97F8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1B47-02D7-4B5D-9B1B-F16D8CF7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5BA4-E089-4EB8-B59E-B5EA5B5D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358-CD35-4BFF-A1B9-01AE6A875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B236-547B-413B-A9B3-0241FFA5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B527-A7E5-4A6D-969E-3229D7FA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4B4E-8AC1-4757-882F-AB99D8FC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4198-66FF-49E6-B130-E02F8FC2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BDB3-24EB-49D3-A0B5-D4DFCC50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A6A3-9527-4FA7-B170-9302EEF5E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965E-6D62-400B-9401-FC7EA71E0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78B4-5AB5-4517-B5E1-4B9597BE5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DC4-F038-4D73-B708-3C0CF60B5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BE6A-DA98-4EF4-B850-9BA2646E6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3C00-5DD5-4415-AB07-1DC441770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57DA-2E4D-427C-A373-0E57477B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8807-74DB-4A3E-9BCB-155D8AE7D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0E3B-520F-48E6-AFDF-C77E8C364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 U READY TO IDENTIFY SOM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54280" y="1295280"/>
            <a:ext cx="56354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  S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63880" y="1295280"/>
            <a:ext cx="5016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L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838600" y="1297080"/>
            <a:ext cx="346680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76400" y="133344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TON  RO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L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32120" y="1295280"/>
            <a:ext cx="347976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S–ROY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035160" y="1295280"/>
            <a:ext cx="3073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HEALTH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622680" y="1371600"/>
            <a:ext cx="1898640" cy="35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  "R"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ITY  OF  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754280" y="1295280"/>
            <a:ext cx="5635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63880" y="1295280"/>
            <a:ext cx="5016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838600" y="1297080"/>
            <a:ext cx="346680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76400" y="133344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32120" y="1295280"/>
            <a:ext cx="347976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35160" y="1295280"/>
            <a:ext cx="3073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622680" y="1371600"/>
            <a:ext cx="1898640" cy="350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10-15T21:07:03Z</dcterms:modified>
  <cp:revision>290</cp:revision>
  <dc:subject/>
  <dc:title>Slide 1</dc:title>
</cp:coreProperties>
</file>