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23F1-508F-40B6-96AA-C77813F4C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BB9A-9EDD-4ED1-B29D-98D96AAE7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E37B-4639-46FE-A134-86FFC54A0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63A2-A096-4A70-8F8D-B6AA2F034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07EF-095B-4A51-9B5C-44834BA49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49F4-666B-4963-BFB5-064EE201B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9A9E-228E-4E3D-BEE3-CD28180A7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D7F5-51CB-4925-BDD7-F311526CB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B6D1-5307-48CB-A248-F61F8765A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FF9C-DFCF-4AF1-BF39-D9BB929DE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9C30-2989-4894-81E3-59E240E7B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44F8-67F6-4F3F-8BC4-D22C68F02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13D1-B098-4A7F-81F8-AF3F61D07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DE26-2FC7-4739-899F-18AF17274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137D-6F78-4C8F-903F-CF46746D2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D904-4907-4B65-BB63-E927EDA89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6A88-EEA7-4F0C-AED2-FA746F94E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B354-4E28-4484-820A-4456FC780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C403-482D-4350-8BEF-2C3E2FFB7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8603-51AA-497C-A3A4-232D4D6B4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7C46-FEC6-4EDC-A673-48513CA29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67E3-85E6-4CF8-925A-301816400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E235-39F1-48ED-92CE-5A8015D98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828800" y="1676160"/>
            <a:ext cx="5486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"G"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542960" y="1295280"/>
            <a:ext cx="60580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838600" y="1295280"/>
            <a:ext cx="3466800" cy="354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TOR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886120" y="1295280"/>
            <a:ext cx="3371760" cy="361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NERAL  M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186000" y="1263600"/>
            <a:ext cx="2772000" cy="365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C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1996920" y="1295280"/>
            <a:ext cx="5150160" cy="359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CTER  AND  GAM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858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GABY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416320" y="1295280"/>
            <a:ext cx="4311360" cy="353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ODW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2860560" y="1295280"/>
            <a:ext cx="3422880" cy="354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O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886120" y="1295280"/>
            <a:ext cx="3371760" cy="36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  BAY  PACK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847880" y="1295280"/>
            <a:ext cx="54482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LCE  AND  GABB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1542960" y="1295280"/>
            <a:ext cx="605808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GIT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838600" y="1295280"/>
            <a:ext cx="3466800" cy="354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186000" y="1263600"/>
            <a:ext cx="2772000" cy="365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996920" y="1295280"/>
            <a:ext cx="5150160" cy="35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858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416320" y="1295280"/>
            <a:ext cx="4311360" cy="35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860560" y="1295280"/>
            <a:ext cx="3422880" cy="35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847880" y="1295280"/>
            <a:ext cx="54482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9-17T12:25:56Z</dcterms:modified>
  <cp:revision>289</cp:revision>
  <dc:subject/>
  <dc:title>Slide 1</dc:title>
</cp:coreProperties>
</file>