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png" ContentType="image/png"/>
  <Override PartName="/ppt/media/image1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46552-CCC2-4394-80C7-680A6F8184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EEE05-C5E1-434F-B9F1-76FD1D6625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66AE6-D2F4-474B-89AF-1D0B7ED38C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B4B4B-AAFC-4407-9FCF-4977273D88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F0BCA-956F-4161-8E63-ACF8D89009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A5D2B-F38A-46D2-AC3F-35FC35B038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4DC17-16B6-4B4F-A33A-25FEEA75AA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0447D-76B0-4920-BE24-D2A6EA50C8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A3CAB-08CC-4318-B216-EFC1430AC6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78130-3FB7-4162-A934-5A0A1FC3D7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A0CC4-5A3D-4418-AFBC-8F92119EA0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76739-AB50-4A57-BB90-E6F4CBF1E4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C6644-725A-44C1-B6D8-0D0FAC9AAF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D2D63-ABA4-4CC7-888F-571B3D7D63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CA8D1-FBC5-44D1-BC7D-494C4A58DA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87DB6-297A-4BDA-9E27-B16570F45C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671A4-0777-4F59-85B3-73AF453C4D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FD8DA-2F22-40C0-8F3E-10EB2C55B0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95CFE-16D3-4326-B708-2103328353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0D1E2-0E0D-4A5A-A192-B18ABFDEC4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A612B-DA20-4885-87BA-788D46829B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E9276-B120-47E5-BF54-7C8F2E5868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63346-0F76-488D-8B03-B4431D9DCB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828800" y="1676160"/>
            <a:ext cx="54864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DENTIFY THESE "G" LOGO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" name="Picture 4" descr=""/>
          <p:cNvPicPr/>
          <p:nvPr/>
        </p:nvPicPr>
        <p:blipFill>
          <a:blip r:embed="rId1"/>
          <a:stretch/>
        </p:blipFill>
        <p:spPr>
          <a:xfrm>
            <a:off x="1542960" y="1295280"/>
            <a:ext cx="6058080" cy="297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" name="Picture 2" descr=""/>
          <p:cNvPicPr/>
          <p:nvPr/>
        </p:nvPicPr>
        <p:blipFill>
          <a:blip r:embed="rId1"/>
          <a:stretch/>
        </p:blipFill>
        <p:spPr>
          <a:xfrm>
            <a:off x="2838600" y="1295280"/>
            <a:ext cx="3466800" cy="354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Rectangle 3"/>
          <p:cNvSpPr/>
          <p:nvPr/>
        </p:nvSpPr>
        <p:spPr>
          <a:xfrm>
            <a:off x="457200" y="502920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ATORA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3" descr=""/>
          <p:cNvPicPr/>
          <p:nvPr/>
        </p:nvPicPr>
        <p:blipFill>
          <a:blip r:embed="rId1"/>
          <a:stretch/>
        </p:blipFill>
        <p:spPr>
          <a:xfrm>
            <a:off x="2886120" y="1295280"/>
            <a:ext cx="3371760" cy="3614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Rectangle 3"/>
          <p:cNvSpPr/>
          <p:nvPr/>
        </p:nvSpPr>
        <p:spPr>
          <a:xfrm>
            <a:off x="457200" y="502920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ENERAL  MIL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2" descr=""/>
          <p:cNvPicPr/>
          <p:nvPr/>
        </p:nvPicPr>
        <p:blipFill>
          <a:blip r:embed="rId1"/>
          <a:stretch/>
        </p:blipFill>
        <p:spPr>
          <a:xfrm>
            <a:off x="3186000" y="1263600"/>
            <a:ext cx="2772000" cy="3651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Rectangle 3"/>
          <p:cNvSpPr/>
          <p:nvPr/>
        </p:nvSpPr>
        <p:spPr>
          <a:xfrm>
            <a:off x="304920" y="5029200"/>
            <a:ext cx="85341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UCC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3" descr=""/>
          <p:cNvPicPr/>
          <p:nvPr/>
        </p:nvPicPr>
        <p:blipFill>
          <a:blip r:embed="rId1"/>
          <a:stretch/>
        </p:blipFill>
        <p:spPr>
          <a:xfrm>
            <a:off x="1996920" y="1295280"/>
            <a:ext cx="5150160" cy="3594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380880" y="685440"/>
            <a:ext cx="83822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ROCTER  AND  GAMB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" descr=""/>
          <p:cNvPicPr/>
          <p:nvPr/>
        </p:nvPicPr>
        <p:blipFill>
          <a:blip r:embed="rId1"/>
          <a:stretch/>
        </p:blipFill>
        <p:spPr>
          <a:xfrm>
            <a:off x="1143000" y="1295280"/>
            <a:ext cx="6858000" cy="3429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IGABY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3" descr=""/>
          <p:cNvPicPr/>
          <p:nvPr/>
        </p:nvPicPr>
        <p:blipFill>
          <a:blip r:embed="rId1"/>
          <a:stretch/>
        </p:blipFill>
        <p:spPr>
          <a:xfrm>
            <a:off x="2416320" y="1295280"/>
            <a:ext cx="4311360" cy="3537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OODWI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4" descr=""/>
          <p:cNvPicPr/>
          <p:nvPr/>
        </p:nvPicPr>
        <p:blipFill>
          <a:blip r:embed="rId1"/>
          <a:stretch/>
        </p:blipFill>
        <p:spPr>
          <a:xfrm>
            <a:off x="2860560" y="1295280"/>
            <a:ext cx="3422880" cy="3543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OOG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3" descr=""/>
          <p:cNvPicPr/>
          <p:nvPr/>
        </p:nvPicPr>
        <p:blipFill>
          <a:blip r:embed="rId1"/>
          <a:stretch/>
        </p:blipFill>
        <p:spPr>
          <a:xfrm>
            <a:off x="2781360" y="1295280"/>
            <a:ext cx="3581280" cy="358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2886120" y="1295280"/>
            <a:ext cx="3371760" cy="3614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380880" y="5029200"/>
            <a:ext cx="84582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REEN  BAY  PACK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2" descr=""/>
          <p:cNvPicPr/>
          <p:nvPr/>
        </p:nvPicPr>
        <p:blipFill>
          <a:blip r:embed="rId1"/>
          <a:stretch/>
        </p:blipFill>
        <p:spPr>
          <a:xfrm>
            <a:off x="1847880" y="1295280"/>
            <a:ext cx="5448240" cy="358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53352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Rectangle 3"/>
          <p:cNvSpPr/>
          <p:nvPr/>
        </p:nvSpPr>
        <p:spPr>
          <a:xfrm>
            <a:off x="457200" y="5029200"/>
            <a:ext cx="8229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OLCE  AND  GABBAN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3" descr=""/>
          <p:cNvPicPr/>
          <p:nvPr/>
        </p:nvPicPr>
        <p:blipFill>
          <a:blip r:embed="rId1"/>
          <a:stretch/>
        </p:blipFill>
        <p:spPr>
          <a:xfrm>
            <a:off x="1542960" y="1295280"/>
            <a:ext cx="6058080" cy="2971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OGITE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2" descr=""/>
          <p:cNvPicPr/>
          <p:nvPr/>
        </p:nvPicPr>
        <p:blipFill>
          <a:blip r:embed="rId1"/>
          <a:stretch/>
        </p:blipFill>
        <p:spPr>
          <a:xfrm>
            <a:off x="2838600" y="1295280"/>
            <a:ext cx="3466800" cy="3540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3186000" y="1263600"/>
            <a:ext cx="2772000" cy="365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1996920" y="1295280"/>
            <a:ext cx="5150160" cy="3594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1143000" y="1295280"/>
            <a:ext cx="6858000" cy="342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2416320" y="1295280"/>
            <a:ext cx="4311360" cy="3537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2860560" y="1295280"/>
            <a:ext cx="3422880" cy="3543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2781360" y="1295280"/>
            <a:ext cx="3581280" cy="358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1847880" y="1295280"/>
            <a:ext cx="5448240" cy="3581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11T14:39:58Z</dcterms:created>
  <dc:creator>Jennifer Budzinski</dc:creator>
  <dc:description/>
  <dc:language>en-US</dc:language>
  <cp:lastModifiedBy>Erich Friedman</cp:lastModifiedBy>
  <dcterms:modified xsi:type="dcterms:W3CDTF">2022-09-17T12:25:56Z</dcterms:modified>
  <cp:revision>289</cp:revision>
  <dc:subject/>
  <dc:title>Slide 1</dc:title>
</cp:coreProperties>
</file>