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C721-12C6-4720-B71E-7FB3534E5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505F-BC48-4179-8D2F-40D8DDDBE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7449-12B4-48E3-A3EC-501DF864C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FBB8-5E61-4CF9-8661-435B3ECF9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A523-79C8-462D-A44E-A05C6F85A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07A9-0F08-4A15-A22C-4580F32A4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8BEA-F1D9-4CCC-B2CA-7FE744E59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7180-990A-4958-B565-A5787CA91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469C-45CE-4D4F-9244-4E77D39CB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9E95-C09C-4FB7-91C4-6C3B57C65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1098-CF96-406D-8EDC-27B3234E5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290A-55BE-461A-9F4D-E8227F30F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1EF8-B156-44DB-94BC-44A3B1E00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FDFE-B53E-4A04-B6B0-768C071CA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B47A-BD69-4563-ADDB-C071E1279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5705-BD12-46C1-B2D5-1228D67D2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0A25B-E10B-4C46-B625-DBB0D1851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3839-F8B6-434D-B732-723E2E7C9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C28C-5308-4417-93B4-343A1C997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C55B-62D9-428A-B4D8-0A1287716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0BA39-18A4-49AA-B356-E4DCDD5CE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A759-8D3C-440F-8655-481D3CEAB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DCA9-A06C-4FC9-BF21-86F58ADA5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828800" y="1676160"/>
            <a:ext cx="5486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"D"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1071720" y="1295280"/>
            <a:ext cx="7000560" cy="341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924200" y="1330200"/>
            <a:ext cx="5295600" cy="36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NKIN  DONU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332080" y="1371600"/>
            <a:ext cx="4479840" cy="24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RECT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031840" y="1371600"/>
            <a:ext cx="5080320" cy="29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NL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881440" y="1295280"/>
            <a:ext cx="3381120" cy="363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NERS  CLU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400480" y="1295280"/>
            <a:ext cx="43434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RECT  INSU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071800" y="1371600"/>
            <a:ext cx="50004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EAMWO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793960" y="1295280"/>
            <a:ext cx="3556080" cy="352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  DIS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416320" y="1371600"/>
            <a:ext cx="4311360" cy="34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332080" y="1371600"/>
            <a:ext cx="4479840" cy="24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OR  D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990800" y="1371600"/>
            <a:ext cx="5162400" cy="31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LCE  AND  GABB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071720" y="1295280"/>
            <a:ext cx="7000560" cy="341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SCOVERY  CHA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924200" y="1330200"/>
            <a:ext cx="5295600" cy="366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031840" y="1371600"/>
            <a:ext cx="5080320" cy="29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881440" y="1295280"/>
            <a:ext cx="3381120" cy="36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400480" y="1295280"/>
            <a:ext cx="43434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071800" y="1371600"/>
            <a:ext cx="50004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793960" y="1295280"/>
            <a:ext cx="3556080" cy="35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416320" y="1371600"/>
            <a:ext cx="4311360" cy="346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990800" y="1371600"/>
            <a:ext cx="5162400" cy="3129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10-31T16:43:04Z</dcterms:modified>
  <cp:revision>291</cp:revision>
  <dc:subject/>
  <dc:title>Slide 1</dc:title>
</cp:coreProperties>
</file>