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65BA-B25E-46E0-9BA1-517BEC439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0A9F-20CA-4542-BDBD-5FBF96FDB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EED9-A4AA-4915-A404-CE53EE1D2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F08E-254F-4C79-954E-CDBE3CBF3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F7DF-1ADF-4D5A-B41C-8762E7B26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D89-5093-4788-994C-642129264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F485-6BCD-4E58-9EFB-0B2A2FBC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1B01-4C19-4210-AB70-399D9EF6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04E9-4028-43BB-A960-5DBCAA9F6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FB8C-0567-4BA6-9582-7F113004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8B3C-6656-4119-8D59-C68F44AF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40F-7791-4A39-85C5-6C8776BE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0FD8-7934-4231-810E-89163A42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A2B4-244E-42C1-B842-8956D3763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EB18-E0A3-4DEC-A9E3-5C6D816E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9A6A-BDF1-44BA-A513-17D73B4B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F383-CAE2-4FBD-93E3-ACB9A241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770F-19BF-48A0-804B-A2E829C3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7E02-2E4F-4DCF-8183-FF4BBADF9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A5F6-CBF7-4BED-A212-8D9148903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5D01-D22C-405D-96BD-CBDC9A07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30F-4CF6-41DC-A620-41C15E15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90B9-89A5-47FE-8DA6-B03C3726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D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071720" y="1295280"/>
            <a:ext cx="7000560" cy="34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924200" y="1330200"/>
            <a:ext cx="529560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KIN  DO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32080" y="1371600"/>
            <a:ext cx="447984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EC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31840" y="1371600"/>
            <a:ext cx="5080320" cy="29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81440" y="1295280"/>
            <a:ext cx="33811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ERS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400480" y="12952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ECT  IN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071800" y="1371600"/>
            <a:ext cx="5000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DI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416320" y="1371600"/>
            <a:ext cx="431136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32080" y="1371600"/>
            <a:ext cx="447984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R  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90800" y="1371600"/>
            <a:ext cx="5162400" cy="31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CE  AND  GABB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71720" y="1295280"/>
            <a:ext cx="7000560" cy="34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24200" y="1330200"/>
            <a:ext cx="529560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31840" y="1371600"/>
            <a:ext cx="508032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81440" y="1295280"/>
            <a:ext cx="338112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00480" y="12952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071800" y="1371600"/>
            <a:ext cx="5000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16320" y="1371600"/>
            <a:ext cx="431136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90800" y="1371600"/>
            <a:ext cx="5162400" cy="312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10-31T16:43:04Z</dcterms:modified>
  <cp:revision>291</cp:revision>
  <dc:subject/>
  <dc:title>Slide 1</dc:title>
</cp:coreProperties>
</file>