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AF3-152A-4A9F-8F9B-FC4CD3D16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3E18-E3E8-40AB-BB04-4E5F1516E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77A5-605F-44C6-9AA5-3ED0D7B66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7F7D-BE55-461C-877B-3D38B8A2A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EE6A-D6F7-43D2-BF50-29F89DB79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457D-F6BC-4DBF-B49E-770A04A6F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8C2C-1349-4D24-A228-635C25AD0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3205-1DBE-4FF6-BED7-15D9F8D4F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AA1-D0C7-401D-BB1F-866CBEC39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3122-E62C-45C2-9E84-899047B4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BB4-3D98-4B47-97A5-39A1AD9DC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FD4B-BC13-44F3-BEB8-60F8DF69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3758-1F80-4FA3-AA0C-B5212EFC3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BACA-F706-4206-AA08-ED5EAF721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308A-20D7-4C1F-A722-6D1979DEB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7328-0360-474B-9E19-8DE1B6FD2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670A-3406-44A3-A44E-553F8C37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81E1-661D-4336-9EBB-4FBEA3947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4D8D-6F8F-4A30-9636-24B6F47B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DC88-6AB3-465D-8025-A243F1DB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9645-CAD9-4A5D-B938-69F3AEA4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0F55-FC1C-4A74-B960-7644A7B8B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C452-349D-48DE-B391-E63C71CC2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153F-172B-4CE5-A642-FC9889A10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2925720" y="1295280"/>
            <a:ext cx="32925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RV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1549440" y="1295280"/>
            <a:ext cx="6045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BLIC  ENE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AM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D  KENNED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ROCK BANDS HAVE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NE  INCH  N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509840" y="1371600"/>
            <a:ext cx="6124320" cy="286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TEFUL  D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744640" y="1295280"/>
            <a:ext cx="3654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  FIGH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4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925720" y="1295280"/>
            <a:ext cx="32925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647800" y="1295280"/>
            <a:ext cx="384840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49440" y="1295280"/>
            <a:ext cx="6045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805120" y="129528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768760" y="1295280"/>
            <a:ext cx="3606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509840" y="1371600"/>
            <a:ext cx="6124320" cy="286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1-05T12:16:01Z</dcterms:modified>
  <cp:revision>290</cp:revision>
  <dc:subject/>
  <dc:title>Slide 1</dc:title>
</cp:coreProperties>
</file>