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4779-3867-41FB-ADCE-259803DE4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ED3A-B27A-43DA-B434-F2FE11C32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7696-7DB5-4091-8787-AAEE8CA2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A5F6-A7F0-49D8-9FE7-EF59CF9A4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1A5B-0C52-44A6-B1AF-22FB39632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5201-86E0-490B-8DB3-D6A9A2AAC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D131-C083-4066-A4D8-0C46ACF8B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BFDB-D100-4869-8F83-6419CEDC0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02B5-CB92-4F47-A5EA-FD346ACB3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3ECD-BD7A-46DA-A199-B4A2E83A4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07BB-D690-44A3-83C6-04D14DA33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386E-41BA-4E02-B7F6-8CB5F756D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EA68-DB87-45A3-8202-2FBD1CA25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075C-9D09-4727-984B-0FFFC189D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4C56-3638-4DC4-97DF-DA4D4EC7C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E4D0-9754-4ED9-AD60-BD09301E9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CA42-F1A6-495F-8853-D4A4C0379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0FF0-7C5B-4452-94EB-7405566AF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6533-4C08-4B10-936B-28D41E812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8F6C-17E0-442A-B48A-D34884F7E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FD13-9D1F-4582-A0FA-AB6A895BA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509D-7E77-4AA4-9483-A3234B45B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AB3-A5EF-491F-A38C-FB184FACC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0F8D-A633-450C-A925-A91C2CEF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744640" y="1295280"/>
            <a:ext cx="3654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925720" y="1295280"/>
            <a:ext cx="329256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647800" y="1295280"/>
            <a:ext cx="384840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  H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549440" y="1295280"/>
            <a:ext cx="6045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BLIC  ENE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805120" y="129528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M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768760" y="1295280"/>
            <a:ext cx="3606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D  KENNED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ROCK BANDS HAVE THES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NE  INCH  N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509840" y="1371600"/>
            <a:ext cx="6124320" cy="28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TEFUL 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744640" y="1295280"/>
            <a:ext cx="3654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  FIGH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925720" y="1295280"/>
            <a:ext cx="329256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647800" y="1295280"/>
            <a:ext cx="3848400" cy="36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49440" y="1295280"/>
            <a:ext cx="6045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05120" y="129528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68760" y="1295280"/>
            <a:ext cx="36064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09840" y="1371600"/>
            <a:ext cx="6124320" cy="286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11-05T12:16:01Z</dcterms:modified>
  <cp:revision>290</cp:revision>
  <dc:subject/>
  <dc:title>Slide 1</dc:title>
</cp:coreProperties>
</file>