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C76D-7E4F-4358-A319-6BC0DCF6E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5A61-94D9-4378-84BF-181AC9356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F9BC-9345-47E4-AA5F-426626CF7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57CD-D498-43BC-83A2-0451C3110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61E3-A940-4924-B8C6-421E6056B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0D05-4F9F-4A47-9BFB-9DBEF98AC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0423-6D00-45B2-A88C-AF89772964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ACF4B-25C1-4E5E-B3E4-A014236CD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0978-6EE3-4558-B956-704D04DA6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0096-CBD8-4B86-85B5-E4F728E92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5FD84-F74C-4D24-8D33-D7DAE8764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535B-F7EC-4D54-8825-4EB8888E6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6F39-F49E-4A42-86E7-B119CE39A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E19F-1ADA-4BD8-AA53-61005494B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A76C-B6B9-4E61-8C6C-9E628A1A7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36AD-41D6-48FE-AA63-32B3BC3DE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D8B0-5547-41C3-B399-A9FB2226A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CBF3-5B63-4A16-9E2E-C586FFDFA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2E49-F031-439D-B9AE-156727CDB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0E0BB-39AD-4132-9A4C-5F15D7235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F3A4-90A2-40DC-9CC8-48BF2F954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2607-77E0-45A9-97DA-9B57E4EAE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F11F-68EC-4D45-8E9E-F870C76FB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676160"/>
            <a:ext cx="6172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    "B" AND "C" LOG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2705040" y="1295280"/>
            <a:ext cx="3733920" cy="369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028880" y="1371600"/>
            <a:ext cx="7086600" cy="24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MP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0213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OG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715000" cy="361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DGES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39243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MEDY  CENT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DWI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42004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U-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15140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0213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T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3327480" y="1219320"/>
            <a:ext cx="2489040" cy="370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TCO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705040" y="1295280"/>
            <a:ext cx="3733920" cy="369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T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1028880" y="1371600"/>
            <a:ext cx="7086600" cy="246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715000" cy="361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39243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42004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1514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3327480" y="1219320"/>
            <a:ext cx="2489040" cy="3701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7T11:20:22Z</dcterms:created>
  <dc:creator>Jennifer Budzinski</dc:creator>
  <dc:description/>
  <dc:language>en-US</dc:language>
  <cp:lastModifiedBy>Erich Friedman</cp:lastModifiedBy>
  <dcterms:modified xsi:type="dcterms:W3CDTF">2022-11-22T09:45:33Z</dcterms:modified>
  <cp:revision>292</cp:revision>
  <dc:subject/>
  <dc:title>Slide 1</dc:title>
</cp:coreProperties>
</file>