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6B0A-0990-4188-88D3-E61C63AFF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1076-D456-4E62-9A5D-2DC3C14A9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2C7D-179D-4D94-94B0-62590CFA3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2060-FBB6-46A8-8008-58442F1A9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F05F-28E1-4C11-810D-3343F58C1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0893-AAEF-4D2A-AF09-319F539F4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E056-A446-4BF5-9A37-8C532AB8C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513E-7FBE-4B7C-863C-462A9D228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7100-A152-4F6E-9C26-6BD98AB4B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F419-F57E-467E-9D65-2C2CA1EBA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CF66-E524-42FE-BEA6-BB1F1D5AF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454D-91DF-45A7-8776-04F94F12F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2794-0E90-40D7-8112-E6BC56665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01C9-4946-42C7-845E-0653261B9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00E1-359A-45D1-8C40-84A93B7E0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E69D-AC8E-40F0-B513-D2F188C16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1CA7-0142-4733-A2F1-3441361AE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983C-6D2E-48D5-8785-905BDE96D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0038-DB51-4BF1-9BF0-26F1453E6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F439-32EE-4E93-837C-7DAD8CE9D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BBBF-D813-4B50-B676-3661EDAC5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4D3B-856B-4F4E-9A6B-21C017848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54EB-3703-4B28-8C66-DDDBB36F1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676160"/>
            <a:ext cx="6172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    "B" AND "C" LOG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2705040" y="1295280"/>
            <a:ext cx="3733920" cy="36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028880" y="1371600"/>
            <a:ext cx="7086600" cy="24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MP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0213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OG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715000" cy="361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DGEST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39243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MEDY  CENT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DWI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42004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-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15140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0213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T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3327480" y="1219320"/>
            <a:ext cx="2489040" cy="370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TCO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705040" y="1295280"/>
            <a:ext cx="3733920" cy="369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T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1028880" y="1371600"/>
            <a:ext cx="7086600" cy="246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715000" cy="361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39243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42004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1514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3327480" y="1219320"/>
            <a:ext cx="2489040" cy="3701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7T11:20:22Z</dcterms:created>
  <dc:creator>Jennifer Budzinski</dc:creator>
  <dc:description/>
  <dc:language>en-US</dc:language>
  <cp:lastModifiedBy>Erich Friedman</cp:lastModifiedBy>
  <dcterms:modified xsi:type="dcterms:W3CDTF">2022-11-22T09:45:33Z</dcterms:modified>
  <cp:revision>292</cp:revision>
  <dc:subject/>
  <dc:title>Slide 1</dc:title>
</cp:coreProperties>
</file>