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BC64-39EA-4AB3-9423-37C4EA122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8FFF-977B-474E-9424-D9D0D4622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AEDF-21CE-4F0C-955A-EE7D96B3F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0C58-8E44-4A32-B2EF-666EF5CF8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B9DE-C894-481D-BD5C-EB28DC3E7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FD5A-50F3-4784-ABD5-5FD87B811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75F4-7ABA-4091-B0A7-1D0EA089F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9320-02C1-4B67-A3E2-72A66775A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22B6-193B-45C5-A628-9676510A4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B263-AAA5-4405-8982-AB822FF25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8700-B38D-484D-8A5D-2C7C28B5A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4381-0D9E-4B87-94FA-8B1D20F51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238C-957A-47CA-88D1-185F7AE5A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C792-4BED-4471-88FB-213823DFD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5A76-A9FA-4A9A-B0CC-85907B0B6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1A3A-CD85-48F4-9C1F-166B567E0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8B36-5F19-4B8B-8D2D-BD559918C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AABD1-89F1-44C2-95F1-0FBA2C0ED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1CB2-185C-4BE0-BF4F-74CEA5BB0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0D48-0EDB-4E75-AA2D-AE64EFC5A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C760-4C48-47FB-9534-05D420FF0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8B3A-5CC8-4DBD-97F9-462C2E4C5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DFDB-717D-455C-BC7A-54E730AB0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19320" y="1333440"/>
            <a:ext cx="6705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FEDERAL ORGANIZATIONS HAVE THESE LOGO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71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3" descr="Environmental_Protection_Agency.png"/>
          <p:cNvPicPr/>
          <p:nvPr/>
        </p:nvPicPr>
        <p:blipFill>
          <a:blip r:embed="rId1"/>
          <a:stretch/>
        </p:blipFill>
        <p:spPr>
          <a:xfrm>
            <a:off x="2976480" y="1438200"/>
            <a:ext cx="319104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US MARINE CORPS.jpg"/>
          <p:cNvPicPr/>
          <p:nvPr/>
        </p:nvPicPr>
        <p:blipFill>
          <a:blip r:embed="rId1"/>
          <a:stretch/>
        </p:blipFill>
        <p:spPr>
          <a:xfrm>
            <a:off x="2895480" y="1447920"/>
            <a:ext cx="3321000" cy="33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698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BRARY  OF  CONG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LibraryOfCongress.jpg"/>
          <p:cNvPicPr/>
          <p:nvPr/>
        </p:nvPicPr>
        <p:blipFill>
          <a:blip r:embed="rId1"/>
          <a:stretch/>
        </p:blipFill>
        <p:spPr>
          <a:xfrm>
            <a:off x="2887560" y="1447920"/>
            <a:ext cx="336888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4197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SA (NATIONAL  AERONAUTICS AND SPACE ADMINISTR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NASA.jpg"/>
          <p:cNvPicPr/>
          <p:nvPr/>
        </p:nvPicPr>
        <p:blipFill>
          <a:blip r:embed="rId1"/>
          <a:stretch/>
        </p:blipFill>
        <p:spPr>
          <a:xfrm>
            <a:off x="3048120" y="1447920"/>
            <a:ext cx="3047760" cy="281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RS (INTERNAL  REVENUE  SERVI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IRS.jpg"/>
          <p:cNvPicPr/>
          <p:nvPr/>
        </p:nvPicPr>
        <p:blipFill>
          <a:blip r:embed="rId1"/>
          <a:stretch/>
        </p:blipFill>
        <p:spPr>
          <a:xfrm>
            <a:off x="2819520" y="1371600"/>
            <a:ext cx="356220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ST  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PO.png"/>
          <p:cNvPicPr/>
          <p:nvPr/>
        </p:nvPicPr>
        <p:blipFill>
          <a:blip r:embed="rId1"/>
          <a:stretch/>
        </p:blipFill>
        <p:spPr>
          <a:xfrm>
            <a:off x="2590920" y="1442880"/>
            <a:ext cx="396216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6656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SH  AND  WILDLIFE 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FISH&amp;WILDLIFE SERVICE.jpg"/>
          <p:cNvPicPr/>
          <p:nvPr/>
        </p:nvPicPr>
        <p:blipFill>
          <a:blip r:embed="rId1"/>
          <a:stretch/>
        </p:blipFill>
        <p:spPr>
          <a:xfrm>
            <a:off x="3235320" y="1482840"/>
            <a:ext cx="2673360" cy="315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IONAL  PARK 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NATIONAL PARK SERVICE.jpg"/>
          <p:cNvPicPr/>
          <p:nvPr/>
        </p:nvPicPr>
        <p:blipFill>
          <a:blip r:embed="rId1"/>
          <a:stretch/>
        </p:blipFill>
        <p:spPr>
          <a:xfrm>
            <a:off x="3251160" y="1474920"/>
            <a:ext cx="2639880" cy="317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US MINT.png"/>
          <p:cNvPicPr/>
          <p:nvPr/>
        </p:nvPicPr>
        <p:blipFill>
          <a:blip r:embed="rId1"/>
          <a:stretch/>
        </p:blipFill>
        <p:spPr>
          <a:xfrm>
            <a:off x="2967120" y="1390680"/>
            <a:ext cx="320976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LibraryOfCongress.jpg"/>
          <p:cNvPicPr/>
          <p:nvPr/>
        </p:nvPicPr>
        <p:blipFill>
          <a:blip r:embed="rId1"/>
          <a:stretch/>
        </p:blipFill>
        <p:spPr>
          <a:xfrm>
            <a:off x="2887560" y="1447920"/>
            <a:ext cx="336888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88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GRESSIONAL  BUDGET  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CBO.jpg"/>
          <p:cNvPicPr/>
          <p:nvPr/>
        </p:nvPicPr>
        <p:blipFill>
          <a:blip r:embed="rId1"/>
          <a:stretch/>
        </p:blipFill>
        <p:spPr>
          <a:xfrm>
            <a:off x="2933640" y="1447920"/>
            <a:ext cx="3276720" cy="331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495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PA (ENVIRONMENTAL  PROTECTION  AGENC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Environmental_Protection_Agency.png"/>
          <p:cNvPicPr/>
          <p:nvPr/>
        </p:nvPicPr>
        <p:blipFill>
          <a:blip r:embed="rId1"/>
          <a:stretch/>
        </p:blipFill>
        <p:spPr>
          <a:xfrm>
            <a:off x="2976480" y="1447920"/>
            <a:ext cx="3191040" cy="30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NE  COR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US MARINE CORPS.jpg"/>
          <p:cNvPicPr/>
          <p:nvPr/>
        </p:nvPicPr>
        <p:blipFill>
          <a:blip r:embed="rId1"/>
          <a:stretch/>
        </p:blipFill>
        <p:spPr>
          <a:xfrm>
            <a:off x="2911320" y="1371600"/>
            <a:ext cx="3321360" cy="332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NASA.jpg"/>
          <p:cNvPicPr/>
          <p:nvPr/>
        </p:nvPicPr>
        <p:blipFill>
          <a:blip r:embed="rId1"/>
          <a:stretch/>
        </p:blipFill>
        <p:spPr>
          <a:xfrm>
            <a:off x="3048120" y="1447920"/>
            <a:ext cx="304776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IRS.jpg"/>
          <p:cNvPicPr/>
          <p:nvPr/>
        </p:nvPicPr>
        <p:blipFill>
          <a:blip r:embed="rId1"/>
          <a:stretch/>
        </p:blipFill>
        <p:spPr>
          <a:xfrm>
            <a:off x="2819520" y="1371600"/>
            <a:ext cx="35622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PO.png"/>
          <p:cNvPicPr/>
          <p:nvPr/>
        </p:nvPicPr>
        <p:blipFill>
          <a:blip r:embed="rId1"/>
          <a:stretch/>
        </p:blipFill>
        <p:spPr>
          <a:xfrm>
            <a:off x="2590920" y="1523880"/>
            <a:ext cx="396216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FISH&amp;WILDLIFE SERVICE.jpg"/>
          <p:cNvPicPr/>
          <p:nvPr/>
        </p:nvPicPr>
        <p:blipFill>
          <a:blip r:embed="rId1"/>
          <a:stretch/>
        </p:blipFill>
        <p:spPr>
          <a:xfrm>
            <a:off x="3235320" y="1447920"/>
            <a:ext cx="2673360" cy="31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NATIONAL PARK SERVICE.jpg"/>
          <p:cNvPicPr/>
          <p:nvPr/>
        </p:nvPicPr>
        <p:blipFill>
          <a:blip r:embed="rId1"/>
          <a:stretch/>
        </p:blipFill>
        <p:spPr>
          <a:xfrm>
            <a:off x="3251160" y="1447920"/>
            <a:ext cx="2639880" cy="31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71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US MINT.png"/>
          <p:cNvPicPr/>
          <p:nvPr/>
        </p:nvPicPr>
        <p:blipFill>
          <a:blip r:embed="rId1"/>
          <a:stretch/>
        </p:blipFill>
        <p:spPr>
          <a:xfrm>
            <a:off x="2971800" y="1447920"/>
            <a:ext cx="320832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CBO.jpg"/>
          <p:cNvPicPr/>
          <p:nvPr/>
        </p:nvPicPr>
        <p:blipFill>
          <a:blip r:embed="rId1"/>
          <a:stretch/>
        </p:blipFill>
        <p:spPr>
          <a:xfrm>
            <a:off x="2933640" y="1447920"/>
            <a:ext cx="3276720" cy="3314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23:25:52Z</dcterms:modified>
  <cp:revision>288</cp:revision>
  <dc:subject/>
  <dc:title>Slide 1</dc:title>
</cp:coreProperties>
</file>