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5829-E76F-4F21-BD33-2CF2BA365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94C0-91AC-4BFD-B7B0-148BE58B3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878B-E4B5-479F-B95B-4447477B3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11B2-7445-4DF1-B28D-6AD83BE41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8116-70DC-475B-BD38-037BE962B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D321-9D31-4A29-964E-29A8E28FE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1AA2-8A07-46C9-9CEF-8ACA98B9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B865-A768-4977-ACC6-857961992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90F2-ECE4-4039-9E65-54A447160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BE1E-A7E3-45EA-B684-78C463B60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A521-C569-4599-A317-41D49C5A8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578B-F5E3-4D77-86FA-077089739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18D5-8B33-438B-A676-5E51A126E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D29E-A9D1-4DC8-AD1A-D605EEA6E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A98D-14E1-41B6-A450-13C5FDF2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C78C-0A73-440E-BFD4-41EF2A065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D126-5F18-4E34-9968-E46A7D84C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43D2-332A-4875-8D2B-BD389DF78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8E1E-160A-4CC9-88CC-BEAC96D5E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7F9C-3C77-4F54-AEA9-ED38AD81C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A603-7C9A-423E-8353-94F00F9D4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8D7D-9AA0-41BB-A2B0-0495B55E8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7F64-F6DA-4C54-8342-3EDC8BC51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0106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LOGOS THAT CONTAIN K'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Kraft_logo_2009.svg.jpg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creen Shot 2018-05-09 at 10.25.59 AM.png"/>
          <p:cNvPicPr/>
          <p:nvPr/>
        </p:nvPicPr>
        <p:blipFill>
          <a:blip r:embed="rId1"/>
          <a:stretch/>
        </p:blipFill>
        <p:spPr>
          <a:xfrm>
            <a:off x="2552760" y="1424160"/>
            <a:ext cx="4038480" cy="32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OGG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creen Shot 2018-05-09 at 10.07.58 AM.png"/>
          <p:cNvPicPr/>
          <p:nvPr/>
        </p:nvPicPr>
        <p:blipFill>
          <a:blip r:embed="rId1"/>
          <a:stretch/>
        </p:blipFill>
        <p:spPr>
          <a:xfrm>
            <a:off x="2720880" y="1371600"/>
            <a:ext cx="3702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PY  KR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flat,800x800,075,f.jpg"/>
          <p:cNvPicPr/>
          <p:nvPr/>
        </p:nvPicPr>
        <p:blipFill>
          <a:blip r:embed="rId1"/>
          <a:stretch/>
        </p:blipFill>
        <p:spPr>
          <a:xfrm>
            <a:off x="457200" y="1371600"/>
            <a:ext cx="824400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1493964862kia.jpg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67920" y="7617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LEEN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Kleenex_Logo.jpg"/>
          <p:cNvPicPr/>
          <p:nvPr/>
        </p:nvPicPr>
        <p:blipFill>
          <a:blip r:embed="rId1"/>
          <a:stretch/>
        </p:blipFill>
        <p:spPr>
          <a:xfrm>
            <a:off x="3352680" y="1371600"/>
            <a:ext cx="2438640" cy="34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55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94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  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axresdefault.jpg"/>
          <p:cNvPicPr/>
          <p:nvPr/>
        </p:nvPicPr>
        <p:blipFill>
          <a:blip r:embed="rId1"/>
          <a:stretch/>
        </p:blipFill>
        <p:spPr>
          <a:xfrm>
            <a:off x="1913040" y="1371600"/>
            <a:ext cx="531792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OL–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creen Shot 2018-05-09 at 10.23.09 AM.png"/>
          <p:cNvPicPr/>
          <p:nvPr/>
        </p:nvPicPr>
        <p:blipFill>
          <a:blip r:embed="rId1"/>
          <a:stretch/>
        </p:blipFill>
        <p:spPr>
          <a:xfrm>
            <a:off x="2933640" y="1353960"/>
            <a:ext cx="3276720" cy="32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21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WASA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b8087f8fad3da27fb4448b5d9d519d72.jpg"/>
          <p:cNvPicPr/>
          <p:nvPr/>
        </p:nvPicPr>
        <p:blipFill>
          <a:blip r:embed="rId1"/>
          <a:stretch/>
        </p:blipFill>
        <p:spPr>
          <a:xfrm>
            <a:off x="765000" y="1403280"/>
            <a:ext cx="7612200" cy="26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creen Shot 2018-05-09 at 10.07.58 AM.png"/>
          <p:cNvPicPr/>
          <p:nvPr/>
        </p:nvPicPr>
        <p:blipFill>
          <a:blip r:embed="rId1"/>
          <a:stretch/>
        </p:blipFill>
        <p:spPr>
          <a:xfrm>
            <a:off x="2720880" y="1371600"/>
            <a:ext cx="3702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kindle-logo.jpg"/>
          <p:cNvPicPr/>
          <p:nvPr/>
        </p:nvPicPr>
        <p:blipFill>
          <a:blip r:embed="rId1"/>
          <a:stretch/>
        </p:blipFill>
        <p:spPr>
          <a:xfrm>
            <a:off x="2838600" y="1447920"/>
            <a:ext cx="346680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38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Kraft_logo_2009.svg.jpg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77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E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creen Shot 2018-05-09 at 10.25.59 AM.png"/>
          <p:cNvPicPr/>
          <p:nvPr/>
        </p:nvPicPr>
        <p:blipFill>
          <a:blip r:embed="rId1"/>
          <a:stretch/>
        </p:blipFill>
        <p:spPr>
          <a:xfrm>
            <a:off x="2552760" y="1430280"/>
            <a:ext cx="403848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flat,800x800,075,f.jpg"/>
          <p:cNvPicPr/>
          <p:nvPr/>
        </p:nvPicPr>
        <p:blipFill>
          <a:blip r:embed="rId1"/>
          <a:stretch/>
        </p:blipFill>
        <p:spPr>
          <a:xfrm>
            <a:off x="457200" y="1371600"/>
            <a:ext cx="82440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1493964862kia.jpg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Kleenex_Logo.jpg"/>
          <p:cNvPicPr/>
          <p:nvPr/>
        </p:nvPicPr>
        <p:blipFill>
          <a:blip r:embed="rId1"/>
          <a:stretch/>
        </p:blipFill>
        <p:spPr>
          <a:xfrm>
            <a:off x="3289320" y="1371600"/>
            <a:ext cx="25653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axresdefault.jpg"/>
          <p:cNvPicPr/>
          <p:nvPr/>
        </p:nvPicPr>
        <p:blipFill>
          <a:blip r:embed="rId1"/>
          <a:stretch/>
        </p:blipFill>
        <p:spPr>
          <a:xfrm>
            <a:off x="1844640" y="1371600"/>
            <a:ext cx="5452920" cy="36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Screen Shot 2018-05-09 at 10.23.09 AM.png"/>
          <p:cNvPicPr/>
          <p:nvPr/>
        </p:nvPicPr>
        <p:blipFill>
          <a:blip r:embed="rId1"/>
          <a:stretch/>
        </p:blipFill>
        <p:spPr>
          <a:xfrm>
            <a:off x="2933640" y="1371600"/>
            <a:ext cx="327672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b8087f8fad3da27fb4448b5d9d519d72.jpg"/>
          <p:cNvPicPr/>
          <p:nvPr/>
        </p:nvPicPr>
        <p:blipFill>
          <a:blip r:embed="rId1"/>
          <a:stretch/>
        </p:blipFill>
        <p:spPr>
          <a:xfrm>
            <a:off x="765000" y="1411200"/>
            <a:ext cx="76122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kindle-logo.jpg"/>
          <p:cNvPicPr/>
          <p:nvPr/>
        </p:nvPicPr>
        <p:blipFill>
          <a:blip r:embed="rId1"/>
          <a:stretch/>
        </p:blipFill>
        <p:spPr>
          <a:xfrm>
            <a:off x="2781360" y="13716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14:08:39Z</dcterms:created>
  <dc:creator>Jennifer Budzinski</dc:creator>
  <dc:description/>
  <dc:language>en-US</dc:language>
  <cp:lastModifiedBy>Erich Friedman</cp:lastModifiedBy>
  <dcterms:modified xsi:type="dcterms:W3CDTF">2020-08-30T23:28:27Z</dcterms:modified>
  <cp:revision>290</cp:revision>
  <dc:subject/>
  <dc:title>Slide 1</dc:title>
</cp:coreProperties>
</file>