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03E2-9746-4A3E-8794-5E6CBBE0A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B4FC-F629-4BE4-BA1D-F93E04D2B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B90A-31A4-4ECA-A750-BDEAC65D3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D081-DC96-41E2-9C61-6FFB1CF4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6990-E957-4F7F-B4E4-8A691E9CB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2787-4A3D-4B2E-AC68-71F0D7674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A9E88-B43C-4824-AC89-E10862C1C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9640-FF62-4473-ACD2-A0D87B23C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39D1-734C-4D6D-A78A-A4B2CD9B8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C6D3-C67B-40E4-B346-E39F98DE6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ABC8-6190-4C51-B6EE-7A6EE9A9F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D061-AECD-4C5C-86AF-623B4CBDB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E9C5-FC63-4E04-9DAE-7BF76F5E1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5FF4-EFA6-4ECF-BFD7-6B405063F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5392-8F76-46B3-89E4-BCB572641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BEBE-937C-4688-B6F7-BD518ABD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5970-47EB-4E0B-B3B4-76114A325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BB82-0792-4A59-BB60-3D9275043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59DC-596F-4825-8E3B-9E7021848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9436-F171-4F45-89E9-51A558970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D7CD-DE18-4542-A646-9DE08713B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D9A4-4AAA-4253-B6E5-3E072E9B4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BD1B-AC32-48C1-9086-25BD940B5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676160"/>
            <a:ext cx="70106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LOGOS THAT CONTAIN K'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Kraft_logo_2009.svg.jpg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29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creen Shot 2018-05-09 at 10.25.59 AM.png"/>
          <p:cNvPicPr/>
          <p:nvPr/>
        </p:nvPicPr>
        <p:blipFill>
          <a:blip r:embed="rId1"/>
          <a:stretch/>
        </p:blipFill>
        <p:spPr>
          <a:xfrm>
            <a:off x="2552760" y="1424160"/>
            <a:ext cx="4038480" cy="32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OGG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creen Shot 2018-05-09 at 10.07.58 AM.png"/>
          <p:cNvPicPr/>
          <p:nvPr/>
        </p:nvPicPr>
        <p:blipFill>
          <a:blip r:embed="rId1"/>
          <a:stretch/>
        </p:blipFill>
        <p:spPr>
          <a:xfrm>
            <a:off x="2720880" y="1371600"/>
            <a:ext cx="3702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PY  KR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flat,800x800,075,f.jpg"/>
          <p:cNvPicPr/>
          <p:nvPr/>
        </p:nvPicPr>
        <p:blipFill>
          <a:blip r:embed="rId1"/>
          <a:stretch/>
        </p:blipFill>
        <p:spPr>
          <a:xfrm>
            <a:off x="457200" y="1371600"/>
            <a:ext cx="824400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1493964862kia.jpg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67920" y="76176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LEEN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Kleenex_Logo.jpg"/>
          <p:cNvPicPr/>
          <p:nvPr/>
        </p:nvPicPr>
        <p:blipFill>
          <a:blip r:embed="rId1"/>
          <a:stretch/>
        </p:blipFill>
        <p:spPr>
          <a:xfrm>
            <a:off x="3352680" y="1371600"/>
            <a:ext cx="2438640" cy="340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55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94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  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axresdefault.jpg"/>
          <p:cNvPicPr/>
          <p:nvPr/>
        </p:nvPicPr>
        <p:blipFill>
          <a:blip r:embed="rId1"/>
          <a:stretch/>
        </p:blipFill>
        <p:spPr>
          <a:xfrm>
            <a:off x="1913040" y="1371600"/>
            <a:ext cx="531792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OL–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creen Shot 2018-05-09 at 10.23.09 AM.png"/>
          <p:cNvPicPr/>
          <p:nvPr/>
        </p:nvPicPr>
        <p:blipFill>
          <a:blip r:embed="rId1"/>
          <a:stretch/>
        </p:blipFill>
        <p:spPr>
          <a:xfrm>
            <a:off x="2933640" y="1353960"/>
            <a:ext cx="3276720" cy="32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21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WASA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b8087f8fad3da27fb4448b5d9d519d72.jpg"/>
          <p:cNvPicPr/>
          <p:nvPr/>
        </p:nvPicPr>
        <p:blipFill>
          <a:blip r:embed="rId1"/>
          <a:stretch/>
        </p:blipFill>
        <p:spPr>
          <a:xfrm>
            <a:off x="765000" y="1403280"/>
            <a:ext cx="7612200" cy="26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creen Shot 2018-05-09 at 10.07.58 AM.png"/>
          <p:cNvPicPr/>
          <p:nvPr/>
        </p:nvPicPr>
        <p:blipFill>
          <a:blip r:embed="rId1"/>
          <a:stretch/>
        </p:blipFill>
        <p:spPr>
          <a:xfrm>
            <a:off x="2720880" y="1371600"/>
            <a:ext cx="3702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kindle-logo.jpg"/>
          <p:cNvPicPr/>
          <p:nvPr/>
        </p:nvPicPr>
        <p:blipFill>
          <a:blip r:embed="rId1"/>
          <a:stretch/>
        </p:blipFill>
        <p:spPr>
          <a:xfrm>
            <a:off x="2838600" y="1447920"/>
            <a:ext cx="346680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38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Kraft_logo_2009.svg.jpg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77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E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creen Shot 2018-05-09 at 10.25.59 AM.png"/>
          <p:cNvPicPr/>
          <p:nvPr/>
        </p:nvPicPr>
        <p:blipFill>
          <a:blip r:embed="rId1"/>
          <a:stretch/>
        </p:blipFill>
        <p:spPr>
          <a:xfrm>
            <a:off x="2552760" y="1430280"/>
            <a:ext cx="403848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flat,800x800,075,f.jpg"/>
          <p:cNvPicPr/>
          <p:nvPr/>
        </p:nvPicPr>
        <p:blipFill>
          <a:blip r:embed="rId1"/>
          <a:stretch/>
        </p:blipFill>
        <p:spPr>
          <a:xfrm>
            <a:off x="457200" y="1371600"/>
            <a:ext cx="82440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1493964862kia.jpg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Kleenex_Logo.jpg"/>
          <p:cNvPicPr/>
          <p:nvPr/>
        </p:nvPicPr>
        <p:blipFill>
          <a:blip r:embed="rId1"/>
          <a:stretch/>
        </p:blipFill>
        <p:spPr>
          <a:xfrm>
            <a:off x="3289320" y="1371600"/>
            <a:ext cx="25653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axresdefault.jpg"/>
          <p:cNvPicPr/>
          <p:nvPr/>
        </p:nvPicPr>
        <p:blipFill>
          <a:blip r:embed="rId1"/>
          <a:stretch/>
        </p:blipFill>
        <p:spPr>
          <a:xfrm>
            <a:off x="1844640" y="1371600"/>
            <a:ext cx="5452920" cy="36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creen Shot 2018-05-09 at 10.23.09 AM.png"/>
          <p:cNvPicPr/>
          <p:nvPr/>
        </p:nvPicPr>
        <p:blipFill>
          <a:blip r:embed="rId1"/>
          <a:stretch/>
        </p:blipFill>
        <p:spPr>
          <a:xfrm>
            <a:off x="2933640" y="1371600"/>
            <a:ext cx="3276720" cy="32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b8087f8fad3da27fb4448b5d9d519d72.jpg"/>
          <p:cNvPicPr/>
          <p:nvPr/>
        </p:nvPicPr>
        <p:blipFill>
          <a:blip r:embed="rId1"/>
          <a:stretch/>
        </p:blipFill>
        <p:spPr>
          <a:xfrm>
            <a:off x="765000" y="1411200"/>
            <a:ext cx="7612200" cy="26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kindle-logo.jpg"/>
          <p:cNvPicPr/>
          <p:nvPr/>
        </p:nvPicPr>
        <p:blipFill>
          <a:blip r:embed="rId1"/>
          <a:stretch/>
        </p:blipFill>
        <p:spPr>
          <a:xfrm>
            <a:off x="2781360" y="137160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14:08:39Z</dcterms:created>
  <dc:creator>Jennifer Budzinski</dc:creator>
  <dc:description/>
  <dc:language>en-US</dc:language>
  <cp:lastModifiedBy>Erich Friedman</cp:lastModifiedBy>
  <dcterms:modified xsi:type="dcterms:W3CDTF">2020-08-30T23:28:27Z</dcterms:modified>
  <cp:revision>290</cp:revision>
  <dc:subject/>
  <dc:title>Slide 1</dc:title>
</cp:coreProperties>
</file>