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173B-C8F0-4CEA-9531-FCEA7C570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7F7B-FAA4-4DBE-BCDB-3830AA96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9F55-9031-46FB-889B-F6DC96021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928B-914F-4ADC-96C5-C1776FF3D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51D0-5D6B-404F-A238-0827D862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1134-5AC4-49F5-9479-44695A52B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62CB-3B83-43CB-B594-8784694B6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AAEE-0F12-4F68-BF3D-D58F98456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2875-68C9-4A99-AD2F-E03A13F5D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CD8-99CA-47D3-9FDC-954FD94BE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EBDE-A3C8-4552-8F9C-2F25833E9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62F4-92DE-4F30-B2D8-6CD208836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14C7-8347-4BC9-B4B5-FE77B5706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051F-3BC9-4714-BC84-C8AC49FB8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3E14-091B-4939-9892-E04010875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1794-4A97-4F02-B4BD-AEA325AD9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C0DD-DBEC-48CE-B1E6-BA9971992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0ADE-EBA0-40B8-8622-F5AA3CEC1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680C-4B8C-4872-B9F5-CA7E43C28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6289F-9CAC-47F5-8FA4-4DB1BCC53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C3CD-739C-4DEE-879F-728182287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A54A-3EE6-4C1C-A78D-121619F20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939-CDAD-4BA6-9122-5D890823E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TV SHOWS HAD THESE LOGOS (WITH THE LETTERS REMOVED)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a279f4106bcfefe9042f16c1775bcfd2.jpg"/>
          <p:cNvPicPr/>
          <p:nvPr/>
        </p:nvPicPr>
        <p:blipFill>
          <a:blip r:embed="rId1"/>
          <a:stretch/>
        </p:blipFill>
        <p:spPr>
          <a:xfrm>
            <a:off x="838080" y="1295280"/>
            <a:ext cx="7615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0f4ce0c81529dc2cd74c230c502152f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6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E'S  ANG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bbdfaa5896823867d4f90aa51fa0796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325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OPRA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b17f3cca09e10c8846bebd3d284c9915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95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  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c0f2389f2640a5007ee8252771edf683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S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35fe6a9a1306e6558054718cd5a4db6.jpg"/>
          <p:cNvPicPr/>
          <p:nvPr/>
        </p:nvPicPr>
        <p:blipFill>
          <a:blip r:embed="rId1"/>
          <a:stretch/>
        </p:blipFill>
        <p:spPr>
          <a:xfrm>
            <a:off x="838080" y="1295280"/>
            <a:ext cx="740268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WITCH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34114997a4ea83f096148904ef9822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LOVE  LU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88dac347c4888bac2dbe81c340599d65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WILIGHT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6a7b03d827a041930b02496fefdb60b9.png"/>
          <p:cNvPicPr/>
          <p:nvPr/>
        </p:nvPicPr>
        <p:blipFill>
          <a:blip r:embed="rId1"/>
          <a:stretch/>
        </p:blipFill>
        <p:spPr>
          <a:xfrm>
            <a:off x="2209680" y="1295280"/>
            <a:ext cx="472464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bbdfaa5896823867d4f90aa51fa07960.jpg"/>
          <p:cNvPicPr/>
          <p:nvPr/>
        </p:nvPicPr>
        <p:blipFill>
          <a:blip r:embed="rId1"/>
          <a:stretch/>
        </p:blipFill>
        <p:spPr>
          <a:xfrm>
            <a:off x="2209680" y="1295280"/>
            <a:ext cx="45720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RK  AND  MIN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acae2eee9d3aa245229a01bc7d9c504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786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PARTRIDGE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a279f4106bcfefe9042f16c1775bcfd2.jpg"/>
          <p:cNvPicPr/>
          <p:nvPr/>
        </p:nvPicPr>
        <p:blipFill>
          <a:blip r:embed="rId1"/>
          <a:stretch/>
        </p:blipFill>
        <p:spPr>
          <a:xfrm>
            <a:off x="838080" y="1295280"/>
            <a:ext cx="76154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368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'S  KITC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0f4ce0c81529dc2cd74c230c502152f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212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b17f3cca09e10c8846bebd3d284c9915.jpg"/>
          <p:cNvPicPr/>
          <p:nvPr/>
        </p:nvPicPr>
        <p:blipFill>
          <a:blip r:embed="rId1"/>
          <a:stretch/>
        </p:blipFill>
        <p:spPr>
          <a:xfrm>
            <a:off x="990720" y="1295280"/>
            <a:ext cx="722952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c0f2389f2640a5007ee8252771edf683.jpg"/>
          <p:cNvPicPr/>
          <p:nvPr/>
        </p:nvPicPr>
        <p:blipFill>
          <a:blip r:embed="rId1"/>
          <a:stretch/>
        </p:blipFill>
        <p:spPr>
          <a:xfrm>
            <a:off x="1371600" y="1219320"/>
            <a:ext cx="6324480" cy="355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b35fe6a9a1306e6558054718cd5a4db6.jpg"/>
          <p:cNvPicPr/>
          <p:nvPr/>
        </p:nvPicPr>
        <p:blipFill>
          <a:blip r:embed="rId1"/>
          <a:stretch/>
        </p:blipFill>
        <p:spPr>
          <a:xfrm>
            <a:off x="838080" y="1295280"/>
            <a:ext cx="740268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34114997a4ea83f096148904ef9822d.jpg"/>
          <p:cNvPicPr/>
          <p:nvPr/>
        </p:nvPicPr>
        <p:blipFill>
          <a:blip r:embed="rId1"/>
          <a:stretch/>
        </p:blipFill>
        <p:spPr>
          <a:xfrm>
            <a:off x="2209680" y="1295280"/>
            <a:ext cx="4775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88dac347c4888bac2dbe81c340599d65.jpg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6a7b03d827a041930b02496fefdb60b9.png"/>
          <p:cNvPicPr/>
          <p:nvPr/>
        </p:nvPicPr>
        <p:blipFill>
          <a:blip r:embed="rId1"/>
          <a:stretch/>
        </p:blipFill>
        <p:spPr>
          <a:xfrm>
            <a:off x="2133720" y="1295280"/>
            <a:ext cx="49784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acae2eee9d3aa245229a01bc7d9c5048.jpg"/>
          <p:cNvPicPr/>
          <p:nvPr/>
        </p:nvPicPr>
        <p:blipFill>
          <a:blip r:embed="rId1"/>
          <a:stretch/>
        </p:blipFill>
        <p:spPr>
          <a:xfrm>
            <a:off x="1371600" y="1295280"/>
            <a:ext cx="65786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7:53:24Z</dcterms:created>
  <dc:creator>Jennifer Budzinski</dc:creator>
  <dc:description/>
  <dc:language>en-US</dc:language>
  <cp:lastModifiedBy>Erich Friedman</cp:lastModifiedBy>
  <dcterms:modified xsi:type="dcterms:W3CDTF">2020-08-30T23:30:02Z</dcterms:modified>
  <cp:revision>288</cp:revision>
  <dc:subject/>
  <dc:title>Slide 1</dc:title>
</cp:coreProperties>
</file>