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F50C-A0BF-4EA1-984C-6082A74B0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17D6-4BA9-4560-9B01-72558AFDA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522A-E046-4148-954F-5D8AA4A8A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2ED1-FF82-4B18-8FCF-541BAB643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431F-CD87-4CC2-96C5-F77899074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B8FE-C28F-4936-A387-8CED56F20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EA61-6CD3-4A42-A5DA-22510AEC7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EEF6-97A8-475F-B662-C939D8D31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ED4C-43F0-47ED-A6DF-21F7493C2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C8F6-292E-41C0-B311-E84D21891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1ED7-C2EE-4310-ADC3-CBC164F17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AC90-B682-473D-8567-74D509706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5A3D-5C89-496A-A04E-602DE6814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F780-7A49-4FDB-9874-7657649B0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97A1-FC7E-452C-9C31-B0B20161F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930A-A718-45F8-920B-7E434A142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24BE-8A42-4871-8944-46F1FE5E2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44B9-EA76-4D72-AE07-0674CDB7F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CB65-3830-439D-A2AF-423AE21EB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0E2C-2593-4FD2-83E0-6FDB80229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44DA-35E0-4B73-8E8B-7387A86D1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BA63-DF73-4130-9E55-AFF253F7E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0703-C7A3-4CD2-8DB6-485831B90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V SHOWS HAD THESE LOGOS (WITH THE LETTERS REMOVED)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a279f4106bcfefe9042f16c1775bcfd2.jpg"/>
          <p:cNvPicPr/>
          <p:nvPr/>
        </p:nvPicPr>
        <p:blipFill>
          <a:blip r:embed="rId1"/>
          <a:stretch/>
        </p:blipFill>
        <p:spPr>
          <a:xfrm>
            <a:off x="838080" y="1295280"/>
            <a:ext cx="7615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70f4ce0c81529dc2cd74c230c502152f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212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6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'S  ANG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bbdfaa5896823867d4f90aa51fa07960.jpg"/>
          <p:cNvPicPr/>
          <p:nvPr/>
        </p:nvPicPr>
        <p:blipFill>
          <a:blip r:embed="rId1"/>
          <a:stretch/>
        </p:blipFill>
        <p:spPr>
          <a:xfrm>
            <a:off x="2209680" y="1295280"/>
            <a:ext cx="457200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OPR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b17f3cca09e10c8846bebd3d284c9915.jpg"/>
          <p:cNvPicPr/>
          <p:nvPr/>
        </p:nvPicPr>
        <p:blipFill>
          <a:blip r:embed="rId1"/>
          <a:stretch/>
        </p:blipFill>
        <p:spPr>
          <a:xfrm>
            <a:off x="990720" y="1295280"/>
            <a:ext cx="72295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 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c0f2389f2640a5007ee8252771edf683.jpg"/>
          <p:cNvPicPr/>
          <p:nvPr/>
        </p:nvPicPr>
        <p:blipFill>
          <a:blip r:embed="rId1"/>
          <a:stretch/>
        </p:blipFill>
        <p:spPr>
          <a:xfrm>
            <a:off x="1371600" y="1219320"/>
            <a:ext cx="632448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S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b35fe6a9a1306e6558054718cd5a4db6.jpg"/>
          <p:cNvPicPr/>
          <p:nvPr/>
        </p:nvPicPr>
        <p:blipFill>
          <a:blip r:embed="rId1"/>
          <a:stretch/>
        </p:blipFill>
        <p:spPr>
          <a:xfrm>
            <a:off x="838080" y="1295280"/>
            <a:ext cx="740268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WITC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c34114997a4ea83f096148904ef9822d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LOVE  LU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88dac347c4888bac2dbe81c340599d65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WILIGHT  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6a7b03d827a041930b02496fefdb60b9.png"/>
          <p:cNvPicPr/>
          <p:nvPr/>
        </p:nvPicPr>
        <p:blipFill>
          <a:blip r:embed="rId1"/>
          <a:stretch/>
        </p:blipFill>
        <p:spPr>
          <a:xfrm>
            <a:off x="2209680" y="129528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bbdfaa5896823867d4f90aa51fa07960.jpg"/>
          <p:cNvPicPr/>
          <p:nvPr/>
        </p:nvPicPr>
        <p:blipFill>
          <a:blip r:embed="rId1"/>
          <a:stretch/>
        </p:blipFill>
        <p:spPr>
          <a:xfrm>
            <a:off x="2209680" y="1295280"/>
            <a:ext cx="45720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K  AND  MI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acae2eee9d3aa245229a01bc7d9c504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5786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RTRIDGE 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a279f4106bcfefe9042f16c1775bcfd2.jpg"/>
          <p:cNvPicPr/>
          <p:nvPr/>
        </p:nvPicPr>
        <p:blipFill>
          <a:blip r:embed="rId1"/>
          <a:stretch/>
        </p:blipFill>
        <p:spPr>
          <a:xfrm>
            <a:off x="838080" y="1295280"/>
            <a:ext cx="76154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6368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L'S  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70f4ce0c81529dc2cd74c230c502152f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2128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b17f3cca09e10c8846bebd3d284c9915.jpg"/>
          <p:cNvPicPr/>
          <p:nvPr/>
        </p:nvPicPr>
        <p:blipFill>
          <a:blip r:embed="rId1"/>
          <a:stretch/>
        </p:blipFill>
        <p:spPr>
          <a:xfrm>
            <a:off x="990720" y="1295280"/>
            <a:ext cx="72295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c0f2389f2640a5007ee8252771edf683.jpg"/>
          <p:cNvPicPr/>
          <p:nvPr/>
        </p:nvPicPr>
        <p:blipFill>
          <a:blip r:embed="rId1"/>
          <a:stretch/>
        </p:blipFill>
        <p:spPr>
          <a:xfrm>
            <a:off x="1371600" y="1219320"/>
            <a:ext cx="632448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b35fe6a9a1306e6558054718cd5a4db6.jpg"/>
          <p:cNvPicPr/>
          <p:nvPr/>
        </p:nvPicPr>
        <p:blipFill>
          <a:blip r:embed="rId1"/>
          <a:stretch/>
        </p:blipFill>
        <p:spPr>
          <a:xfrm>
            <a:off x="838080" y="1295280"/>
            <a:ext cx="740268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c34114997a4ea83f096148904ef9822d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88dac347c4888bac2dbe81c340599d65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6a7b03d827a041930b02496fefdb60b9.png"/>
          <p:cNvPicPr/>
          <p:nvPr/>
        </p:nvPicPr>
        <p:blipFill>
          <a:blip r:embed="rId1"/>
          <a:stretch/>
        </p:blipFill>
        <p:spPr>
          <a:xfrm>
            <a:off x="2133720" y="1295280"/>
            <a:ext cx="49784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acae2eee9d3aa245229a01bc7d9c504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5786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7:53:24Z</dcterms:created>
  <dc:creator>Jennifer Budzinski</dc:creator>
  <dc:description/>
  <dc:language>en-US</dc:language>
  <cp:lastModifiedBy>Erich Friedman</cp:lastModifiedBy>
  <dcterms:modified xsi:type="dcterms:W3CDTF">2020-08-30T23:30:02Z</dcterms:modified>
  <cp:revision>288</cp:revision>
  <dc:subject/>
  <dc:title>Slide 1</dc:title>
</cp:coreProperties>
</file>