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8287-2DAC-40F4-864A-9C1E62241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DB37-7AB1-4B34-B91A-5EC12A02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EA3-63E0-4B0C-BA68-3CF1AF80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0C1-4823-4E76-B2B4-291BEF254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2C9-F9F9-481F-AEDA-4234C9B2D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A090-9723-4963-B372-0D8506CA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F36-43C2-4461-8818-66ED6AE0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0CE-6B42-444E-B095-A34CA402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590F-C4B5-41C3-AFE6-267E2502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578E-02D5-4E18-8823-FC603FCB9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3A75-A1BB-440B-BC1A-F225EC56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82CE-F9C3-4F27-9A0E-3FF3BA58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AD8-F1AC-4315-8E26-5716953B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05F-1715-4FA8-A2C2-EA2349D2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3DA1-5C18-40CC-BF50-31A0BE83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AE2-A63D-4588-8D39-F96E363C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117B-BD7C-4142-902C-66A4F64D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ACE0-76D2-4764-BC1D-C4E42A25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F6C-6200-4655-898D-D83738201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B2B3-1333-4CBF-82E5-B164CCE9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2E1-91A7-4321-96DE-DB64F824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B54-B2D5-45C1-9278-2A499155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7FFA-4F82-420A-9359-84E7E339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518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M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820880" y="1371600"/>
            <a:ext cx="5502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2000px-New_Logo_Gmail.sv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DONA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cdonald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RI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arriott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&amp;M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&amp;M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256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etlife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5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446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Z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azda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35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5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R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otorola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0360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onster.jpg"/>
          <p:cNvPicPr/>
          <p:nvPr/>
        </p:nvPicPr>
        <p:blipFill>
          <a:blip r:embed="rId1"/>
          <a:stretch/>
        </p:blipFill>
        <p:spPr>
          <a:xfrm>
            <a:off x="3314880" y="1295280"/>
            <a:ext cx="25146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cdonald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  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ster chef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767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STREET 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820880" y="1371600"/>
            <a:ext cx="5502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00px-New_Logo_Gmail.svg.jpg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arriott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&amp;M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256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etlife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5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zda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otorola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0360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onster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ster chef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767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0:54Z</dcterms:modified>
  <cp:revision>292</cp:revision>
  <dc:subject/>
  <dc:title>Slide 1</dc:title>
</cp:coreProperties>
</file>