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2376D-DACF-4DFC-9257-E7E928085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E8093-4557-469E-B884-D7584E624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7DEAF-4D11-451A-8C20-6C4EDF71DC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94F38-D940-4A2C-8CE2-83B3A9D99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BF47-2960-4E1B-919D-0ACA2A2C8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11DD-7A20-4BB9-9027-37DFBE07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9338-B2EF-438A-ACA0-582B0BCA9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83A4-7B5C-4C07-8A89-63D2FCC3F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8B6A-9302-4C53-B16B-0DFDB5B40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C4B51-5E94-414E-8E96-988D0A61C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88CED-5990-4042-BF05-E80100FF6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433C-7422-41FA-B727-6919084D9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84DC-5273-47EA-8264-1BDE9A954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ED9BB-AF0F-4C83-AE52-7E47DE8814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4FA8-DE59-4F0B-8478-758BC7647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2F8C0-059B-4F29-9C0F-5EDA9E43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AAAD-2028-49FE-850C-F3E0ED702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7DD8-9251-4C1C-9E1E-AE8265C9C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8E01-91E4-4DDC-B63A-709F70A20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FC74-4CBA-4E94-AF23-E6268BA01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24EDB-33A7-4035-A907-DF683719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3C0C9-1AB5-4732-84FB-4F9FD1610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3334-C525-4581-A651-CAB7A4DF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981080" y="1676160"/>
            <a:ext cx="5181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DENTIFY THESE "M" LOG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9" name="Picture 2" descr=""/>
          <p:cNvPicPr/>
          <p:nvPr/>
        </p:nvPicPr>
        <p:blipFill>
          <a:blip r:embed="rId1"/>
          <a:stretch/>
        </p:blipFill>
        <p:spPr>
          <a:xfrm>
            <a:off x="1820880" y="1371600"/>
            <a:ext cx="550224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3" descr="2000px-New_Logo_Gmail.svg.jpg"/>
          <p:cNvPicPr/>
          <p:nvPr/>
        </p:nvPicPr>
        <p:blipFill>
          <a:blip r:embed="rId1"/>
          <a:stretch/>
        </p:blipFill>
        <p:spPr>
          <a:xfrm>
            <a:off x="2209680" y="1295280"/>
            <a:ext cx="4800600" cy="367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3"/>
          <p:cNvSpPr/>
          <p:nvPr/>
        </p:nvSpPr>
        <p:spPr>
          <a:xfrm>
            <a:off x="457200" y="4952880"/>
            <a:ext cx="8229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CDONAL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3" descr="mcdonalds.jpg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40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Rectangle 3"/>
          <p:cNvSpPr/>
          <p:nvPr/>
        </p:nvSpPr>
        <p:spPr>
          <a:xfrm>
            <a:off x="457200" y="4952880"/>
            <a:ext cx="8229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RRIOT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3" descr="Marriott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6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Rectangle 3"/>
          <p:cNvSpPr/>
          <p:nvPr/>
        </p:nvSpPr>
        <p:spPr>
          <a:xfrm>
            <a:off x="304920" y="4952880"/>
            <a:ext cx="85341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&amp;M'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M&amp;Ms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2560" cy="3589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/>
          </p:nvPr>
        </p:nvSpPr>
        <p:spPr>
          <a:xfrm>
            <a:off x="380880" y="685440"/>
            <a:ext cx="8382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T 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3" descr="metlife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5800" cy="350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4446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Z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3" descr="mazda.jpg"/>
          <p:cNvPicPr/>
          <p:nvPr/>
        </p:nvPicPr>
        <p:blipFill>
          <a:blip r:embed="rId1"/>
          <a:stretch/>
        </p:blipFill>
        <p:spPr>
          <a:xfrm>
            <a:off x="2438280" y="1295280"/>
            <a:ext cx="4335480" cy="358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457200" y="49752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TORO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3" descr="motorola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03600" cy="36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ONS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3" descr="monster.jpg"/>
          <p:cNvPicPr/>
          <p:nvPr/>
        </p:nvPicPr>
        <p:blipFill>
          <a:blip r:embed="rId1"/>
          <a:stretch/>
        </p:blipFill>
        <p:spPr>
          <a:xfrm>
            <a:off x="3314880" y="1295280"/>
            <a:ext cx="2514600" cy="3529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Picture 2" descr="mcdonalds.jpg"/>
          <p:cNvPicPr/>
          <p:nvPr/>
        </p:nvPicPr>
        <p:blipFill>
          <a:blip r:embed="rId1"/>
          <a:stretch/>
        </p:blipFill>
        <p:spPr>
          <a:xfrm>
            <a:off x="2590920" y="1295280"/>
            <a:ext cx="3886200" cy="340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343080" y="4952880"/>
            <a:ext cx="84582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STER  CH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master chef.jpg"/>
          <p:cNvPicPr/>
          <p:nvPr/>
        </p:nvPicPr>
        <p:blipFill>
          <a:blip r:embed="rId1"/>
          <a:stretch/>
        </p:blipFill>
        <p:spPr>
          <a:xfrm>
            <a:off x="2971800" y="1371600"/>
            <a:ext cx="3276720" cy="3486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53352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457200" y="495288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2000"/>
          </a:bodyPr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AINSTREET  BA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09440" indent="-109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4" descr=""/>
          <p:cNvPicPr/>
          <p:nvPr/>
        </p:nvPicPr>
        <p:blipFill>
          <a:blip r:embed="rId1"/>
          <a:stretch/>
        </p:blipFill>
        <p:spPr>
          <a:xfrm>
            <a:off x="1820880" y="1371600"/>
            <a:ext cx="550224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MAI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4" descr="2000px-New_Logo_Gmail.svg.jpg"/>
          <p:cNvPicPr/>
          <p:nvPr/>
        </p:nvPicPr>
        <p:blipFill>
          <a:blip r:embed="rId1"/>
          <a:stretch/>
        </p:blipFill>
        <p:spPr>
          <a:xfrm>
            <a:off x="2247840" y="1295280"/>
            <a:ext cx="4648320" cy="356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5" name="Picture 2" descr="Marriott.jpg"/>
          <p:cNvPicPr/>
          <p:nvPr/>
        </p:nvPicPr>
        <p:blipFill>
          <a:blip r:embed="rId1"/>
          <a:stretch/>
        </p:blipFill>
        <p:spPr>
          <a:xfrm>
            <a:off x="2819520" y="1295280"/>
            <a:ext cx="3504960" cy="346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7" name="Picture 2" descr="M&amp;Ms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2560" cy="35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2" descr="metlife.jpg"/>
          <p:cNvPicPr/>
          <p:nvPr/>
        </p:nvPicPr>
        <p:blipFill>
          <a:blip r:embed="rId1"/>
          <a:stretch/>
        </p:blipFill>
        <p:spPr>
          <a:xfrm>
            <a:off x="2590920" y="1295280"/>
            <a:ext cx="3925800" cy="35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1" name="Picture 2" descr="mazda.jpg"/>
          <p:cNvPicPr/>
          <p:nvPr/>
        </p:nvPicPr>
        <p:blipFill>
          <a:blip r:embed="rId1"/>
          <a:stretch/>
        </p:blipFill>
        <p:spPr>
          <a:xfrm>
            <a:off x="2438280" y="1295280"/>
            <a:ext cx="4267440" cy="352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3" name="Picture 2" descr="motorola.png"/>
          <p:cNvPicPr/>
          <p:nvPr/>
        </p:nvPicPr>
        <p:blipFill>
          <a:blip r:embed="rId1"/>
          <a:stretch/>
        </p:blipFill>
        <p:spPr>
          <a:xfrm>
            <a:off x="2743200" y="1295280"/>
            <a:ext cx="3603600" cy="360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5" name="Picture 2" descr="monster.jpg"/>
          <p:cNvPicPr/>
          <p:nvPr/>
        </p:nvPicPr>
        <p:blipFill>
          <a:blip r:embed="rId1"/>
          <a:stretch/>
        </p:blipFill>
        <p:spPr>
          <a:xfrm>
            <a:off x="3276720" y="1295280"/>
            <a:ext cx="2666880" cy="37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7" name="Picture 2" descr="master chef.jpg"/>
          <p:cNvPicPr/>
          <p:nvPr/>
        </p:nvPicPr>
        <p:blipFill>
          <a:blip r:embed="rId1"/>
          <a:stretch/>
        </p:blipFill>
        <p:spPr>
          <a:xfrm>
            <a:off x="2971800" y="1371600"/>
            <a:ext cx="3276720" cy="3486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39:58Z</dcterms:created>
  <dc:creator>Jennifer Budzinski</dc:creator>
  <dc:description/>
  <dc:language>en-US</dc:language>
  <cp:lastModifiedBy>Erich Friedman</cp:lastModifiedBy>
  <dcterms:modified xsi:type="dcterms:W3CDTF">2020-08-30T23:30:54Z</dcterms:modified>
  <cp:revision>292</cp:revision>
  <dc:subject/>
  <dc:title>Slide 1</dc:title>
</cp:coreProperties>
</file>