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91D9-28B4-451D-B3B5-787E73E4A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CBDC-58CE-4877-BE58-CF09422BE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EA6C-83C4-474F-A743-AE54C7B84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4CBC-85AC-40B5-8268-34AC2E7C2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F96C-98B4-47E5-82A3-D3C64AC16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957B-16DD-4DEB-8004-E6D001B59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97E8-E89F-4509-A9AF-82D19CB1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1996-F7F7-442C-96A6-ADAF82322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53C6-252E-435B-9342-FE11FF64F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3E8F-394E-4941-9452-E77D244F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6480-0B69-40C8-A821-91104FE50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9305-F67A-4977-9EBE-B0A7DE970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5E8A-EC56-4465-AD96-F09EAD5F3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C56F-C500-4C5C-A0FE-7BBCBA409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D81D-9872-478F-8720-CE65D36A5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A888-1FA9-4A40-8A6E-87A954FD2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5F7D-C77F-4535-AFF0-E398469E2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79B1-434B-4AA2-BA33-FD2B6B747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FB5D-FEE5-4BAA-A615-52C26E56D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751A-8245-4ECF-8B8D-D9FD10EB8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C836-FACC-43EB-8680-EE5524A8A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EC74-2E48-4A49-AA53-A5A8D2F3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F7C4-43F5-4C27-BF8E-DBE340A58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81080" y="1676160"/>
            <a:ext cx="5181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S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cott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quarespace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99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719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herato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99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ZU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uzuki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0532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UPERMAN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52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Speedway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815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kype.jpg"/>
          <p:cNvPicPr/>
          <p:nvPr/>
        </p:nvPicPr>
        <p:blipFill>
          <a:blip r:embed="rId1"/>
          <a:stretch/>
        </p:blipFill>
        <p:spPr>
          <a:xfrm>
            <a:off x="2819520" y="1295280"/>
            <a:ext cx="3429000" cy="34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68360" y="49687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MICRO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u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B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920x1240.jpg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5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herato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99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7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E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afeway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cott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ARE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quarespace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99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uzuki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05320" cy="35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SUPERMAN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5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peedway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815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kype.jpg"/>
          <p:cNvPicPr/>
          <p:nvPr/>
        </p:nvPicPr>
        <p:blipFill>
          <a:blip r:embed="rId1"/>
          <a:stretch/>
        </p:blipFill>
        <p:spPr>
          <a:xfrm>
            <a:off x="2819520" y="1295280"/>
            <a:ext cx="3429000" cy="34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su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920x1240.jpg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afeway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358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1:57Z</dcterms:modified>
  <cp:revision>291</cp:revision>
  <dc:subject/>
  <dc:title>Slide 1</dc:title>
</cp:coreProperties>
</file>