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B022-8ACF-493F-B366-C578030F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009B-BFAB-4274-94F2-D5D81701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ECE-CB57-49F7-A7B6-5AF3805D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9EA9-69FF-4777-826C-19C2F959E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6DEB-3394-44B5-BA57-FAA61D99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AF9E-A912-423A-B076-E7D944B43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D740-FB17-442D-8999-FE2288787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D880-C69A-4F1F-AF05-C872B5B57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DD7-D9BF-4876-85E8-1B30964F1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299F-3FD7-4E81-BF2A-FB0A7D5F3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931A-FBAB-4BB3-A33E-403EEF6F7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F95-809F-4C52-8B5D-8E7B8C7D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FEF4-3893-4728-A928-2A496E89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6C9D-A26E-4C9B-8007-3E5C581E7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A2A-8BF7-49E5-8B4A-3F07B7CF4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F7A-5809-466E-B751-33403A1B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38B1-6FD2-4A02-9C4D-43B762AA1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D2CF-15EB-4B12-9C51-6289A65E1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6F9C-03F8-4205-BE8C-AABAEB21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ED87-E2C2-4DED-9D98-F6A9218D7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74B9-116B-4A68-95F5-3549958D1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2855-5549-44A2-906C-67B03777B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1D1B-B60F-4DE3-9404-09333DA47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518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S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ot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quarespace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9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719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herato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99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ZU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uzuki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UPERMAN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2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peedwa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kype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2900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68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MICR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u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920x1240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herato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99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7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E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afewa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ot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RE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quarespace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9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uzuki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0532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UPERMAN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peedwa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81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kype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2900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un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920x1240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afewa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1:57Z</dcterms:modified>
  <cp:revision>291</cp:revision>
  <dc:subject/>
  <dc:title>Slide 1</dc:title>
</cp:coreProperties>
</file>