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668-60DB-4EF5-B69D-8CF47EA9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875-3CB2-405D-9153-D61AD7CC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AE4-B2D0-485A-9FBA-EEBCC359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A5F9-DA38-4C40-8797-A12BD1701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52F-56AB-40A5-80F5-C81B2CB4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F54D-8D50-4A60-9330-47023AA0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2FF-4947-48DD-840E-3BB635E1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B48A-859B-429B-9C1A-AFFDF828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75F8-C27A-4C9D-9446-176E1FCE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C34-01E5-4C1E-B58E-D8108B086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D16-7FA2-4FF8-A8A2-3B1FD41F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A1F9-671F-4E15-81DE-A5E2E916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8ACF-EFB5-4CD1-BE83-E9DE3553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06A-E501-4757-8E8C-A5882778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6A3-F7D4-46BF-81A6-1B9E15EE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971-DB80-4951-B5CD-12F002D5E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E614-F1B9-4756-8270-B3201CEC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A65-E192-4062-A0BE-8ABFAF886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0D1-B8F4-45F4-9CC7-F7ED0DF4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6A2-06A4-47C9-A7D2-B40B04E0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3D1-6A0D-45A2-8DF1-580985AF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6EAE-B997-4E73-84D5-6BEA7223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2FE-7D95-410E-920D-36F66FAA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518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S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719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U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7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1:57Z</dcterms:modified>
  <cp:revision>291</cp:revision>
  <dc:subject/>
  <dc:title>Slide 1</dc:title>
</cp:coreProperties>
</file>