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E361-360B-4B81-88A8-39056F2DE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6127-83DB-489B-AD17-62B29D8D9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BE4-6FCD-4183-9421-12A00682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332-5639-4766-A935-E4731C4F5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B010-155C-43E0-93D0-741CD5340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5563-EB10-4CB2-BA43-264069DE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935-EE36-445B-AA36-B73D5AB71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1143-4A2F-4ED9-A6C7-9A9D5DE58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33E-362A-4C42-8E16-3E17907C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D4EA-59AD-48B7-B0D4-75975BAA0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E3E-1BB0-4526-90D4-FDD262E4C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EFD-034D-46D0-87AA-DEECE0F8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114-3DBE-47C7-8664-D55A159DC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D53E-70A2-40A6-8EBA-B175B0A66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220-5862-4395-AC98-408D8E870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3A1C-AFA0-4155-AE01-221E034D9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BAE5-92B5-4815-B3C5-A58CD4A7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A70-14EB-46DB-973D-75550F856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BFF-7402-4246-B8EF-3A19921BC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ADCC-E33C-4809-9EF7-7E20DB937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77C9-7D0A-4B6C-A8D2-4391ECF72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4AE6-BBA5-4A1B-948F-7B0E6CAEA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AC5-7DC9-48C7-9D3E-F9C7BEFE5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A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084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45000" cy="317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844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35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276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C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29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BN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44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  B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3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45000" cy="317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3660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HEUSER – BU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598840" y="1295280"/>
            <a:ext cx="3933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084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95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35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276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2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27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3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544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3:21Z</dcterms:modified>
  <cp:revision>290</cp:revision>
  <dc:subject/>
  <dc:title>Slide 1</dc:title>
</cp:coreProperties>
</file>