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A824-C17F-4025-A6EA-63F0F88D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171C-B3C1-4520-B770-60097525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D6D-8108-417C-AF2C-49BCA5D8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18E-4FF0-4268-B679-874902E0B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56DE-A360-4CB6-86AB-10C28BF6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0E6-21EE-45CD-8A48-49707B32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3AE-2F7B-4A12-BBE7-CB421DEA0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D1A7-8B27-43DF-BB2F-65DF32C1C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708F-71DC-4BF2-BF4B-29F55572C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DB9D-0E34-4B06-8D3E-2196539A1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36C2-088A-4096-B917-F265BEDAD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DFD-3A11-43AF-B381-121DFF81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40BE-DB13-4AE6-A678-5034C3A3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6304-BD44-4342-BE81-E2A27CB79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3AA6-FB3E-4857-AD98-FB348EA4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7B85-119D-4EAA-8D8D-BA2DD141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DB1A-6902-40A5-AAD6-6D821778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7BEF-7B25-48A1-9014-2A34B77D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92A7-C06A-4D5F-A02C-F1253D5C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6A6E-9AA4-4972-A99D-062201EBB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B6F-88E5-4D46-BB7D-67DBE3D0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000-1F9C-4A0F-B83F-450C92E9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2ABC-8E10-4CAD-9A4F-DF225295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A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084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45000" cy="31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95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844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35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276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C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2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892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BN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544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  BR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45000" cy="31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3660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HEUSER – BU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598840" y="1295280"/>
            <a:ext cx="39337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DIAMOND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0845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95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35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276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2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27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3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544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3:21Z</dcterms:modified>
  <cp:revision>290</cp:revision>
  <dc:subject/>
  <dc:title>Slide 1</dc:title>
</cp:coreProperties>
</file>