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4657-762E-431B-8F47-251CD285E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7450-61C0-4FA0-9317-B40BFD7C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31C3-B4FE-411B-9521-421076CBA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67FC-4136-4DB7-935D-71BF1F7C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8BC7-FDB7-414D-B30B-F135DC9E8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0D73-36C2-49B5-9D01-899551C46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B7FF-D1C0-4C08-A010-90723380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E858-0907-4BEF-9747-072E44075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F11E-B664-4328-A674-0DC6A162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9E10-C2D5-4BB8-A5C5-689FD3194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90A3-0E06-440A-AF4A-E1E05B4C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34E4-6675-4245-B50E-5F768A82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CFB9-EB43-42B9-BE09-69EADE6F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F787-6587-49C0-A92D-13B3F57C1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655-0728-4F0B-85AC-4FDE6E51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681A-B51D-4000-8687-34B5370D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450B-2BD4-445A-ABC7-68928B12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1C16-3DD8-4C5E-B642-8E78531B5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1D48-7CB7-4E0E-8B59-ECDDD2C96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DDC3-8CC1-46BF-998D-63AB9BC5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C5EC-E652-4413-A027-4704958FF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50F2-AD83-4B1D-8E81-79C09946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803-C4B5-45F1-8046-F3C13E09D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 ALPHAB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CONSONANTS IN MODERN HAWAIIAN BESIDES THE OKINA SYMBOL (').  WHAT ARE THE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MPERSAND SYMBOL GOT ITS NAME FROM THE PHRASE "AND, PER SE, AN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  AND  V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LETTERS WERE THE LAST TWO ADDED TO THE ENGLISH ALPHABE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6 LETTERS IN THE ENGLISH LANGUAGE.  HOW MANY GREEK LETTER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Y AND Z WERE ADDED TO THE LATIN ALPHABET DURING THE ROMAN EMPIRE, TO STAND FOR FOREIGN SOUNDS MADE BY CONQUERED PEO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GHTMOST LETTER ON A STANDARD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THIS EXPLAINS SIGNS LIKE "YE OLD SHOPPE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USED TO BE A LETTER IN OLD ENGLISH PRONOUNCED "TH" THAT LOOKED SO MUCH LIKE A "Y" THAT IT WAS DROPP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OT ON TOP OF A LOWER-CASE "I" OR "J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LETTER IN THE ENGLISH LANGUAGE IS "E".  WHAT IS THE MOST COMMON LETTER IN THE POLISH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LETTERS WERE THE LAST TWO ADDED TO THE ENGLISH ALPHAB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A" DEVELOPED FROM WHAT CUNEIFORM SYMBOL?  A SPEAR, A MOUNTAIN, OR AN OX 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, K, L, M, N, P, 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CONSONANTS IN MODERN HAWAIIAN BESIDES THE OKINA SYMBOL (')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90400" y="762120"/>
            <a:ext cx="7963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MPERSAND SYMBOL GOT ITS NAME FROM THE PHRASE "AND, PER SE, AN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6 LETTERS IN THE ENGLISH LANGUAGE.  HOW MANY GREEK LETTER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Y AND Z WERE ADDED TO THE LATIN ALPHABET DURING THE ROMAN EMPIRE, TO STAND FOR FOREIGN SOUNDS MADE BY CONQUERED PEO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GHTMOST LETTER ON A STANDARD KEY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USED TO BE A LETTER IN OLD ENGLISH PRONOUNCED "TH" THAT LOOKED SO MUCH LIKE A "Y" THAT IT WAS DROPP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OT ON TOP OF A LOWER-CASE "I" OR "J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LETTER IN THE ENGLISH LANGUAGE IS "E".  WHAT IS THE MOST COMMON LETTER IN THE POLISH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A" DEVELOPED FROM WHAT CUNEIFORM SYMBOL?  A SPEAR, A MOUNTAIN, OR AN OX H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19:47:40Z</dcterms:created>
  <dc:creator>Jennifer Budzinski</dc:creator>
  <dc:description/>
  <dc:language>en-US</dc:language>
  <cp:lastModifiedBy>Erich Friedman</cp:lastModifiedBy>
  <dcterms:modified xsi:type="dcterms:W3CDTF">2020-09-01T16:51:40Z</dcterms:modified>
  <cp:revision>296</cp:revision>
  <dc:subject/>
  <dc:title>Slide 1</dc:title>
</cp:coreProperties>
</file>