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B0F-AC30-4F9D-ABF0-8169EA759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87CE-3D8E-42FB-BE5E-2D0B4FA7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22E4-E027-4C85-BDFB-496D12C0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3FAF-A600-462D-A438-ABC44AF3A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5E13-B1B3-461E-9CCF-D15782B0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2874-E1CD-4404-B2BE-CB6F07C8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9C7B-7517-44CC-AD24-86BBDA6D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7831-BF3E-4380-AF78-4A3217D68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794-B2BE-452D-B6FC-44286BAC0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2459-1547-469F-A4C0-4EDB9A505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7399-5DCA-4EF9-B654-5D91CC8E5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898B-0DBA-4433-B369-A89075090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4642-E5B0-4020-8071-640E64F2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2C5-79F6-4E8D-9649-98913443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AFB3-D2C6-4697-8CAD-DE01A3CF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B56-E0CB-4EE8-9C58-FFB257BB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3A7F-4AA3-448B-8104-37093BF3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3C39-9EA1-4A4C-B789-2469293DC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E281-AAF1-4821-80D7-351023E8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7B74-FE13-4FEA-808F-F58FCD6B5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28E-998B-4F0F-8617-C09844A0A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0B8F-29D2-42C5-9619-0C8411E8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11E-ED31-45B6-BFCD-A433FA332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 ALPHAB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  AND  V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495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THIS EXPLAINS SIGNS LIKE "YE OLD SHOPP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LETTERS WERE THE LAST TWO ADDED TO THE ENGLISH ALPHAB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, K, L, M, N, P, 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7 CONSONANTS IN MODERN HAWAIIAN BESIDES THE OKINA SYMBOL (').  WHAT ARE THE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0400" y="762120"/>
            <a:ext cx="7963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MPERSAND SYMBOL GOT ITS NAME FROM THE PHRASE "AND, PER SE, AN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6 LETTERS IN THE ENGLISH LANGUAGE.  HOW MANY GREEK LETTER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Y AND Z WERE ADDED TO THE LATIN ALPHABET DURING THE ROMAN EMPIRE, TO STAND FOR FOREIGN SOUNDS MADE BY CONQUERED PEOP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GHTMOST LETTER ON A STANDARD KEYBO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USED TO BE A LETTER IN OLD ENGLISH PRONOUNCED "TH" THAT LOOKED SO MUCH LIKE A "Y" THAT IT WAS DROP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OT ON TOP OF A LOWER-CASE "I" OR "J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LETTER IN THE ENGLISH LANGUAGE IS "E".  WHAT IS THE MOST COMMON LETTER IN THE PO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A" DEVELOPED FROM WHAT CUNEIFORM SYMBOL?  A SPEAR, A MOUNTAIN, OR AN OX 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47:40Z</dcterms:created>
  <dc:creator>Jennifer Budzinski</dc:creator>
  <dc:description/>
  <dc:language>en-US</dc:language>
  <cp:lastModifiedBy>Erich Friedman</cp:lastModifiedBy>
  <dcterms:modified xsi:type="dcterms:W3CDTF">2020-09-01T16:51:40Z</dcterms:modified>
  <cp:revision>296</cp:revision>
  <dc:subject/>
  <dc:title>Slide 1</dc:title>
</cp:coreProperties>
</file>