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942-F77A-4D97-B6F4-E5BF782F5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252-9A3C-441B-B3AE-D82201F4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A5C-A0DF-45F4-99F9-FBDC3873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6E99-E678-4E1A-9FCB-D6C85772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2F72-4823-4D9E-BBD5-F5BB2C79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2F30-627F-4A9E-A115-E70E3742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453-1B83-44E9-9643-D6B2600E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F94-A6FC-4A55-BA47-93734D4CF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032-8618-415C-A511-BBEAD9B1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113-DED0-4F3E-BDA2-40B47703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FDF-C829-4529-96D0-EB24DDC5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DF6-AF9E-4FAD-AA69-1521F65E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3D3-7130-40A1-B3A1-EE7755418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2BA-A0B9-4545-86A0-2E0E32D0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64E6-E757-481D-89D3-5954D776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664-998C-4837-B5F9-730D48DA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52A-9B0A-458D-9D20-06325225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56CA-EEF2-4D33-9926-36ABE5C9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20F6-0504-4552-AE5C-1EE2BBD4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C8D7-F8B2-49FE-B983-23D4E696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422-4C36-4959-B0DD-3D7AC017F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91C-3063-45C5-A03C-5B606F27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9202-79A2-4071-8FCA-3641D52D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 ALPHAB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  AND  V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THIS EXPLAINS SIGNS LIKE "YE OLD SHOPP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, K, L, M, N, P,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0400" y="762120"/>
            <a:ext cx="7963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47:40Z</dcterms:created>
  <dc:creator>Jennifer Budzinski</dc:creator>
  <dc:description/>
  <dc:language>en-US</dc:language>
  <cp:lastModifiedBy>Erich Friedman</cp:lastModifiedBy>
  <dcterms:modified xsi:type="dcterms:W3CDTF">2020-09-01T16:51:40Z</dcterms:modified>
  <cp:revision>296</cp:revision>
  <dc:subject/>
  <dc:title>Slide 1</dc:title>
</cp:coreProperties>
</file>