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4460-34C8-4232-A3B4-C6386A8F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0CF-EED1-450C-98F1-5768EB78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FC4D-FD95-4D8C-829F-A8795BF4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7F5B-D51E-4B0C-BFB9-FBE67846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D3CA-C8FF-4E54-AD64-C90E43F1B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359F-ABE4-41A9-A15A-4B839FA60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F2D5-D83F-41F3-9CAF-DD354AD1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481-C1BB-4BF9-A0DF-9979DD7A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4BC4-145B-42E1-B450-29A4C1E6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9337-ED7A-4DB0-BCA2-870ADCE9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556-0847-4A52-AA6C-867B9BA3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1B64-652C-4B13-99F3-B03F2847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6253-2E4E-4BB1-BFA0-08A5A7DE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42FD-366C-4C65-AB1E-CA2445D1D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458-FF1C-4634-AF8B-A271244D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CB8-D1E4-4A6D-8F8F-DA165EED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F86E-2FFE-49DA-B8A8-DB1A1CE5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8E3-D728-4D7E-BAFD-C91ECD16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E72C-41F8-4844-BE22-92652BCB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EB47-5B2E-4C6A-8500-FF8701CE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1E2-12C9-4160-B674-09EAC806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A5D-CA89-49B6-9611-FEAEA1064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2BA3-D446-4C6B-805E-9A9ED112A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NY STORIES ABOUT AUTH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UNCLE TOM'S CABIN" LIVED NEXT TO MARK TW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USED TO BE A POP SINGER WHO PUT OUT AN ALBUM CALLED "ANGELS AND DEM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BRAD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1360" y="762120"/>
            <a:ext cx="880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CALLED A FIRE STATION TO ASK AT WHAT TEMPERATURE PAPER BURNED, AND WAS PUT ON HOLD WHILE THEY BURNED A BOOK TO FIND 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RIGINALLY HAD A MELANCHOLY PARROT INSTEAD OF A RAVEN IN HIS FAMOUS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O REWRITE "OF MICE AND MEN" WHEN THE ORIGINAL MANUSCRIPT WAS EATEN BY HIS PU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ER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 NOVEL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WHICH WAS WRITTEN IN 1960, WON A PULITZER PRIZE IN 1961, AND WAS MADE INTO A HIT MOVIE IN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TOR  HU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 SENTENCE OF 823 WORDS IN "LES MISÉR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SIDERED "SMALL SAM" AND "PUNY PETE" BEFORE SETTLING ON THE CHARACTER OF "TINY TI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. A. MIL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THE ONLY HUMAN CHARACTER IN A POPULAR BOOK SERIES AFTER HIS SON, CHRISTOPHER ROB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CALLED A FIRE STATION TO ASK AT WHAT TEMPERATURE PAPER BURNED, AND WAS PUT ON HOLD WHILE THEY BURNED A BOOK TO FIND 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L.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FIFTY SHADES OF GREY" WAS ORIGINALLY WRITTEN AS FAN FICTION FOR "TWI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T  BEECHER  ST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UNCLE TOM'S CABIN" LIVED NEXT TO MARK TW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USED TO BE A POP SINGER WHO PUT OUT AN ALBUM CALLED "ANGELS AND DEM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RIGINALLY HAD A MELANCHOLY PARROT INSTEAD OF A RAVEN IN HIS FAMOUS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O REWRITE "OF MICE AND MEN" WHEN THE ORIGINAL MANUSCRIPT WAS EATEN BY HIS PU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 NOVEL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WHICH WAS WRITTEN IN 1960, WON A PULITZER PRIZE IN 1961, AND WAS MADE INTO A HIT MOVIE IN 19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 SENTENCE OF 823 WORDS IN "LES MISÉR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SIDERED "SMALL SAM" AND "PUNY PETE" BEFORE SETTLING ON THE CHARACTER OF "TINY TI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THE ONLY HUMAN CHARACTER IN A POPULAR BOOK SERIES AFTER HIS SON, CHRISTOPHER ROB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FIFTY SHADES OF GREY" WAS ORIGINALLY WRITTEN AS FAN FICTION FOR "TWI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9T17:40:12Z</dcterms:created>
  <dc:creator>Jennifer Budzinski</dc:creator>
  <dc:description/>
  <dc:language>en-US</dc:language>
  <cp:lastModifiedBy>Erich Friedman</cp:lastModifiedBy>
  <dcterms:modified xsi:type="dcterms:W3CDTF">2020-09-01T18:47:02Z</dcterms:modified>
  <cp:revision>349</cp:revision>
  <dc:subject/>
  <dc:title>Slide 1</dc:title>
</cp:coreProperties>
</file>