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3192-E9F9-456C-B691-C5C234F65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771B-8899-4F87-AD66-5A22FCD3C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A061-0AF1-40FC-AE3F-D573AD80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E51B-2F30-4B85-B6BA-99FFC4FE5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B0608-DF91-4054-B87C-D1D30A693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532-6F23-429F-87D3-E4D71ED24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A5D3-7A44-4D30-8A56-9025A420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20319-0B1F-47AD-8032-E24408DE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5DD1-697A-43A4-8016-0A73E7D60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73A6-B3D5-4B89-BC2C-9298F8091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25DA-C8B2-405A-94A8-16EF02625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0448-93F7-4150-B3A9-B6E47852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4F3D-3365-4AD1-95E5-CDE4B4537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FF08-FC4D-48DD-9F2A-C9AA7D656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36CD-248C-4D95-AE9F-04E2B82E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F24-0105-4AEA-9793-CF9DB0C4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AFAF-154A-4C4D-BC57-019165B70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12C2-25D6-4CB3-9A67-1DC4EA1A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BA2E-1591-4492-93FA-A676D465D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31A9-8E03-49F0-B874-97A8E422A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DBB4-9CD0-4BA9-8C78-17EA512E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1A25-F8AC-49FF-9728-38FAF0B2E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EA24-FE2C-4D41-BF27-E970A670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NNY STORIES ABOUT AUTH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UNCLE TOM'S CABIN" LIVED NEXT TO MARK TW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USED TO BE A POP SINGER WHO PUT OUT AN ALBUM CALLED "ANGELS AND DEM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BRADB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1360" y="762120"/>
            <a:ext cx="88012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CALLED A FIRE STATION TO ASK AT WHAT TEMPERATURE PAPER BURNED, AND WAS PUT ON HOLD WHILE THEY BURNED A BOOK TO FIND OU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AR  ALLAN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RIGINALLY HAD A MELANCHOLY PARROT INSTEAD OF A RAVEN IN HIS FAMOUS PO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EIN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O REWRITE "OF MICE AND MEN" WHEN THE ORIGINAL MANUSCRIPT WAS EATEN BY HIS PUP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ER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 NOVELS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WHICH WAS WRITTEN IN 1960, WON A PULITZER PRIZE IN 1961, AND WAS MADE INTO A HIT MOVIE IN 19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CTOR  HU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 SENTENCE OF 823 WORDS IN "LES MISÉRAB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SIDERED "SMALL SAM" AND "PUNY PETE" BEFORE SETTLING ON THE CHARACTER OF "TINY TI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. A. MIL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MED THE ONLY HUMAN CHARACTER IN A POPULAR BOOK SERIES AFTER HIS SON, CHRISTOPHER ROB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CALLED A FIRE STATION TO ASK AT WHAT TEMPERATURE PAPER BURNED, AND WAS PUT ON HOLD WHILE THEY BURNED A BOOK TO FIND OU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. L.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FIFTY SHADES OF GREY" WAS ORIGINALLY WRITTEN AS FAN FICTION FOR "TWI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ET  BEECHER  ST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UNCLE TOM'S CABIN" LIVED NEXT TO MARK TW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USED TO BE A POP SINGER WHO PUT OUT AN ALBUM CALLED "ANGELS AND DEM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RIGINALLY HAD A MELANCHOLY PARROT INSTEAD OF A RAVEN IN HIS FAMOUS PO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O REWRITE "OF MICE AND MEN" WHEN THE ORIGINAL MANUSCRIPT WAS EATEN BY HIS PUPP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 NOVELS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WHICH WAS WRITTEN IN 1960, WON A PULITZER PRIZE IN 1961, AND WAS MADE INTO A HIT MOVIE IN 196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 SENTENCE OF 823 WORDS IN "LES MISÉRAB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SIDERED "SMALL SAM" AND "PUNY PETE" BEFORE SETTLING ON THE CHARACTER OF "TINY TI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MED THE ONLY HUMAN CHARACTER IN A POPULAR BOOK SERIES AFTER HIS SON, CHRISTOPHER ROB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FIFTY SHADES OF GREY" WAS ORIGINALLY WRITTEN AS FAN FICTION FOR "TWI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9T17:40:12Z</dcterms:created>
  <dc:creator>Jennifer Budzinski</dc:creator>
  <dc:description/>
  <dc:language>en-US</dc:language>
  <cp:lastModifiedBy>Erich Friedman</cp:lastModifiedBy>
  <dcterms:modified xsi:type="dcterms:W3CDTF">2020-09-01T18:47:02Z</dcterms:modified>
  <cp:revision>349</cp:revision>
  <dc:subject/>
  <dc:title>Slide 1</dc:title>
</cp:coreProperties>
</file>