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3AF3-37AE-41F9-93AC-1F609FD41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B802-0F47-4EB7-9F13-8590A324D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28EA-8C01-49CA-AD42-09A094316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EA93-F9E1-4534-BEF6-CE0C46D8D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4B55-2293-4DFF-96D2-D816E95B8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759F-7F8F-40ED-96EE-596139D26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64A2-3EBA-45AC-9579-D946C0766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E3CE-B289-488B-AFAF-45791AA41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AC9D-B971-409C-B53E-538466A19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5099-D36E-4EF9-BCC2-1FC67286F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4637-5D66-47D7-9DBC-010A42903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2A0D-DC8E-4686-AF5D-2630FB0E8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595C-C9DB-46F5-B571-666882F71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B8E0-45B0-422D-AB52-5FB4138DB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894E-35C6-40FF-B18E-FEC054945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9823-AC02-44F3-AA9D-4950D3F37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7E94-00DF-43D4-956D-5ADD4AEDF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0EC6-1A4C-4175-9639-D28F8EC0D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8D2F-6FA3-4398-8FA8-78B9D0B40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1908-712A-4E3C-9E8A-4F30403FD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9809-20E1-4A89-8E17-A682E710F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83D5-3990-47C3-BC84-A883E9301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37FD-49EE-420E-A265-D0BE77353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TERAL TRANSL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DIRECTED BY FREDRICO FELLINI HAS LITERAL TRANSLATION "THE SWEET L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PECIALIZING IN ELECTRONIC MUSIC HAS A GERMAN NAME WITH LITERAL TRANSLATION "POWER ST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HAGAVAD  G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NDU BOOK OF POEMS HAS LITERAL TRANSLATION "SONG OF G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34308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TRE  D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308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THEDRAL IN FRANCE HAS LITERAL TRANSLATION "OUR LA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R'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IGIOUS TEXT HAS LITERAL TRANSLATION "THE RECIT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ANAN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NUMENT HAS LITERAL TRANSLATION "CHINESE GATE OF HEAVENLY PE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IN  KAMP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AUTOBIOGRAPHY HAS LITERAL TRANSLATION "MY STRUGG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S  LIED  VON  DER  E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YMPHONY BY GUSTAV MAHLER HAS LITERAL TRANSLATION "THE SONG OF THE EAR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R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IGIOUS TEXT HAS LITERAL TRANSLATION "INSTRUC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NDU BOOK OF POEMS HAS LITERAL TRANSLATION "SONG OF G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HU  PICCH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TE IN PERU HAS LITERAL TRANSLATION "OLD PEAK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  DOLCE  V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19320" y="762120"/>
            <a:ext cx="6705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DIRECTED BY FREDRICO FELLINI HAS LITERAL TRANSLATION "THE SWEET L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AFTWE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PECIALIZING IN ELECTRONIC MUSIC HAS A GERMAN NAME WITH LITERAL TRANSLATION "POWER ST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THEDRAL IN FRANCE HAS LITERAL TRANSLATION "OUR LAD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IGIOUS TEXT HAS LITERAL TRANSLATION "THE RECIT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NUMENT HAS LITERAL TRANSLATION "CHINESE GATE OF HEAVENLY PEA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AUTOBIOGRAPHY HAS LITERAL TRANSLATION "MY STRUGG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YMPHONY BY GUSTAV MAHLER HAS LITERAL TRANSLATION "THE SONG OF THE EAR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IGIOUS TEXT HAS LITERAL TRANSLATION "INSTRUC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TE IN PERU HAS LITERAL TRANSLATION "OLD PEAK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1T22:53:02Z</dcterms:created>
  <dc:creator>Jennifer Budzinski</dc:creator>
  <dc:description/>
  <dc:language>en-US</dc:language>
  <cp:lastModifiedBy>Erich Friedman</cp:lastModifiedBy>
  <dcterms:modified xsi:type="dcterms:W3CDTF">2020-09-01T18:47:25Z</dcterms:modified>
  <cp:revision>357</cp:revision>
  <dc:subject/>
  <dc:title>Slide 1</dc:title>
</cp:coreProperties>
</file>