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33DC-DE5D-4283-BE7C-BAAD0B941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0608-48A4-449E-97E3-27D1102EF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4D64-0943-4777-92B9-EA47D731C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2E08-AF54-4D5A-A0CF-98DD5B561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35D4-36D1-4EB7-9FB3-C8E92FCEA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A71C-3507-49ED-A402-6774DE25D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2380-9A7D-4503-BE7C-D65D35F2B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3562-269D-46A0-BAC2-A20164174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3621-356C-4F31-9E0E-A21101D53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3A44-D580-4383-9A9A-1863D528A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52C3-B10F-4E69-BD67-EEF2D8F24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3C81-9748-4D5B-82FD-FDD5A3AFD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9E24-216B-4387-ACAE-85D66F955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AE08-291C-409A-986D-05714130D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F3B4-B10C-456F-8F08-DDC64673B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2298-A251-4B82-9DDC-4688CEE8A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A6AA-02D2-49B3-87D4-0E47AFFC0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3285-CB6F-4216-82BE-F975299BF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4495-B086-44E5-95F6-25B8EE202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6FC4-36AA-47BB-8A9E-3FBFCD0EA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23E0-CC04-4D84-BCE7-CEBB3E710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8F40-8A61-49EC-9478-71C16997A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E80F-A0C7-422E-A601-56CD3F538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TERAL TRANS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DIRECTED BY FREDRICO FELLINI HAS LITERAL TRANSLATION "THE SWEET L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PECIALIZING IN ELECTRONIC MUSIC HAS A GERMAN NAME WITH LITERAL TRANSLATION "POWER ST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HAGAVAD  G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NDU BOOK OF POEMS HAS LITERAL TRANSLATION "SONG OF G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430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RE  D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HEDRAL IN FRANCE HAS LITERAL TRANSLATION "OUR LA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R'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GIOUS TEXT HAS LITERAL TRANSLATION "THE RECIT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ANAN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UMENT HAS LITERAL TRANSLATION "CHINESE GATE OF HEAVENLY PE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IN  KAMP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AUTOBIOGRAPHY HAS LITERAL TRANSLATION "MY STRUGG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  LIED  VON  DER  E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MPHONY BY GUSTAV MAHLER HAS LITERAL TRANSLATION "THE SONG OF THE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GIOUS TEXT HAS LITERAL TRANSLATION "INSTRUC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NDU BOOK OF POEMS HAS LITERAL TRANSLATION "SONG OF G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HU  PICC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TE IN PERU HAS LITERAL TRANSLATION "OLD PEA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  DOLCE  V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19320" y="762120"/>
            <a:ext cx="670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DIRECTED BY FREDRICO FELLINI HAS LITERAL TRANSLATION "THE SWEET L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AFTWE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PECIALIZING IN ELECTRONIC MUSIC HAS A GERMAN NAME WITH LITERAL TRANSLATION "POWER ST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HEDRAL IN FRANCE HAS LITERAL TRANSLATION "OUR LA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GIOUS TEXT HAS LITERAL TRANSLATION "THE RECIT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UMENT HAS LITERAL TRANSLATION "CHINESE GATE OF HEAVENLY PE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AUTOBIOGRAPHY HAS LITERAL TRANSLATION "MY STRUGG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MPHONY BY GUSTAV MAHLER HAS LITERAL TRANSLATION "THE SONG OF THE EAR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GIOUS TEXT HAS LITERAL TRANSLATION "INSTRUC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TE IN PERU HAS LITERAL TRANSLATION "OLD PEAK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1T22:53:02Z</dcterms:created>
  <dc:creator>Jennifer Budzinski</dc:creator>
  <dc:description/>
  <dc:language>en-US</dc:language>
  <cp:lastModifiedBy>Erich Friedman</cp:lastModifiedBy>
  <dcterms:modified xsi:type="dcterms:W3CDTF">2020-09-01T18:47:25Z</dcterms:modified>
  <cp:revision>357</cp:revision>
  <dc:subject/>
  <dc:title>Slide 1</dc:title>
</cp:coreProperties>
</file>