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6AC5-C552-45FE-98AC-17E7950F0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54ED-E779-453A-965F-6F371D844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5CD-11C3-4DB2-B672-E21135865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3545-005A-49D8-AA52-0F2534A2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7A52-E144-4A48-8A61-8FC4DA8F3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FD0-0926-4983-AD78-9954808D8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5541-D976-4796-BCA2-CBF8BCE42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C396-69BA-4C73-819C-C22EEA2B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9981-09B3-4241-B49F-8A1EB8A10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C7BE-7CB9-43A6-BD4D-7C589DF7D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A20F-09B6-495A-B179-6B0B23CE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4636-F519-4415-ADAD-71C7FE7F3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CC26-0260-43F9-ADFB-C980ADEA2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A580-A94B-4A6A-938A-5FB60C8FC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B79-E82E-43BC-ABF5-3AB61C77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E373-4786-445A-9E4D-61155B26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98AD-1F05-4230-A838-E5EDDF6C9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82BC-A5A1-4EA2-8A93-31105D472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AAFC-CD5C-478E-BE9A-99D7F8707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1D9-C8DA-4B08-B11C-4813D8F90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39B-623A-4954-ADDB-DB8D231B6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56C6-162A-47DD-9C66-82F2F988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F155-D040-48B0-A0A5-57040533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FREDRICO FELLINI HAS LITERAL TRANSLATION "THE SWEET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PECIALIZING IN ELECTRONIC MUSIC HAS A GERMAN NAME WITH LITERAL TRANSLATION "POWER S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HAGAVAD  G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NDU BOOK OF POEMS HAS LITERAL TRANSLATION "SONG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RE  D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EDRAL IN FRANCE HAS LITERAL TRANSLATION "OUR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R'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THE RECI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ANAN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UMENT HAS LITERAL TRANSLATION "CHINESE GATE OF HEAVENLY PE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IN  KAM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UTOBIOGRAPHY HAS LITERAL TRANSLATION "MY STRUGG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  LIED  VON  DER  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PHONY BY GUSTAV MAHLER HAS LITERAL TRANSLATION "THE SONG OF THE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INSTRU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NDU BOOK OF POEMS HAS LITERAL TRANSLATION "SONG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HU  PIC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E IN PERU HAS LITERAL TRANSLATION "OLD PEA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DOLCE  V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FREDRICO FELLINI HAS LITERAL TRANSLATION "THE SWEET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PECIALIZING IN ELECTRONIC MUSIC HAS A GERMAN NAME WITH LITERAL TRANSLATION "POWER S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HEDRAL IN FRANCE HAS LITERAL TRANSLATION "OUR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THE RECI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UMENT HAS LITERAL TRANSLATION "CHINESE GATE OF HEAVENLY PE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UTOBIOGRAPHY HAS LITERAL TRANSLATION "MY STRUGG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MPHONY BY GUSTAV MAHLER HAS LITERAL TRANSLATION "THE SONG OF THE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TEXT HAS LITERAL TRANSLATION "INSTRU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E IN PERU HAS LITERAL TRANSLATION "OLD PEA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22:53:02Z</dcterms:created>
  <dc:creator>Jennifer Budzinski</dc:creator>
  <dc:description/>
  <dc:language>en-US</dc:language>
  <cp:lastModifiedBy>Erich Friedman</cp:lastModifiedBy>
  <dcterms:modified xsi:type="dcterms:W3CDTF">2020-09-01T18:47:25Z</dcterms:modified>
  <cp:revision>357</cp:revision>
  <dc:subject/>
  <dc:title>Slide 1</dc:title>
</cp:coreProperties>
</file>