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71E0-96B5-42D9-A6DF-E601C8DEB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5BDC-7B98-4555-B54E-73F3D7702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D840-34EA-46A7-A8AE-C16B79A0C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74A7-070B-4DFC-88A0-4C190B370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46A0-9016-44B6-A491-DA2CE77F4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78DF-2B9C-48CF-966A-F465AD026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FE95-DA5A-42E0-90AB-21CAF953C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55B7-CE27-4015-9297-9B42F9586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A651-E505-47B9-B306-C12D4F425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2126-AA76-4D25-ADEF-BF94B72F9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09A9-375C-4AA5-A862-4E119818A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8F58-164B-4FE1-9090-C7132A830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7601-5FB1-49AE-BBEB-ACDB81669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7AA2-03C1-44BB-8EB1-8149689B9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6B83-8FB8-4429-8F6B-5D1201CF2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688E-6E49-41A4-807B-F62BD0D75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7365-6ACD-4B4C-A760-6C2C571D1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8EB9-6CD0-4953-BDE7-973879A05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38E5-1F39-4A84-8547-153F69C8A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0DA3-8186-485F-902D-74C26B465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6336-7B1B-40EB-97A3-621AAE200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0182-3D96-4801-B750-570225C33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2F05-ADB2-4077-AB9F-BDA2FCB2A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90720" y="1523880"/>
            <a:ext cx="7162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UR LETTER WO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81040" y="761760"/>
            <a:ext cx="7981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MUSICAL GROUP WHOSE NAME CONTAINS 4 LET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BOOK WITH A 4-LETTER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OWA,  OHIO  &amp;  UT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28880" y="762120"/>
            <a:ext cx="7086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3 U.S. STATES WHOSE NAMES HAVE 4 LET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D,  IRON,  LEAD,  NEON  &amp;  ZINC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57160" y="762120"/>
            <a:ext cx="7429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5 CHEMICAL ELEMENTS WHOSE NAMES HAVE 4 LET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3040"/>
            <a:ext cx="82296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TE,  KIWI,  LIME,  PEAR  &amp;  PLUM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71520" y="768240"/>
            <a:ext cx="6600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5 FRUITS WHOSE NAMES HAVE 4 LET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54600"/>
            <a:ext cx="84582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D,  MALI  &amp;  TO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76320" y="739800"/>
            <a:ext cx="7191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3 AFRICAN COUNTRIES WHOSE NAMES HAVE 4 LET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790560" y="4876920"/>
            <a:ext cx="7562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LK,  TAFT  &amp;  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38120" y="762120"/>
            <a:ext cx="8267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3 LAST NAMES OF U.S. PRESIDENTS BESIDES BUSH SR. AND BUSH JR. THAT CONTAIN 4 LET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KE,  LEON  &amp;  LE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3 FLORIDA COUNTIES STARTING WITH "L" AND HAVING 4 LET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SCORING 4-LETTER WORD IN SCRAB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95280" y="762120"/>
            <a:ext cx="6553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3 U.S. STATES WHOSE NAMES HAVE 4 LET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A,  ZETA  &amp;  I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00080" y="762120"/>
            <a:ext cx="7143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3 GREEK LETTERS THAT HAVE 4-LETTER ENGLISH N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771560" y="4876920"/>
            <a:ext cx="5600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C / D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95440" y="762120"/>
            <a:ext cx="7953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MUSICAL GROUP WHOSE NAME CONTAINS 4 LET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43080" y="76212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BOOK WITH A 4-LETTER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5 CHEMICAL ELEMENTS WHOSE NAMES HAVE 4 LET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352520" y="762120"/>
            <a:ext cx="6438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5 FRUITS WHOSE NAMES HAVE 4 LET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71640" y="762120"/>
            <a:ext cx="7200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3 AFRICAN COUNTRIES WHOSE NAMES HAVE 4 LET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3 LAST NAMES OF U.S. PRESIDENTS BESIDES BUSH SR. AND BUSH JR. THAT CONTAIN 4 LET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52600" y="761760"/>
            <a:ext cx="8038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3 FLORIDA COUNTIES STARTING WITH "L" AND HAVING 4 LET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SCORING 4-LETTER WORD IN SCRABB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3 GREEK LETTERS THAT HAVE 4-LETTER ENGLISH NA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4:32:26Z</dcterms:created>
  <dc:creator>Jennifer Budzinski</dc:creator>
  <dc:description/>
  <dc:language>en-US</dc:language>
  <cp:lastModifiedBy>Erich Friedman</cp:lastModifiedBy>
  <dcterms:modified xsi:type="dcterms:W3CDTF">2020-09-01T18:47:50Z</dcterms:modified>
  <cp:revision>341</cp:revision>
  <dc:subject/>
  <dc:title>Slide 1</dc:title>
</cp:coreProperties>
</file>