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9375-9EF5-4C84-A4C8-17E6E9C3C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3C40-CD9A-4320-A839-AD8C9CDCB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F90D-7C2A-4F1C-9597-603EC5400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B160-F2D5-435E-A969-D4A8510CB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E96F-8C18-4950-8259-157AD4F1A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0BE4-17BE-4548-86E5-0EEB0DC98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FCF4-FC8A-4EB5-867E-2226B66AF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5116-9257-4EEF-991C-05CEA27AC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4F64-D8DE-46D7-A504-129E007C0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E900-40B1-4CF9-A94B-DBE39C995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324A-6A41-4C5F-87CF-5A8115803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5B5C-CF51-469F-A377-70C25D492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69D6-E010-4B24-B97C-B9EC1739B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99BC-F7FA-41F0-969D-AD194768E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06F3-F222-4070-93EA-309545162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5EDA-2332-4D17-A1F4-9710CBD41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D98A-7306-4FEA-9A27-7E22A166A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2AB7-DD15-400B-A1D1-9ADDF1F03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7AC6-A95A-4C92-88A5-320F7AE96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8B7D-2DA4-4D57-878A-14616467E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B16E-485B-4E1F-8509-2B72D1C93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5C875-8A75-47E9-9DC6-31E74E7DD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DFDF-B309-4F4A-919F-D80C5EBF2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90720" y="1523880"/>
            <a:ext cx="7162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UR LETTER WOR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81040" y="761760"/>
            <a:ext cx="7981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MUSICAL GROUP WHOSE NAME CONTAINS 4 LETT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BOOK WITH A 4-LETTER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0" y="48769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OWA,  OHIO  &amp;  UT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28880" y="762120"/>
            <a:ext cx="7086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3 U.S. STATES WHOSE NAMES HAVE 4 LET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LD,  IRON,  LEAD,  NEON  &amp;  ZINC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57160" y="762120"/>
            <a:ext cx="7429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5 CHEMICAL ELEMENTS WHOSE NAMES HAVE 4 LET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83040"/>
            <a:ext cx="82296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TE,  KIWI,  LIME,  PEAR  &amp;  PLUM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71520" y="768240"/>
            <a:ext cx="6600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5 FRUITS WHOSE NAMES HAVE 4 LET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54600"/>
            <a:ext cx="84582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D,  MALI  &amp;  TO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76320" y="739800"/>
            <a:ext cx="7191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3 AFRICAN COUNTRIES WHOSE NAMES HAVE 4 LET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790560" y="4876920"/>
            <a:ext cx="7562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LK,  TAFT  &amp;  F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38120" y="762120"/>
            <a:ext cx="8267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3 LAST NAMES OF U.S. PRESIDENTS BESIDES BUSH SR. AND BUSH JR. THAT CONTAIN 4 LET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KE,  LEON  &amp;  LE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3 FLORIDA COUNTIES STARTING WITH "L" AND HAVING 4 LET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SCORING 4-LETTER WORD IN SCRAB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95280" y="762120"/>
            <a:ext cx="6553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3 U.S. STATES WHOSE NAMES HAVE 4 LETT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TA,  ZETA  &amp;  I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00080" y="762120"/>
            <a:ext cx="7143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3 GREEK LETTERS THAT HAVE 4-LETTER ENGLISH NA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771560" y="4876920"/>
            <a:ext cx="5600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C / D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95440" y="762120"/>
            <a:ext cx="79531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MUSICAL GROUP WHOSE NAME CONTAINS 4 LET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43080" y="76212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BOOK WITH A 4-LETTER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95320" y="761760"/>
            <a:ext cx="7353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5 CHEMICAL ELEMENTS WHOSE NAMES HAVE 4 LETT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352520" y="762120"/>
            <a:ext cx="6438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5 FRUITS WHOSE NAMES HAVE 4 LET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71640" y="762120"/>
            <a:ext cx="7200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3 AFRICAN COUNTRIES WHOSE NAMES HAVE 4 LETT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3 LAST NAMES OF U.S. PRESIDENTS BESIDES BUSH SR. AND BUSH JR. THAT CONTAIN 4 LETT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52600" y="761760"/>
            <a:ext cx="8038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3 FLORIDA COUNTIES STARTING WITH "L" AND HAVING 4 LETT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SCORING 4-LETTER WORD IN SCRABB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3 GREEK LETTERS THAT HAVE 4-LETTER ENGLISH NA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14:32:26Z</dcterms:created>
  <dc:creator>Jennifer Budzinski</dc:creator>
  <dc:description/>
  <dc:language>en-US</dc:language>
  <cp:lastModifiedBy>Erich Friedman</cp:lastModifiedBy>
  <dcterms:modified xsi:type="dcterms:W3CDTF">2020-09-01T18:47:50Z</dcterms:modified>
  <cp:revision>341</cp:revision>
  <dc:subject/>
  <dc:title>Slide 1</dc:title>
</cp:coreProperties>
</file>