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0394-A8FD-40CA-9D7D-4FB035264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7BBD-34B2-4CDD-95B5-9DDB472DB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EB01-B149-49B7-A882-DCAA4A0C7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66C7-A34D-48D3-AED8-29A2D734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7F38-1F8C-4008-8D4F-CA2554F26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500C-650E-4D9B-BD1F-2D786E9D7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9619-B0A9-46EE-BB2A-7851A8189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D84C-D952-470D-93C0-A4AF6340C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6F8E-015E-4798-81CA-8CCB7AA48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CE83-69E2-49FA-8F96-7D532FB7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6ECC-59D1-4E4E-BE2E-0AD26873C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53DD-DA3E-46FA-9D33-95414F0A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E0C9-E086-4BD0-80D5-E2449EED1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5369-82BA-4CCF-9FE9-1E7D1DC62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BA1A-E6B1-4A25-A432-711D0AA8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CED0-CE42-487C-B84C-17A17EE82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F4F4-7CA0-41F3-844F-09DE3FA89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BFBF-2069-4923-B7FF-0385AA982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25CE-9EBE-4236-AFEA-D5780E1C4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D3CB-C4EB-4BC9-97D6-6A6577A78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0BB1-D687-4022-8F46-241A09237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2DFB-10CD-4B06-AFB7-9D0A36393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BBE6-F37F-4C96-A267-A93C7B16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 LETTER 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MUSICAL GROUP WHOSE NAME CONTAINS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OOK WITH A 4-LETTER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OWA,  OHIO  &amp;  UT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U.S. STATE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,  IRON,  LEAD,  NEON  &amp;  ZINC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HEMICAL ELEMENT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E,  KIWI,  LIME,  PEAR  &amp;  PLUM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71520" y="768240"/>
            <a:ext cx="660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FRUIT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4600"/>
            <a:ext cx="8458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D,  MALI  &amp;  T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76320" y="739800"/>
            <a:ext cx="71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AFRICAN COUNTRIE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790560" y="4876920"/>
            <a:ext cx="7562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K,  TAFT  &amp;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LAST NAMES OF U.S. PRESIDENTS BESIDES BUSH SR. AND BUSH JR. THAT CONTAIN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,  LEON  &amp;  LE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FLORIDA COUNTIES STARTING WITH "L" AND HAVING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CORING 4-LETTER WORD IN SCRAB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U.S. STATES WHOSE NAMES HAVE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A,  ZETA  &amp;  I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GREEK LETTERS THAT HAVE 4-LETTER ENGLISH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71560" y="4876920"/>
            <a:ext cx="560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 / 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95440" y="762120"/>
            <a:ext cx="795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MUSICAL GROUP WHOSE NAME CONTAINS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OOK WITH A 4-LETTER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HEMICAL ELEMENTS WHOSE NAMES HAVE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2520" y="762120"/>
            <a:ext cx="643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FRUIT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AFRICAN COUNTRIES WHOSE NAMES HAVE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LAST NAMES OF U.S. PRESIDENTS BESIDES BUSH SR. AND BUSH JR. THAT CONTAIN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FLORIDA COUNTIES STARTING WITH "L" AND HAVING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CORING 4-LETTER WORD IN SCRAB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GREEK LETTERS THAT HAVE 4-LETTER ENGLISH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9-01T18:47:50Z</dcterms:modified>
  <cp:revision>341</cp:revision>
  <dc:subject/>
  <dc:title>Slide 1</dc:title>
</cp:coreProperties>
</file>