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E5E9-7E59-4F02-B2AC-DE949C3F8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13B4-826E-49E0-8D62-852F970A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16ED-F5E1-42CF-86D5-143FA31C5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0F77-B8DA-4D27-B4C3-23A149E8F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3A74-BA94-4684-860C-892F4EE98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FD54-2AD1-4E55-8BC7-CF29CD24C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135B9-BE39-45F2-BCC5-FF2FC58C3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B5F9-CAED-4B0D-B013-0D7A5C5B3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611A-4B53-4EF6-93FD-15FB50C20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8C26-878F-4548-9D71-52249BEB4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D679-B6CF-4EEB-9576-F75F1CACF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302E-0A66-49F0-ABD8-49A70DF0A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519F-8268-4EC2-A265-C178A6143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69BE-0121-4D84-8BA0-39EDC22FB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1B51-0121-46D8-9747-472DC1236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2FE1-1BB4-4DEE-8189-D2FC8A2B8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215E-4F20-42DA-B08E-4A5C0CD13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0128-6453-400D-841D-A97E9F53D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0FC3-1B75-4B04-9AE9-4F4497AE3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D36D-D7C3-45A0-B129-B9677B3DA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03F5-1848-49EC-A526-931FAC831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426E-4B4D-4AE2-AC40-668EAB4E9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B4CF-67FC-4A0E-97E9-FA63F3FC0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5148-CEE2-4E01-AB1C-158682854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ROPRIATE CELEBRITY ANA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CIENTIST HAS ANAGRAM "ME, RADIUM 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/ DIRECTOR HAS ANAGRAM "OLD WEST A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MO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S ANAGRAM "MR. MOJO RISIN' 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R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OP GUN" ACTOR HAS ANAGRAM "SO I'M CU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51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C  GUIN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ACTOR HAS ANAGRAM "GENUINE C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AN  RUSH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INDIAN AUTHOR HAS ANAGRAM "READ, SHUN ISL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CORS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4788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WARD-WINNING DIRECTOR HAS ANAGRAM "SCREEN IS A STO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LETT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8120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TALK SHOW HOST HAS ANAGRAM  "NERD AMID LATE T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S ANAGRAM "HE BUGS GO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S ANAGRAM "MR. MOJO RISIN' 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A  H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FIGURE SKATER HAS ANAGRAM "DO AN ANGRY H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44792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AM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CIENTIST HAS ANAGRAM "ME, RADIUM 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NT  EAST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66760" y="762120"/>
            <a:ext cx="8610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/ DIRECTOR HAS ANAGRAM "OLD WEST A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the winners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OP GUN" ACTOR HAS ANAGRAM "SO I'M CU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TAR WARS" ACTOR HAS ANAGRAM "GENUINE C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INDIAN AUTHOR HAS ANAGRAM "READ, SHUN ISL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WARD-WINNING DIRECTOR HAS ANAGRAM "SCREEN IS A STO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TALK SHOW HOST HAS ANAGRAM  "NERD AMID LATE T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S ANAGRAM "HE BUGS GO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FIGURE SKATER HAS ANAGRAM "DO AN ANGRY H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2T13:48:18Z</dcterms:created>
  <dc:creator>Jennifer Budzinski</dc:creator>
  <dc:description/>
  <dc:language>en-US</dc:language>
  <cp:lastModifiedBy>Erich Friedman</cp:lastModifiedBy>
  <dcterms:modified xsi:type="dcterms:W3CDTF">2020-09-02T09:47:27Z</dcterms:modified>
  <cp:revision>343</cp:revision>
  <dc:subject/>
  <dc:title>Slide 1</dc:title>
</cp:coreProperties>
</file>