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2C2B-382F-4BEB-9081-BC97B8FD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4D3C-9C30-4BF5-A29F-020B5829F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9159-2C3A-4BD1-9BC9-2ECE5A47D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039B-0FB8-4F5C-9B85-8FB1821D6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0CA0-66E6-4010-8835-23BCC2E60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C6A1-7A20-49B7-B24C-1CFAFCECE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F8DC-0F79-4AD3-AECC-151C4968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46FB-66B7-408D-9656-B5F41A70C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A368-A932-4266-B3BC-09304A36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1BC6-1143-483F-BE09-02000276A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2358-DC0D-426C-BD10-26D520E20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E176-BC05-4187-92E9-8D526BD9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1EE2-8D84-4E60-98EA-EA4F91BC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D0A6-86AE-49E1-81DE-A74E62DC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CBBD-17B4-4FE8-9798-786EDB76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C7B9-B74A-4AB7-BD33-1FC36F5A4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D570-F084-4DFE-A4B3-F19A04C0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7E66-8568-42A7-918B-42E8BB822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7EAC-2936-4D63-A131-1DBC730D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08C2-21D8-475F-BF78-805148BFD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92B4-981E-448C-9356-405F4D7C7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962E-DA9F-4CCC-8F68-2065FC1A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C64B-3939-420A-BC01-2472CA7F8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E72D-C772-45AA-915E-37C66D893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ROPRIATE CELEBRITY ANA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CIENTIST HAS ANAGRAM "ME, RADIUM 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/ DIRECTOR HAS ANAGRAM "OLD WEST A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S ANAGRAM "MR. MOJO RISIN' 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P GUN" ACTOR HAS ANAGRAM "SO I'M CU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51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GUI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ACTOR HAS ANAGRAM "GENUINE C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AN  RUSH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INDIAN AUTHOR HAS ANAGRAM "READ, SHUN ISL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CORS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4788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WARD-WINNING DIRECTOR HAS ANAGRAM "SCREEN IS A STO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LETT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8120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TALK SHOW HOST HAS ANAGRAM  "NERD AMID LATE T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S ANAGRAM "HE BUGS GO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S ANAGRAM "MR. MOJO RISIN' 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A  H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GURE SKATER HAS ANAGRAM "DO AN ANGRY H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44792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AM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CIENTIST HAS ANAGRAM "ME, RADIUM 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NT  EAST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6760" y="762120"/>
            <a:ext cx="8610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/ DIRECTOR HAS ANAGRAM "OLD WEST A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the winners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P GUN" ACTOR HAS ANAGRAM "SO I'M CU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ACTOR HAS ANAGRAM "GENUINE C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INDIAN AUTHOR HAS ANAGRAM "READ, SHUN ISL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WARD-WINNING DIRECTOR HAS ANAGRAM "SCREEN IS A STO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TALK SHOW HOST HAS ANAGRAM  "NERD AMID LATE T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S ANAGRAM "HE BUGS GO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GURE SKATER HAS ANAGRAM "DO AN ANGRY H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3:48:18Z</dcterms:created>
  <dc:creator>Jennifer Budzinski</dc:creator>
  <dc:description/>
  <dc:language>en-US</dc:language>
  <cp:lastModifiedBy>Erich Friedman</cp:lastModifiedBy>
  <dcterms:modified xsi:type="dcterms:W3CDTF">2020-09-02T09:47:27Z</dcterms:modified>
  <cp:revision>343</cp:revision>
  <dc:subject/>
  <dc:title>Slide 1</dc:title>
</cp:coreProperties>
</file>