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2AA8-AEB9-4139-92DA-AB8B778B2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27A2-6469-46F8-BB7E-0524B8E77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F261-C35C-48AA-A87C-E7AE89BB9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3BAC-F09E-4B1F-AE95-A19ADB88D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9E44-5BC0-4D4F-99A7-F4EBBC1B2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679A-3703-4F94-911A-02A837DB1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2183-4138-47DC-AE15-51BA0B605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7AE6-3C50-4025-8426-6BA7E2D20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A978-F3DA-438B-BCD1-1E7485A59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785D-DC16-4B5D-98F4-527F79956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8DFB-E769-43EC-978E-FE3AB9D85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5FBD-36A4-47EC-B4C5-BEB1CE277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1150-344D-420E-B1A4-BB2DBAB8C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F960-1C57-4ECA-AD2B-4223F4B3E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E67B-C30B-44AD-8CA6-A59905393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8B9C-DBF6-4C57-ABA0-480D070C4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9A78-1C27-4EB4-9F93-2F7FA2F2E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190E-5978-4BF2-B5FD-75F3A02B2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6E99-9298-42D3-A88D-7C5CBAA92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5832-145F-49F7-A965-1EC79A91F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2087-1B7E-4989-9FD9-55C68D216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62B4-909D-4449-B9A9-12B4CCD54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8B35-FC88-4ACD-AEE8-A66B15D25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94DD-3F77-4514-A5F0-3E49F03E5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14400" y="990360"/>
            <a:ext cx="7315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PPROPRIATE CELEBRITY ANAGRA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SCIENTIST HAS ANAGRAM "ME, RADIUM A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28600" y="762120"/>
            <a:ext cx="8686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/ DIRECTOR HAS ANAGRAM "OLD WEST AC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MORR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HAS ANAGRAM "MR. MOJO RISIN' 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CRU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TOP GUN" ACTOR HAS ANAGRAM "SO I'M CUT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512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C  GUIN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57480" y="762120"/>
            <a:ext cx="6629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TAR WARS" ACTOR HAS ANAGRAM "GENUINE CLA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MAN  RUSHD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2120" y="762120"/>
            <a:ext cx="76197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INDIAN AUTHOR HAS ANAGRAM "READ, SHUN ISLA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TIN  SCORS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4788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WARD-WINNING DIRECTOR HAS ANAGRAM "SCREEN IS A STOR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LETTER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81200"/>
            <a:ext cx="7315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TALK SHOW HOST HAS ANAGRAM  "NERD AMID LATE TV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B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PRESIDENT HAS ANAGRAM "HE BUGS GO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HAS ANAGRAM "MR. MOJO RISIN' 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YA  HAR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FIGURE SKATER HAS ANAGRAM "DO AN ANGRY HI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447920" y="4876920"/>
            <a:ext cx="6324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DAME  CUR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SCIENTIST HAS ANAGRAM "ME, RADIUM A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INT  EAST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266760" y="762120"/>
            <a:ext cx="8610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/ DIRECTOR HAS ANAGRAM "OLD WEST AC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d the winners ar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TOP GUN" ACTOR HAS ANAGRAM "SO I'M CUT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447920" y="762120"/>
            <a:ext cx="6248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TAR WARS" ACTOR HAS ANAGRAM "GENUINE CLA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INDIAN AUTHOR HAS ANAGRAM "READ, SHUN ISLA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WARD-WINNING DIRECTOR HAS ANAGRAM "SCREEN IS A STOR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TALK SHOW HOST HAS ANAGRAM  "NERD AMID LATE TV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PRESIDENT HAS ANAGRAM "HE BUGS GO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FIGURE SKATER HAS ANAGRAM "DO AN ANGRY HI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2T13:48:18Z</dcterms:created>
  <dc:creator>Jennifer Budzinski</dc:creator>
  <dc:description/>
  <dc:language>en-US</dc:language>
  <cp:lastModifiedBy>Erich Friedman</cp:lastModifiedBy>
  <dcterms:modified xsi:type="dcterms:W3CDTF">2020-09-02T09:47:27Z</dcterms:modified>
  <cp:revision>343</cp:revision>
  <dc:subject/>
  <dc:title>Slide 1</dc:title>
</cp:coreProperties>
</file>