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E501-B2F0-4FC7-ACD0-CA8ABB333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2137-5636-4709-B76C-88A798051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0891-14F3-434B-B77B-35C67F66B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EB13-7108-4859-81B2-64511A0FD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7017-651A-4332-B69F-9EB8FBADE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6534-7538-4334-82D8-CCC91A76A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5974-D186-4EC0-925D-870948975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C88D-ACB2-4B1E-AA4E-3C026184B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D341-FCED-4776-921C-F0BE16A06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0622-E4D1-4E37-8677-C34DD263A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8594-8178-440C-AF70-CEF133C47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682F-C2A2-4059-9939-AACA12527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02D9-F53B-4D53-A8AB-1249BE8A3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6EBF-EED9-4ABC-9752-0DF9CE635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3DD5-85F8-4DCB-98D4-0F0AB467C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7918-C87C-4D3F-8D5D-8E8C63F42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9506-01AC-414B-BD13-369A2B7B0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159D-C37F-4BCC-A72B-DF8D524A2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BC19-48FF-4112-9D22-50C7E6E91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2CE0-270C-476D-9073-E8022A0E9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4B8B-8089-4A39-8D08-8E6650CEC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F02B-AB50-4031-AE25-1AA14A623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38D6-354A-4150-A172-9EBB9ECBD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AUTHORS FROM CARIC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bca19dddbd274de2c20e41085ad46ed8.jpg"/>
          <p:cNvPicPr/>
          <p:nvPr/>
        </p:nvPicPr>
        <p:blipFill>
          <a:blip r:embed="rId1"/>
          <a:stretch/>
        </p:blipFill>
        <p:spPr>
          <a:xfrm>
            <a:off x="3200400" y="1219320"/>
            <a:ext cx="2743200" cy="38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04547225bc9348a50141ccc729a7c9da.jpg"/>
          <p:cNvPicPr/>
          <p:nvPr/>
        </p:nvPicPr>
        <p:blipFill>
          <a:blip r:embed="rId1"/>
          <a:stretch/>
        </p:blipFill>
        <p:spPr>
          <a:xfrm>
            <a:off x="3379680" y="1219320"/>
            <a:ext cx="238464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7932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. K. ROW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73b84a32bc2c741c4a6d8d58efcda484.jpg"/>
          <p:cNvPicPr/>
          <p:nvPr/>
        </p:nvPicPr>
        <p:blipFill>
          <a:blip r:embed="rId1"/>
          <a:stretch/>
        </p:blipFill>
        <p:spPr>
          <a:xfrm>
            <a:off x="3200400" y="1219320"/>
            <a:ext cx="283536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PHEN 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fb547e8e599a34e1d7639fc4257bb407.jpg"/>
          <p:cNvPicPr/>
          <p:nvPr/>
        </p:nvPicPr>
        <p:blipFill>
          <a:blip r:embed="rId1"/>
          <a:stretch/>
        </p:blipFill>
        <p:spPr>
          <a:xfrm>
            <a:off x="2867040" y="1219320"/>
            <a:ext cx="340992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RNEST  HEMMING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0e246d17a08029466cd987a66d963d55.jpg"/>
          <p:cNvPicPr/>
          <p:nvPr/>
        </p:nvPicPr>
        <p:blipFill>
          <a:blip r:embed="rId1"/>
          <a:stretch/>
        </p:blipFill>
        <p:spPr>
          <a:xfrm>
            <a:off x="3016080" y="1219320"/>
            <a:ext cx="311184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MAN  RUSHD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6d8a6ff943908c7d622898d5193246b1.jpg"/>
          <p:cNvPicPr/>
          <p:nvPr/>
        </p:nvPicPr>
        <p:blipFill>
          <a:blip r:embed="rId1"/>
          <a:stretch/>
        </p:blipFill>
        <p:spPr>
          <a:xfrm>
            <a:off x="3105000" y="1224000"/>
            <a:ext cx="2934000" cy="381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WIS  CARR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bfe155e701ba0088e91e43b6e812c3c7.jpg"/>
          <p:cNvPicPr/>
          <p:nvPr/>
        </p:nvPicPr>
        <p:blipFill>
          <a:blip r:embed="rId1"/>
          <a:stretch/>
        </p:blipFill>
        <p:spPr>
          <a:xfrm>
            <a:off x="2894040" y="1219320"/>
            <a:ext cx="3355920" cy="373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Y  SHEL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926e155c67060c30b57b2a7d08e0fe1a.jpg"/>
          <p:cNvPicPr/>
          <p:nvPr/>
        </p:nvPicPr>
        <p:blipFill>
          <a:blip r:embed="rId1"/>
          <a:stretch/>
        </p:blipFill>
        <p:spPr>
          <a:xfrm>
            <a:off x="2946240" y="1295280"/>
            <a:ext cx="32515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GAR  ALLAN  P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2a455a59e343be77e9904406fe08f338.jpg"/>
          <p:cNvPicPr/>
          <p:nvPr/>
        </p:nvPicPr>
        <p:blipFill>
          <a:blip r:embed="rId1"/>
          <a:stretch/>
        </p:blipFill>
        <p:spPr>
          <a:xfrm>
            <a:off x="3333600" y="1271520"/>
            <a:ext cx="247680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73b84a32bc2c741c4a6d8d58efcda484.jpg"/>
          <p:cNvPicPr/>
          <p:nvPr/>
        </p:nvPicPr>
        <p:blipFill>
          <a:blip r:embed="rId1"/>
          <a:stretch/>
        </p:blipFill>
        <p:spPr>
          <a:xfrm>
            <a:off x="3200400" y="1219320"/>
            <a:ext cx="283536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72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  TW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1853679f46811c180da3a6a2db6eb9a9.jpg"/>
          <p:cNvPicPr/>
          <p:nvPr/>
        </p:nvPicPr>
        <p:blipFill>
          <a:blip r:embed="rId1"/>
          <a:stretch/>
        </p:blipFill>
        <p:spPr>
          <a:xfrm>
            <a:off x="2781360" y="1206360"/>
            <a:ext cx="3581280" cy="378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GATHA  CHRIS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bca19dddbd274de2c20e41085ad46ed8.jpg"/>
          <p:cNvPicPr/>
          <p:nvPr/>
        </p:nvPicPr>
        <p:blipFill>
          <a:blip r:embed="rId1"/>
          <a:stretch/>
        </p:blipFill>
        <p:spPr>
          <a:xfrm>
            <a:off x="3252960" y="1279440"/>
            <a:ext cx="263808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Z  KAF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04547225bc9348a50141ccc729a7c9da.jpg"/>
          <p:cNvPicPr/>
          <p:nvPr/>
        </p:nvPicPr>
        <p:blipFill>
          <a:blip r:embed="rId1"/>
          <a:stretch/>
        </p:blipFill>
        <p:spPr>
          <a:xfrm>
            <a:off x="3403440" y="1224000"/>
            <a:ext cx="2335320" cy="380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fb547e8e599a34e1d7639fc4257bb407.jpg"/>
          <p:cNvPicPr/>
          <p:nvPr/>
        </p:nvPicPr>
        <p:blipFill>
          <a:blip r:embed="rId1"/>
          <a:stretch/>
        </p:blipFill>
        <p:spPr>
          <a:xfrm>
            <a:off x="2895480" y="1219320"/>
            <a:ext cx="34830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0e246d17a08029466cd987a66d963d55.jpg"/>
          <p:cNvPicPr/>
          <p:nvPr/>
        </p:nvPicPr>
        <p:blipFill>
          <a:blip r:embed="rId1"/>
          <a:stretch/>
        </p:blipFill>
        <p:spPr>
          <a:xfrm>
            <a:off x="2952720" y="1219320"/>
            <a:ext cx="32385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6d8a6ff943908c7d622898d5193246b1.jpg"/>
          <p:cNvPicPr/>
          <p:nvPr/>
        </p:nvPicPr>
        <p:blipFill>
          <a:blip r:embed="rId1"/>
          <a:stretch/>
        </p:blipFill>
        <p:spPr>
          <a:xfrm>
            <a:off x="3086280" y="1219320"/>
            <a:ext cx="2971800" cy="38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bfe155e701ba0088e91e43b6e812c3c7.jpg"/>
          <p:cNvPicPr/>
          <p:nvPr/>
        </p:nvPicPr>
        <p:blipFill>
          <a:blip r:embed="rId1"/>
          <a:stretch/>
        </p:blipFill>
        <p:spPr>
          <a:xfrm>
            <a:off x="2857680" y="1219320"/>
            <a:ext cx="34290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926e155c67060c30b57b2a7d08e0fe1a.jpg"/>
          <p:cNvPicPr/>
          <p:nvPr/>
        </p:nvPicPr>
        <p:blipFill>
          <a:blip r:embed="rId1"/>
          <a:stretch/>
        </p:blipFill>
        <p:spPr>
          <a:xfrm>
            <a:off x="2843280" y="1219320"/>
            <a:ext cx="345744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2a455a59e343be77e9904406fe08f338.jpg"/>
          <p:cNvPicPr/>
          <p:nvPr/>
        </p:nvPicPr>
        <p:blipFill>
          <a:blip r:embed="rId1"/>
          <a:stretch/>
        </p:blipFill>
        <p:spPr>
          <a:xfrm>
            <a:off x="3276720" y="1219320"/>
            <a:ext cx="2590560" cy="39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1853679f46811c180da3a6a2db6eb9a9.jpg"/>
          <p:cNvPicPr/>
          <p:nvPr/>
        </p:nvPicPr>
        <p:blipFill>
          <a:blip r:embed="rId1"/>
          <a:stretch/>
        </p:blipFill>
        <p:spPr>
          <a:xfrm>
            <a:off x="2697120" y="1219320"/>
            <a:ext cx="3749760" cy="3962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6T17:47:34Z</dcterms:created>
  <dc:creator>Jennifer Budzinski</dc:creator>
  <dc:description/>
  <dc:language>en-US</dc:language>
  <cp:lastModifiedBy>Erich Friedman</cp:lastModifiedBy>
  <dcterms:modified xsi:type="dcterms:W3CDTF">2020-09-04T16:29:00Z</dcterms:modified>
  <cp:revision>292</cp:revision>
  <dc:subject/>
  <dc:title>Slide 1</dc:title>
</cp:coreProperties>
</file>