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40C0-3EAC-4983-BEBF-935BAFB32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5364-FCA4-4941-973D-6C5FD3C4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869-C9B5-4B16-8AF5-3F6CF898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FCF-3DFD-4860-95C9-9E0BDDB5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FAB-1A54-4A52-8A66-F6506C85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E265-AEB9-44D8-9387-1F65009B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380-3FA3-4712-911A-1EE7831C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35D-4184-417F-80EF-0B9D7757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E2F-3ECC-4C89-B836-0CF53901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2543-4B7A-4F38-8703-D5BD1AB3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9757-9790-42E2-B76D-A0A4F346E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2972-7B7A-4A2F-B7CE-67F64388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42A-934F-446C-B2BA-E89CB4D9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471-6197-44CC-ACB6-55E356FE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4CD-82F8-415E-8B32-DAD4B07A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ED0-71DC-44D0-A24B-48DF9266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971-C1D6-41BF-B80F-45494604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6A9-6525-4590-925A-66AE8B29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76A-4334-457D-A737-8381B7CB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E0E-0BA5-4C87-ABCC-C150D205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CE47-BBFE-47B5-9D86-E8CF692D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66E4-8034-42FF-8139-5FBC77BC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D0B-B430-4DDE-BD2F-AB3829A9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UTHORS FROM CARIC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ca19dddbd274de2c20e41085ad46ed8.jp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04547225bc9348a50141ccc729a7c9da.jpg"/>
          <p:cNvPicPr/>
          <p:nvPr/>
        </p:nvPicPr>
        <p:blipFill>
          <a:blip r:embed="rId1"/>
          <a:stretch/>
        </p:blipFill>
        <p:spPr>
          <a:xfrm>
            <a:off x="3379680" y="1219320"/>
            <a:ext cx="238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79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b547e8e599a34e1d7639fc4257bb407.jpg"/>
          <p:cNvPicPr/>
          <p:nvPr/>
        </p:nvPicPr>
        <p:blipFill>
          <a:blip r:embed="rId1"/>
          <a:stretch/>
        </p:blipFill>
        <p:spPr>
          <a:xfrm>
            <a:off x="2867040" y="1219320"/>
            <a:ext cx="3409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HEMMING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e246d17a08029466cd987a66d963d55.jpg"/>
          <p:cNvPicPr/>
          <p:nvPr/>
        </p:nvPicPr>
        <p:blipFill>
          <a:blip r:embed="rId1"/>
          <a:stretch/>
        </p:blipFill>
        <p:spPr>
          <a:xfrm>
            <a:off x="3016080" y="1219320"/>
            <a:ext cx="3111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6d8a6ff943908c7d622898d5193246b1.jpg"/>
          <p:cNvPicPr/>
          <p:nvPr/>
        </p:nvPicPr>
        <p:blipFill>
          <a:blip r:embed="rId1"/>
          <a:stretch/>
        </p:blipFill>
        <p:spPr>
          <a:xfrm>
            <a:off x="3105000" y="1224000"/>
            <a:ext cx="293400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CAR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fe155e701ba0088e91e43b6e812c3c7.jpg"/>
          <p:cNvPicPr/>
          <p:nvPr/>
        </p:nvPicPr>
        <p:blipFill>
          <a:blip r:embed="rId1"/>
          <a:stretch/>
        </p:blipFill>
        <p:spPr>
          <a:xfrm>
            <a:off x="2894040" y="1219320"/>
            <a:ext cx="335592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SH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926e155c67060c30b57b2a7d08e0fe1a.jpg"/>
          <p:cNvPicPr/>
          <p:nvPr/>
        </p:nvPicPr>
        <p:blipFill>
          <a:blip r:embed="rId1"/>
          <a:stretch/>
        </p:blipFill>
        <p:spPr>
          <a:xfrm>
            <a:off x="2946240" y="1295280"/>
            <a:ext cx="3251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2a455a59e343be77e9904406fe08f338.jpg"/>
          <p:cNvPicPr/>
          <p:nvPr/>
        </p:nvPicPr>
        <p:blipFill>
          <a:blip r:embed="rId1"/>
          <a:stretch/>
        </p:blipFill>
        <p:spPr>
          <a:xfrm>
            <a:off x="3333600" y="1271520"/>
            <a:ext cx="2476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853679f46811c180da3a6a2db6eb9a9.jpg"/>
          <p:cNvPicPr/>
          <p:nvPr/>
        </p:nvPicPr>
        <p:blipFill>
          <a:blip r:embed="rId1"/>
          <a:stretch/>
        </p:blipFill>
        <p:spPr>
          <a:xfrm>
            <a:off x="2781360" y="1206360"/>
            <a:ext cx="35812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bca19dddbd274de2c20e41085ad46ed8.jpg"/>
          <p:cNvPicPr/>
          <p:nvPr/>
        </p:nvPicPr>
        <p:blipFill>
          <a:blip r:embed="rId1"/>
          <a:stretch/>
        </p:blipFill>
        <p:spPr>
          <a:xfrm>
            <a:off x="3252960" y="1279440"/>
            <a:ext cx="26380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04547225bc9348a50141ccc729a7c9da.jpg"/>
          <p:cNvPicPr/>
          <p:nvPr/>
        </p:nvPicPr>
        <p:blipFill>
          <a:blip r:embed="rId1"/>
          <a:stretch/>
        </p:blipFill>
        <p:spPr>
          <a:xfrm>
            <a:off x="3403440" y="1224000"/>
            <a:ext cx="233532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b547e8e599a34e1d7639fc4257bb407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83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e246d17a08029466cd987a66d963d55.jpg"/>
          <p:cNvPicPr/>
          <p:nvPr/>
        </p:nvPicPr>
        <p:blipFill>
          <a:blip r:embed="rId1"/>
          <a:stretch/>
        </p:blipFill>
        <p:spPr>
          <a:xfrm>
            <a:off x="2952720" y="121932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6d8a6ff943908c7d622898d5193246b1.jpg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fe155e701ba0088e91e43b6e812c3c7.jpg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926e155c67060c30b57b2a7d08e0fe1a.jpg"/>
          <p:cNvPicPr/>
          <p:nvPr/>
        </p:nvPicPr>
        <p:blipFill>
          <a:blip r:embed="rId1"/>
          <a:stretch/>
        </p:blipFill>
        <p:spPr>
          <a:xfrm>
            <a:off x="2843280" y="1219320"/>
            <a:ext cx="3457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2a455a59e343be77e9904406fe08f338.jpg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853679f46811c180da3a6a2db6eb9a9.jpg"/>
          <p:cNvPicPr/>
          <p:nvPr/>
        </p:nvPicPr>
        <p:blipFill>
          <a:blip r:embed="rId1"/>
          <a:stretch/>
        </p:blipFill>
        <p:spPr>
          <a:xfrm>
            <a:off x="2697120" y="1219320"/>
            <a:ext cx="37497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7:47:34Z</dcterms:created>
  <dc:creator>Jennifer Budzinski</dc:creator>
  <dc:description/>
  <dc:language>en-US</dc:language>
  <cp:lastModifiedBy>Erich Friedman</cp:lastModifiedBy>
  <dcterms:modified xsi:type="dcterms:W3CDTF">2020-09-04T16:29:00Z</dcterms:modified>
  <cp:revision>292</cp:revision>
  <dc:subject/>
  <dc:title>Slide 1</dc:title>
</cp:coreProperties>
</file>