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8FC-8962-4D43-AD60-19A73611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6DD-DD31-4230-B5AA-A46CCF28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766-C686-4A09-90FF-FCC751DE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470-4991-4AC5-AF69-5B98145C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B04-6741-4016-BE84-CB751084C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0A9-C245-4092-9B86-3CDD6DEC9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EE1-5185-429C-9A9C-8DDC5607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B6E3-D31B-4C35-9639-18877680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6C6-20B9-4198-A9B1-26C6529E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2BD-B7ED-4449-A8B1-9F24B7B8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9E34-1CD5-4B0F-BBD5-86056B6D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4215-EAD6-47BB-8CBA-4662B119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591-241D-4FE4-8297-3F01642F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A37-83C9-43F5-87E0-896EC8EE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F65B-E664-44DE-AB89-2563F76E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EE0-9982-4997-9B8F-F74BA69E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9B3-29D0-4F37-940B-3FD5450C7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53A4-84B5-4297-95FD-4B241E30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0069-54AE-4C35-BFAE-E85E05DF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7A2-63B3-4E89-AAB0-22134FCC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51BB-5412-4B2D-B375-5B4D9A18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FE1-A425-4497-89FB-40B04CF5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5B4-E166-4C30-8936-98F001AB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UTHORS FROM CARIC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ca19dddbd274de2c20e41085ad46ed8.jp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04547225bc9348a50141ccc729a7c9da.jpg"/>
          <p:cNvPicPr/>
          <p:nvPr/>
        </p:nvPicPr>
        <p:blipFill>
          <a:blip r:embed="rId1"/>
          <a:stretch/>
        </p:blipFill>
        <p:spPr>
          <a:xfrm>
            <a:off x="3379680" y="1219320"/>
            <a:ext cx="238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79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b547e8e599a34e1d7639fc4257bb407.jpg"/>
          <p:cNvPicPr/>
          <p:nvPr/>
        </p:nvPicPr>
        <p:blipFill>
          <a:blip r:embed="rId1"/>
          <a:stretch/>
        </p:blipFill>
        <p:spPr>
          <a:xfrm>
            <a:off x="2867040" y="1219320"/>
            <a:ext cx="3409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HEMMING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e246d17a08029466cd987a66d963d55.jpg"/>
          <p:cNvPicPr/>
          <p:nvPr/>
        </p:nvPicPr>
        <p:blipFill>
          <a:blip r:embed="rId1"/>
          <a:stretch/>
        </p:blipFill>
        <p:spPr>
          <a:xfrm>
            <a:off x="3016080" y="1219320"/>
            <a:ext cx="3111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6d8a6ff943908c7d622898d5193246b1.jpg"/>
          <p:cNvPicPr/>
          <p:nvPr/>
        </p:nvPicPr>
        <p:blipFill>
          <a:blip r:embed="rId1"/>
          <a:stretch/>
        </p:blipFill>
        <p:spPr>
          <a:xfrm>
            <a:off x="3105000" y="1224000"/>
            <a:ext cx="293400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CAR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fe155e701ba0088e91e43b6e812c3c7.jpg"/>
          <p:cNvPicPr/>
          <p:nvPr/>
        </p:nvPicPr>
        <p:blipFill>
          <a:blip r:embed="rId1"/>
          <a:stretch/>
        </p:blipFill>
        <p:spPr>
          <a:xfrm>
            <a:off x="2894040" y="1219320"/>
            <a:ext cx="335592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SH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926e155c67060c30b57b2a7d08e0fe1a.jpg"/>
          <p:cNvPicPr/>
          <p:nvPr/>
        </p:nvPicPr>
        <p:blipFill>
          <a:blip r:embed="rId1"/>
          <a:stretch/>
        </p:blipFill>
        <p:spPr>
          <a:xfrm>
            <a:off x="2946240" y="1295280"/>
            <a:ext cx="3251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2a455a59e343be77e9904406fe08f338.jpg"/>
          <p:cNvPicPr/>
          <p:nvPr/>
        </p:nvPicPr>
        <p:blipFill>
          <a:blip r:embed="rId1"/>
          <a:stretch/>
        </p:blipFill>
        <p:spPr>
          <a:xfrm>
            <a:off x="3333600" y="1271520"/>
            <a:ext cx="2476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853679f46811c180da3a6a2db6eb9a9.jpg"/>
          <p:cNvPicPr/>
          <p:nvPr/>
        </p:nvPicPr>
        <p:blipFill>
          <a:blip r:embed="rId1"/>
          <a:stretch/>
        </p:blipFill>
        <p:spPr>
          <a:xfrm>
            <a:off x="2781360" y="1206360"/>
            <a:ext cx="35812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bca19dddbd274de2c20e41085ad46ed8.jpg"/>
          <p:cNvPicPr/>
          <p:nvPr/>
        </p:nvPicPr>
        <p:blipFill>
          <a:blip r:embed="rId1"/>
          <a:stretch/>
        </p:blipFill>
        <p:spPr>
          <a:xfrm>
            <a:off x="3252960" y="1279440"/>
            <a:ext cx="26380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04547225bc9348a50141ccc729a7c9da.jpg"/>
          <p:cNvPicPr/>
          <p:nvPr/>
        </p:nvPicPr>
        <p:blipFill>
          <a:blip r:embed="rId1"/>
          <a:stretch/>
        </p:blipFill>
        <p:spPr>
          <a:xfrm>
            <a:off x="3403440" y="1224000"/>
            <a:ext cx="233532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b547e8e599a34e1d7639fc4257bb407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83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e246d17a08029466cd987a66d963d55.jpg"/>
          <p:cNvPicPr/>
          <p:nvPr/>
        </p:nvPicPr>
        <p:blipFill>
          <a:blip r:embed="rId1"/>
          <a:stretch/>
        </p:blipFill>
        <p:spPr>
          <a:xfrm>
            <a:off x="2952720" y="121932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6d8a6ff943908c7d622898d5193246b1.jpg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fe155e701ba0088e91e43b6e812c3c7.jpg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926e155c67060c30b57b2a7d08e0fe1a.jpg"/>
          <p:cNvPicPr/>
          <p:nvPr/>
        </p:nvPicPr>
        <p:blipFill>
          <a:blip r:embed="rId1"/>
          <a:stretch/>
        </p:blipFill>
        <p:spPr>
          <a:xfrm>
            <a:off x="2843280" y="1219320"/>
            <a:ext cx="3457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2a455a59e343be77e9904406fe08f338.jpg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853679f46811c180da3a6a2db6eb9a9.jpg"/>
          <p:cNvPicPr/>
          <p:nvPr/>
        </p:nvPicPr>
        <p:blipFill>
          <a:blip r:embed="rId1"/>
          <a:stretch/>
        </p:blipFill>
        <p:spPr>
          <a:xfrm>
            <a:off x="2697120" y="1219320"/>
            <a:ext cx="37497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7:47:34Z</dcterms:created>
  <dc:creator>Jennifer Budzinski</dc:creator>
  <dc:description/>
  <dc:language>en-US</dc:language>
  <cp:lastModifiedBy>Erich Friedman</cp:lastModifiedBy>
  <dcterms:modified xsi:type="dcterms:W3CDTF">2020-09-04T16:29:00Z</dcterms:modified>
  <cp:revision>292</cp:revision>
  <dc:subject/>
  <dc:title>Slide 1</dc:title>
</cp:coreProperties>
</file>