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130-3CAB-41BC-9272-1D28A355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E3B9-4818-401C-A008-548FE24A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3C1B-7365-4E4C-A380-2EC18B698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5AF5-9C1D-4F5C-8D9C-7B33E031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1C7A-1E1B-4946-9058-0C7A7C40C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C36D-5988-4DB0-AA82-FE335F64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3C2-26CD-41CF-8C94-78DE074D6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DFC2-0E3B-4E27-8330-566D0AC2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5A73-7879-402C-B3A3-E0C00099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170-2106-4C50-BB40-D99A5AD1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A38-7345-4BEC-83A1-699D04DB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997-0ECD-42F1-8DC1-534B81C4D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3E42-BB5D-4012-BEB4-9F6AC593B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FBB1-D412-45EB-9927-8DFBE805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68AD-6A48-4F07-A451-2F0A36A0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134-1CAF-4784-9943-59EC6D7C3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B5B7-B21F-4E4D-925D-F061C1C2B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9687-1F9D-4D72-8F43-FBBE0441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C10E-7019-4B1D-9ECC-06F972AF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0FFC-6CD0-410A-8479-2A587484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5DF-E0CB-403A-909B-3DCDBF0C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FFC6-9FBE-4365-BA05-3B44B577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300-8B36-4DB5-BC01-9085AC6E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6854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THESE QUOTES FROM SHAKESPEARE OR THE BI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-EYED MONS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WISE MAN THAT KNOWS HIS OWN CH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BLE  (1  SAMUEL  13: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133720" y="762120"/>
            <a:ext cx="4876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MAN AFTER HIS OWN 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BLE  (JOB  3: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VE UP THE GH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81160" y="43434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 (HAMLET,  ACT III, SCENE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MUST BE CRUEL, ONLY TO BE K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BLE  (MATTHEW  7: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7004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ITHER CAST YE YOUR PEARLS BEFORE SW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62120" y="38098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                (THE  TWO  GENTLEMEN  FROM  VERONA,  ACT IV,  SCENE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57080"/>
            <a:ext cx="57909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MAKE A VIRTUE OF NECESS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085760" y="4343400"/>
            <a:ext cx="697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(MACBETH,  ACT I,  SCENE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MILK OF HUMAN KIND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BLE  (HEBREWS  4:1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O-EDGED SWO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866960" y="762120"/>
            <a:ext cx="541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MAN AFTER HIS OWN HE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343400"/>
            <a:ext cx="7010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   (HAMLET,  ACT I,  SCENE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ITHER A BORROWER NOR LENDER B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28880" y="43434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 (OTHELLO,  ACT I,  SCENE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-EYED MON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(THE  MERCHANT  OF  VENICE,  ACT II,  SCENE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WISE MAN THAT KNOWS HIS OWN CH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VE UP THE GH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MUST BE CRUEL, ONLY TO BE K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ITHER CAST YE YOUR PEARLS BEFORE SW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MAKE A VIRTUE OF NECESS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MILK OF HUMAN KIND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O-EDGED SWO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ITHER A BORROWER NOR LENDER B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8:09:24Z</dcterms:created>
  <dc:creator>Jennifer Budzinski</dc:creator>
  <dc:description/>
  <dc:language>en-US</dc:language>
  <cp:lastModifiedBy>Erich Friedman</cp:lastModifiedBy>
  <dcterms:modified xsi:type="dcterms:W3CDTF">2020-09-04T21:55:29Z</dcterms:modified>
  <cp:revision>355</cp:revision>
  <dc:subject/>
  <dc:title>Slide 1</dc:title>
</cp:coreProperties>
</file>