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54E6-AB9E-424A-9CA3-9F45F089D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5148-99E7-49AB-B6FB-3BE32F249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971B-79F7-4AC2-8315-BECF799C0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0FF3-925A-4C6C-9CAB-C551752F6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E9D5-E530-4E23-9C3F-5CD8C6F7A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D91F-06C2-4A29-B531-04749CC80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ECDC-C1D3-406F-894F-19311ED3C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D0C5-98F7-4A38-B2F5-B51CA75B4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3ED1-DDA5-4C68-AC3F-5BC6063CB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EC0D-120F-4EB3-95C5-F44949551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6B0C-158D-48C1-888E-E255D4A4F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C474-3F1D-48A1-A217-87336ED4E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590A-1B76-4307-94C2-F5AE4ECBB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8D40-AD79-4F5F-8347-CE3B4235F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F675-50E0-4CA3-A354-E710FB678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6503-B385-4B1C-9CE5-D9D103445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DBA7-714A-457D-99C7-9717955D7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7D61-5537-49E8-8899-EAFDF5ED8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F765-E4E4-4E73-9979-4DBBCEC7A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A65B-84DD-48ED-8279-4766654CB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E72B-D549-4D52-800A-E56B0A5D6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CC6E-A472-4C10-89BC-64D45BE43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453E-9B1C-4699-B948-D71F32C4A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57120" y="68544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RE THESE QUOTES FROM SHAKESPEARE OR THE BIB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REEN-EYED MONST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 IS A WISE MAN THAT KNOWS HIS OWN CH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BLE  (1  SAMUEL  13:1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2133720" y="762120"/>
            <a:ext cx="4876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MAN AFTER HIS OWN HEA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BLE  (JOB  3:1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IVE UP THE GHO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181160" y="4343400"/>
            <a:ext cx="6781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KESPEARE         (HAMLET,  ACT III, SCENE 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409760" y="762120"/>
            <a:ext cx="6324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MUST BE CRUEL, ONLY TO BE K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BLE  (MATTHEW  7: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7004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EITHER CAST YE YOUR PEARLS BEFORE SW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762120" y="3809880"/>
            <a:ext cx="7619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KESPEARE                        (THE  TWO  GENTLEMEN  FROM  VERONA,  ACT IV,  SCENE 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676520" y="757080"/>
            <a:ext cx="5790960" cy="20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O MAKE A VIRTUE OF NECESS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085760" y="4343400"/>
            <a:ext cx="6972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KESPEARE        (MACBETH,  ACT I,  SCENE 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MILK OF HUMAN KIND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BLE  (HEBREWS  4:1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WO-EDGED SWOR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866960" y="762120"/>
            <a:ext cx="5410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MAN AFTER HIS OWN HEAR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343400"/>
            <a:ext cx="70106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KESPEARE           (HAMLET,  ACT I,  SCENE 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EITHER A BORROWER NOR LENDER B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28880" y="43434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KESPEARE         (OTHELLO,  ACT I,  SCENE 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REEN-EYED MONS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3434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KESPEARE  (THE  MERCHANT  OF  VENICE,  ACT II,  SCENE 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T IS A WISE MAN THAT KNOWS HIS OWN CH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IVE UP THE GHO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47920" y="762120"/>
            <a:ext cx="624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MUST BE CRUEL, ONLY TO BE K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EITHER CAST YE YOUR PEARLS BEFORE SW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714320" y="761760"/>
            <a:ext cx="5715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O MAKE A VIRTUE OF NECESSI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MILK OF HUMAN KINDNE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WO-EDGED SWOR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EITHER A BORROWER NOR LENDER B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8:09:24Z</dcterms:created>
  <dc:creator>Jennifer Budzinski</dc:creator>
  <dc:description/>
  <dc:language>en-US</dc:language>
  <cp:lastModifiedBy>Erich Friedman</cp:lastModifiedBy>
  <dcterms:modified xsi:type="dcterms:W3CDTF">2020-09-04T21:55:29Z</dcterms:modified>
  <cp:revision>355</cp:revision>
  <dc:subject/>
  <dc:title>Slide 1</dc:title>
</cp:coreProperties>
</file>