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F19F-5032-4E47-B086-241F818ED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159A-DB63-4322-96E5-306611767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8D6C-4F04-4F30-AF0F-B41138A00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795E-8492-45BC-88A8-942AFFC4B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2066-0630-40DB-BD49-4A38C2424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F1A4-D1BD-4B31-AFCE-6C636E643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E90D-C798-476C-BF67-E14CB4735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A041-AD31-4E91-BC45-9193F6D13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08A3-B4A6-4FC4-83DB-CC203DEF9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1533-BCB5-40EB-97D9-3688C89CA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81DB-FBE7-4B37-B2EC-A5D983D63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5480-E14C-41B1-BBB7-17CBF1A96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C9A5-C85E-4468-A7AC-E25ABA12C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D4A2-7C55-4449-A93A-4A23B56FE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0FC8-5F49-4B06-B04B-55A081B89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BBD7-1032-4955-966C-7F1A462AA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6511-4815-4A7D-B568-0910AB996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C6DE-57BE-411A-A413-5AEE61887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E8D5-5F7F-4ABB-AC74-BC5ED9E63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3BB3-912D-47D8-8C82-458835022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200A-D459-4688-BE1C-44607B59D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5EDC-595B-4AD8-8E16-A7C07F8CA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5965-4FFD-4419-81A5-644A276E0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REE LETTER W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26960" y="761760"/>
            <a:ext cx="829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-MOST COMMON 3-LETTER WORD, AFTER "THE" AND "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90400" y="762120"/>
            <a:ext cx="7963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OVIE WITH A 3-LETTER TITLE THAT MADE OVER $500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9240" y="48769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06520" y="762120"/>
            <a:ext cx="8129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HEMICAL ELEMENT WHOSE NAME CONTAINS ONLY 3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343080" y="487692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  (ETA,  RHO,  TAU,  PHI,  CHI  &amp;  PS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22280" y="762120"/>
            <a:ext cx="8304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GREEK LETTERS HAVE ENGLISH SPELLINGS THAT CONTAIN 3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52600" y="4343400"/>
            <a:ext cx="8038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,  ASS,  EAR,  EYE,  HIP,  GUM,  JAW,  LEG,  LIP,  PIT,  RIB  &amp;  TO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35080" y="762120"/>
            <a:ext cx="6873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10 DIFFERENT        3-LETTER BODY P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600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  (ONE,  TWO,  SIX  &amp;  TE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85640" y="762120"/>
            <a:ext cx="817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WHOLE NUMBERS HAVE 3-LETTER N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N,  WEE,  WRY  &amp;  W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281240" y="762120"/>
            <a:ext cx="6580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4 DIFFERENT 3-LETTER ADJECTIVES STARTING WITH "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Z,  AWL,  AXE,  HOE  &amp;  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23920" y="762120"/>
            <a:ext cx="6896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TOOLS WITH 3-LETTER N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  &amp;  A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04960" y="762120"/>
            <a:ext cx="7534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2010-2019, WHAT WERE THE MOST POPULAR 3-LETTER MALE AND FEMALE BABY N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33440" y="762120"/>
            <a:ext cx="82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HEMICAL ELEMENT WHOSE NAME CONTAINS ONLY 3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,  GIN,  RUM  &amp;  R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60480" y="762120"/>
            <a:ext cx="7223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4 TYPES OF ALCOHOLIC DRINKS WHOSE NAMES ONLY CONTAIN 3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-MOST COMMON 3-LETTER WORD, AFTER "THE" AND "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00120" y="762120"/>
            <a:ext cx="7943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OVIE WITH A 3-LETTER TITLE THAT MADE OVER $500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761760"/>
            <a:ext cx="835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GREEK LETTERS HAVE ENGLISH SPELLINGS THAT CONTAIN 3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81160" y="762120"/>
            <a:ext cx="6781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10 DIFFERENT        3-LETTER BODY P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WHOLE NUMBERS HAVE 3-LETTER N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28680" y="762120"/>
            <a:ext cx="6686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4 DIFFERENT 3-LETTER ADJECTIVES STARTING WITH "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TOOLS WITH 3-LETTER N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2010-2019, WHAT WERE THE MOST POPULAR 3-LETTER MALE AND FEMALE BABY N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78040" y="762120"/>
            <a:ext cx="7386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4 TYPES OF ALCOHOLIC DRINKS WHOSE NAMES ONLY CONTAIN 3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1-09-21T16:26:21Z</dcterms:modified>
  <cp:revision>425</cp:revision>
  <dc:subject/>
  <dc:title>Slide 1</dc:title>
</cp:coreProperties>
</file>