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0B4B-D894-4EA2-B16F-2FDBE4AA3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BAE9-A675-45AE-9EC3-09DC8D573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9041-FADC-4FC3-855E-7D6FA003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BBE1-1432-41E6-B901-0D21E1451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363B-F04E-456D-8276-D1EB9FF9E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1084-8D6E-4868-A8DD-F911600E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84B1-91E1-42C7-BEBD-57B3DF0E2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DFAF-462F-4659-A270-4B22CC837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1657-FF86-4AE9-B4A3-438CC8142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3CA-A7B4-4D98-B60A-3C02DB85A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E6FB-8FC3-416D-8729-AD27A7D2E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22BA-2152-41FC-90CD-CCFBDCEEE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00C3-2A37-4555-A7E8-50D1865BA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6F92-6756-401F-9EEF-84709A090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9805-09F9-46BA-97C2-0F918F2B4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50DA-B996-4D6E-84B6-ACE7958D9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0851-35CC-4E13-90DD-7BA74258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B830-540F-4EB3-BF73-026D9CBA8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02F-65CE-4CC1-B351-10587582F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BBBB-0107-4585-BC15-5BD43384F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D519-4603-4804-8876-1544C5FA0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1A4D7-6216-4F26-BC89-841BBFC98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115-22CC-456A-B165-2A704BB4C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LETTER W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6960" y="761760"/>
            <a:ext cx="829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-MOST COMMON 3-LETTER WORD, AFTER "THE" AND "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OVIE WITH A 3-LETTER TITLE THAT MADE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6520" y="762120"/>
            <a:ext cx="81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MICAL ELEMENT WHOSE NAME CONTAINS ONLY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43080" y="48769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(ETA,  RHO,  TAU,  PHI,  CHI  &amp;  PS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2280" y="762120"/>
            <a:ext cx="8304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REEK LETTERS HAVE ENGLISH SPELLINGS THAT CONTAIN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52600" y="4343400"/>
            <a:ext cx="8038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,  ASS,  EAR,  EYE,  HIP,  GUM,  JAW,  LEG,  LIP,  PIT,  RIB  &amp;  TO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35080" y="762120"/>
            <a:ext cx="6873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0 DIFFERENT        3-LETTER BODY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600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(ONE,  TWO,  SIX  &amp;  T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85640" y="76212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OLE NUMBERS HAVE 3-LETTE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,  WEE,  WRY  &amp;  W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81240" y="762120"/>
            <a:ext cx="658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DIFFERENT 3-LETTER ADJECTIVES STARTING WITH "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Z,  AWL,  AXE,  HOE  &amp;  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23920" y="762120"/>
            <a:ext cx="68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TOOLS WITH 3-LETTER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  &amp;  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4960" y="762120"/>
            <a:ext cx="753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2010-2019, WHAT WERE THE MOST POPULAR 3-LETTER MALE AND FEMALE BABY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HEMICAL ELEMENT WHOSE NAME CONTAINS ONLY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,  GIN,  RUM  &amp;  R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0480" y="762120"/>
            <a:ext cx="7223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TYPES OF ALCOHOLIC DRINKS WHOSE NAMES ONLY CONTAIN 3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HIRD-MOST COMMON 3-LETTER WORD, AFTER "THE" AND "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0120" y="762120"/>
            <a:ext cx="7943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OVIE WITH A 3-LETTER TITLE THAT MADE OVER $5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761760"/>
            <a:ext cx="835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REEK LETTERS HAVE ENGLISH SPELLINGS THAT CONTAIN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81160" y="762120"/>
            <a:ext cx="6781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0 DIFFERENT        3-LETTER BODY P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OLE NUMBERS HAVE 3-LETTE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28680" y="762120"/>
            <a:ext cx="6686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DIFFERENT 3-LETTER ADJECTIVES STARTING WITH "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5 TOOLS WITH 3-LETTER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2010-2019, WHAT WERE THE MOST POPULAR 3-LETTER MALE AND FEMALE BABY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4 TYPES OF ALCOHOLIC DRINKS WHOSE NAMES ONLY CONTAIN 3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1-09-21T16:26:21Z</dcterms:modified>
  <cp:revision>425</cp:revision>
  <dc:subject/>
  <dc:title>Slide 1</dc:title>
</cp:coreProperties>
</file>