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113-21BC-452C-BBF9-B5DED889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4E5-77F4-4B2E-89A2-A1A7954F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CCC1-B16C-45A3-BEBA-57AB6BCD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10F-2CD8-4D0F-9DAE-9EADC77C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8D4-2758-4915-A8FA-881F4636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E53-E878-4C1A-B069-32E35F2E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B84C-2D45-4DE6-ACA0-A01B8841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1261-1666-4BC1-B701-325CFD4C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D4D6-8BFF-4464-BFAB-59335D23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D3E2-E750-4852-8A18-EC0E89C1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69A2-E24B-4D33-BFE8-1EEA4B9F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2F9-5E0C-49F7-9839-9B9157A2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E6E1-E835-42CE-9634-0A7EC0FD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E13F-CC56-4DD7-A641-AD93F406C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2452-BEB2-41F9-857A-4D8EC632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28F-8813-4914-80A0-249D3244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080-C3BD-4CEE-8801-90E489A57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3A5F-E3A7-48F7-AF8D-1915358F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D25-8190-4C44-9495-5431EA268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5FE8-AEA7-4AD0-84DC-8E178739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F406-3F14-473C-A613-16F0FD55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0F5F-645A-45F0-A8F7-8433278F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C43-7215-4CC2-8AF7-738FA73E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S WITH 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160" y="761760"/>
            <a:ext cx="899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HILOSOPHY BOOK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8160" y="762120"/>
            <a:ext cx="7807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GINNING WITH Z IS PART OF THE NATO PHONETIC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NC  &amp;  ZIRCO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CHEMICAL ELEMENT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99960" y="762120"/>
            <a:ext cx="8344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GREEK LETTER THAT STARTS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MBIA  &amp;  ZIMBAB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52360" y="762120"/>
            <a:ext cx="86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ZAIRE IS NOW KNOWN AS THE DEMOCRATIC REPUBLIC OF THE CONGO, WHAT ARE   THE TWO COUNTRIE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47680" y="76212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REME GOD OF ANCIENT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SE FIRST NAME STARTED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38040" y="762120"/>
            <a:ext cx="8466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INTRODUCED IN 1955 WITH THE SLOGAN "FOR THE FIRST TIME IN YOUR LIFE, FEEL REALLY CL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Z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04800" y="762120"/>
            <a:ext cx="793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THE ALBUMS "ELIMINATOR", "RECYCLER", "ANTENNA", AND "AFTERBUR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800" y="762120"/>
            <a:ext cx="825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CHEMICAL ELEMENTS WHOSE NAMES START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M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ALL FILM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4197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N  AND  THE  ART  OF  MOTORCYCLE  MAINTE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2680" y="762120"/>
            <a:ext cx="8918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HILOSOPHY BOOK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19280" y="762120"/>
            <a:ext cx="770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GINNING WITH Z IS PART OF THE NATO PHONETIC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GREEK LETTER THAT STARTS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5600" y="762120"/>
            <a:ext cx="863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ZAIRE IS NOW KNOWN AS THE DEMOCRATIC REPUBLIC OF THE CONGO, WHAT ARE   THE TWO COUNTRIE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REME GOD OF ANCIENT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SE FIRST NAME STARTED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INTRODUCED IN 1955 WITH THE SLOGAN "FOR THE FIRST TIME IN YOUR LIFE, FEEL REALLY CLE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8160" y="761760"/>
            <a:ext cx="780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THE ALBUMS "ELIMINATOR", "RECYCLER", "ANTENNA", AND "AFTERBUR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8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ALL FILMS WHOSE NAMES START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6-13T14:39:04Z</dcterms:modified>
  <cp:revision>405</cp:revision>
  <dc:subject/>
  <dc:title>Slide 1</dc:title>
</cp:coreProperties>
</file>