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562E-7384-474C-81CF-0EA96A875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A34D-B8E7-4617-A5FB-29EF5B440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C3B4-C8EB-4A8E-A470-AEB1B0ADB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4EAA-D59C-41D2-ADD7-FE4EAB1E3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604C-567B-43B3-8BF1-4B53D4C9F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0C71-3DD0-4DCD-AF4B-3B93FB31F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6FF8-1304-45B3-B3DB-B13428526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AFB3-1DAA-4ABC-A587-4EF535216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5D13-72AC-4A23-AD6D-B7A011D83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419A-0351-4A68-9381-702F13934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9F84-BC24-41C9-91C4-907680D2D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C834-B6F6-4519-8C16-16BED248A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D263-B5BB-4968-BB2B-593E0FE21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2902-29E6-4F6C-840B-86E2D37AA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4224-3D74-4D0D-84F7-611867199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4AEC-2BA3-4BF7-94B2-FC4086226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A754-31B6-41FF-8B43-7E157DA1F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9C43-B960-4BF1-8360-5FB485FCA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C724-D61D-4015-A585-2FEA4903E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B7EC-595F-4BB7-9F18-7AE918CBD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357C-59A9-4B09-BC80-7956C8C15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651D6-5C92-46B5-9163-A4E4182C6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2967-4F36-445B-BC38-45CED9A23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TS WITH 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4160" y="761760"/>
            <a:ext cx="8993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PHILOSOPHY BOOK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68160" y="762120"/>
            <a:ext cx="7807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GINNING WITH Z IS PART OF THE NATO PHONETIC ALPHAB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INC  &amp;  ZIRCON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52280" y="762120"/>
            <a:ext cx="8839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CHEMICAL ELEMENTS WHOSE NAMES START WITH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99960" y="762120"/>
            <a:ext cx="8344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GREEK LETTER THAT STARTS WITH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MBIA  &amp;  ZIMBAB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52360" y="762120"/>
            <a:ext cx="863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 THAT ZAIRE IS NOW KNOWN AS THE DEMOCRATIC REPUBLIC OF THE CONGO, WHAT ARE   THE TWO COUNTRIES WHOSE NAMES START WITH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47680" y="762120"/>
            <a:ext cx="864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UPREME GOD OF ANCIENT GREEK MYTHO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CHARY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WHOSE FIRST NAME STARTED WITH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38040" y="762120"/>
            <a:ext cx="8466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WAS INTRODUCED IN 1955 WITH THE SLOGAN "FOR THE FIRST TIME IN YOUR LIFE, FEEL REALLY CLE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Z  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04800" y="762120"/>
            <a:ext cx="7932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PUT OUT THE ALBUMS "ELIMINATOR", "RECYCLER", "ANTENNA", AND "AFTERBURN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2800" y="762120"/>
            <a:ext cx="825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CHEMICAL ELEMENTS WHOSE NAMES START WITH 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OMB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4308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WORD OF ALL FILMS WHOSE NAMES START WITH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4197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N  AND  THE  ART  OF  MOTORCYCLE  MAINTE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2680" y="762120"/>
            <a:ext cx="8918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PHILOSOPHY BOOK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U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19280" y="762120"/>
            <a:ext cx="770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GINNING WITH Z IS PART OF THE NATO PHONETIC ALPHAB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GREEK LETTER THAT STARTS WITH 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55600" y="762120"/>
            <a:ext cx="863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W THAT ZAIRE IS NOW KNOWN AS THE DEMOCRATIC REPUBLIC OF THE CONGO, WHAT ARE   THE TWO COUNTRIES WHOSE NAMES START WITH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UPREME GOD OF ANCIENT GREEK MYTH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WHOSE FIRST NAME STARTED WITH 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1280" y="761760"/>
            <a:ext cx="8461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WAS INTRODUCED IN 1955 WITH THE SLOGAN "FOR THE FIRST TIME IN YOUR LIFE, FEEL REALLY CLE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68160" y="761760"/>
            <a:ext cx="7807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PUT OUT THE ALBUMS "ELIMINATOR", "RECYCLER", "ANTENNA", AND "AFTERBURN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31920" y="761760"/>
            <a:ext cx="848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FIRST WORD OF ALL FILMS WHOSE NAMES START WITH 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6-13T14:39:04Z</dcterms:modified>
  <cp:revision>405</cp:revision>
  <dc:subject/>
  <dc:title>Slide 1</dc:title>
</cp:coreProperties>
</file>