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8AD-DDEC-4C75-B5B8-08B0ED4EC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19F4-B64A-4CAE-9A48-AD47A27D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35F9-3477-4CEB-901B-4437CD03A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9412-20D4-40E4-A0E6-66454DA34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C80-EAA4-4F5B-AB60-41A6C83C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A2D-A5CB-48F1-AEEF-55288B46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D56-6B6F-47BE-A488-09B5121D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5DC-FB63-4F6C-B42C-11B94638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0DD-07F2-4D3A-9370-FDA73CE24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EB3-5952-4B7B-9849-12B12BDA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3C9-63AC-45C3-801C-A8D6F75E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34AC-F0E7-4C7F-8D35-BD77EA6D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E3A-C263-4C41-A76A-67CD572E1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E0C-1106-4DCC-979D-5B73AE33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E80A-1059-4DEA-942E-83965D17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47EE-C772-4ECD-8B15-72A2E90B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C742-0D2D-4D03-BBFF-A66A1EC90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0EEA-B7B7-4988-A216-0B9E505E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B830-64C5-4EA1-8CDE-88A893EE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EB4A-0F56-4895-AE10-3B0F0CE7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37A2-369F-4805-A872-F87BC1B1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3C41-8693-41E0-9B18-38378E5B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8C53-01C8-4C7D-A34E-C1B3590A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86040" y="1523520"/>
            <a:ext cx="5371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  O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82720" y="761760"/>
            <a:ext cx="737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CONTAINS THE NONSENSE LYRIC        "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A C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RINK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SO MANUFACTURED BY THE MAKERS OF 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 DR. PEPPER, LA CROIX WATER, MOTT'S JUICES, OR SNAP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ALSO THE NAME OF A FLOWER, IS THE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LLS' ONLY #1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. W.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PRESIDENT CALLED REAGAN'S TRICKLE-DOWN THEORY  "V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CONOM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A 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CHILD BEAUTY STAR AND TV PERSONALITY "HONEY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6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AM  THE  WAL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NONSENSE LYRIC "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'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3320" y="762120"/>
            <a:ext cx="767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MADE FROM VODKA, PEACH SCHNAPPS, AND WHAT KIND OF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T IS IN THE CHINESE DISH 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AI 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 "HE GOT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Y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9320" y="762120"/>
            <a:ext cx="778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ALSO THE NAME OF A FLOWER, IS TH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LLS' ONLY #1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TUBB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0640" y="762120"/>
            <a:ext cx="7362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SENTIENT VACUUM CLEANER AND PET ON WHAT BRITISH CHILDREN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S.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CONTAINS THE NONSENSE LYRIC        "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A C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CROIX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RINK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SO MANUFACTURED BY THE MAKERS OF 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 DR. PEPPER, LA CROIX WATER, MOTT'S JUICES, OR SNAPP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PRESIDENT CALLED REAGAN'S TRICKLE-DOWN THEORY  "V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CONOMIC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CHILD BEAUTY STAR AND TV PERSONALITY "HONEY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NONSENSE LYRIC "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'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MADE FROM VODKA, PEACH SCHNAPPS, AND WHAT KIND OF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T IS IN THE CHINESE DISH 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AI 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 "HE GOT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Y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SENTIENT VACUUM CLEANER AND PET ON WHAT BRITISH CHILDREN'S TV SHO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1-10-27T03:04:20Z</dcterms:modified>
  <cp:revision>376</cp:revision>
  <dc:subject/>
  <dc:title>Slide 1</dc:title>
</cp:coreProperties>
</file>