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54CF-DB50-4C70-8C56-19015947D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0E1-893A-4DA5-B5A5-0C54B4404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F739-FE55-40EB-8853-9B4D8694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D7C5-B803-4843-A3FD-69AB0B527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E2B22-E36D-4E9D-B9D7-7F5CD0B9B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F9B-24D6-4B12-BB56-A96FD90B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79EB-FFA4-4BE0-9909-966061257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CF28-71C7-4EA4-9DE7-843821F7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550B-FF94-46EA-AC2B-0ED3B982D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5182-62B0-4AB4-8615-A545E32C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A805-3232-45BE-BB84-483E684F4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3D03-22A3-4605-AF59-49045A9B0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1F98-FD26-4440-BC74-C4051909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E4E7-BEFB-473F-B478-B4834D915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79CE-757B-4476-BFBD-B323990E1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A551-AE25-4006-B442-BAA762B42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F542-3FBB-4B21-9C7A-C20AE353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4BFB-526F-40D6-B5A7-46D0BDD00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B8FC-511C-481F-8A2E-E7D27729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5E38-6F10-4340-BC63-059D3C510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F375-8065-46DB-8F86-1921EEB8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F64A-CE02-4C92-BFEF-B52613B03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7195-01E4-47E0-8884-3E265C7B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86040" y="1523520"/>
            <a:ext cx="5371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O  O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82720" y="761760"/>
            <a:ext cx="737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CONTAINS THE NONSENSE LYRIC        "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A C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RINK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SO MANUFACTURED BY THE MAKERS OF 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  DR. PEPPER, LA CROIX WATER, MOTT'S JUICES, OR SNAP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ALSO THE NAME OF A FLOWER, IS THE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LLS' ONLY #1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. W.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PRESIDENT CALLED REAGAN'S TRICKLE-DOWN THEORY  "V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CONOM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A 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CHILD BEAUTY STAR AND TV PERSONALITY "HONEY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60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AM  THE  WAL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NONSENSE LYRIC "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'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NB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3320" y="762120"/>
            <a:ext cx="7677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MADE FROM VODKA, PEACH SCHNAPPS, AND WHAT KIND OF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T IS IN THE CHINESE DISH 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AI 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 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 "HE GOT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Y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9320" y="762120"/>
            <a:ext cx="778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, ALSO THE NAME OF A FLOWER, IS TH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LLS' ONLY #1 H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TUBB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90640" y="762120"/>
            <a:ext cx="73627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SENTIENT VACUUM CLEANER AND PET ON WHAT BRITISH CHILDREN'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S.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MON &amp; GARFUNKEL SONG CONTAINS THE NONSENSE LYRIC        "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KA C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  CROIX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RINK I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SO MANUFACTURED BY THE MAKERS OF 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H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  DR. PEPPER, LA CROIX WATER, MOTT'S JUICES, OR SNAPP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DIDATE FOR PRESIDENT CALLED REAGAN'S TRICKLE-DOWN THEORY  "V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CONOMIC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THE CHILD BEAUTY STAR AND TV PERSONALITY "HONEY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B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NONSENSE LYRIC "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'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5880" y="761760"/>
            <a:ext cx="757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MADE FROM VODKA, PEACH SCHNAPPS, AND WHAT KIND OF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T IS IN THE CHINESE DISH M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AI 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 "HE GOT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J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Y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N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O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THE SENTIENT VACUUM CLEANER AND PET ON WHAT BRITISH CHILDREN'S TV SHOW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1-10-27T03:04:20Z</dcterms:modified>
  <cp:revision>376</cp:revision>
  <dc:subject/>
  <dc:title>Slide 1</dc:title>
</cp:coreProperties>
</file>