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6688-670E-4514-B84B-E8976F3A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7F0-4737-47C5-8463-8029B636B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7966-893D-48B0-BD73-E8673DD3E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CFA8-77BF-4E11-A0CE-1994C699D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4752-2867-4AD1-B5D1-827E0C7B7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5C40-8440-4E5A-A7A1-8F3B13C8F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4986-CB0F-45C7-A5C4-CE9269975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55AA-8614-47C5-8872-73E7C51A9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0503-EFE0-4FE7-91CA-08620BE01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1BD8-9B0F-4606-8191-AA0136DB9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70E3-7A12-4EE2-B3D8-27A953864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6ECA-F60C-430B-9FE9-6EE33C6FD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76D5-FFC5-4C62-890E-29BDC2D0D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B3C-C41B-4F66-BE80-72021066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0929-36FA-4BA5-AFE8-385660EB7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A1CD-FFCC-48F9-AD28-38F67EDE9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D2F1-4A85-4F9C-805B-0695668E2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3DAB-C3A2-4098-AF59-055A4B009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5920-A460-4840-8CF9-FDA594FF4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FCA6-680A-42CB-A34C-5BE4E2A2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2941-7654-468F-850B-07189A306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9052-6236-4FDD-97F8-A976AFE5B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54AB-6D2E-4EA9-AA19-750796C1C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95320" y="1523880"/>
            <a:ext cx="7353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TERAL TRANS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NDI WORD             FOR WHAT OBJECT TRANSLATES LITERALLY AS "LARYNX LOINCL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71640" y="762120"/>
            <a:ext cx="7200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ANSKRIT WORD          FOR WHAT ACTIVITY TRANSLATES LITERALLY AS "DESIRE FOR CA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62080" y="762120"/>
            <a:ext cx="6819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ETNAMESE WORD FOR WHAT ANIMAL TRANSLATES LITERALLY AS "RAT POCK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FRIG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52360" y="762120"/>
            <a:ext cx="6839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NTONESE WORD FOR WHAT OBJECT TRANSLATES LITERALLY AS "SNOW CUPBOAR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RTUGUESE, FRENCH, AND ARABIC WORDS FOR  WHAT OBJECTS TRANSLATE LITERALLY AS "FOOT FI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P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47680" y="762120"/>
            <a:ext cx="6846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FRIKAANS WORD FOR WHAT OBJECT TRANSLATES LITERALLY AS "PAPER VAMP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B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90640" y="762120"/>
            <a:ext cx="7362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ABIC WORD FOR WHAT CREATURE TRANSLATES LITERALLY AS "CANCER OF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52360" y="762120"/>
            <a:ext cx="6839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   FOR WHAT CREATURE TRANSLATES LITERALLY AS "NAKED SNA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FOR WHAT MUSICAL INSTRUMENT TRANSLATES LITERALLY AS "HIT STUF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23920" y="762120"/>
            <a:ext cx="6896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VIETNAMESE WORD FOR WHAT ANIMAL TRANSLATES LITERALLY AS "RAT POCK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639800" y="4876920"/>
            <a:ext cx="5864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ER  CO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OATIAN WORD FOR WHAT OBJECT TRANSLATES LITERALLY AS "TRAIN OF DEA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CKT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71640" y="762120"/>
            <a:ext cx="7200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HINDI WORD            FOR WHAT OBJECT TRANSLATES LITERALLY AS "LARYNX LOINCL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2560" y="762120"/>
            <a:ext cx="7238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ANSKRIT WORD          FOR WHAT ACTIVITY TRANSLATES LITERALLY AS "DESIRE FOR CA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71440" y="761760"/>
            <a:ext cx="6801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NTONESE WORD FOR WHAT OBJECT TRANSLATES LITERALLY AS "SNOW CUPBOAR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ORTUGUESE, FRENCH, AND ARABIC WORDS FOR  WHAT OBJECTS TRANSLATE LITERALLY AS "FOOT FINGER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57320" y="762120"/>
            <a:ext cx="7029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FRIKAANS WORD FOR WHAT OBJECT TRANSLATES LITERALLY AS "PAPER VAMP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61840" y="762120"/>
            <a:ext cx="7420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ARABIC WORD FOR WHAT CREATURE TRANSLATES LITERALLY AS "CANCER OF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38320" y="761760"/>
            <a:ext cx="6867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   FOR WHAT CREATURE TRANSLATES LITERALLY AS "NAKED SNA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ERMAN WORD FOR WHAT MUSICAL INSTRUMENT TRANSLATES LITERALLY AS "HIT STUF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OATIAN WORD FOR WHAT OBJECT TRANSLATES LITERALLY AS "TRAIN OF DEA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1-12-18T19:26:30Z</dcterms:modified>
  <cp:revision>363</cp:revision>
  <dc:subject/>
  <dc:title>Slide 1</dc:title>
</cp:coreProperties>
</file>