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9E50-575A-4D09-8935-BEF61DB7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FF3-682C-4FFD-B49B-366E8AEE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B878-C808-4F26-AA41-6C9A3AA1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C0D2-C2F3-4CA7-9B00-605E2D36F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68FE-901B-42AB-A79C-2C942F34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0EA-B3ED-42B7-BFEC-DACE9DE7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B6F8-07C6-4A04-A057-9486D196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3D11-6AD1-4A02-A275-7741479B8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8CB0-72FA-4C27-8558-F46ACFDE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75AA-D8E2-4CE3-A00A-0B06597F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0F4A-F7FB-4068-BB19-E44938E1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7507-C8FC-4CF4-96F1-8B3886F9B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0F62-DEBA-4541-81BD-453EA8D9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FFEA-D509-4613-8366-3AFC1612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E281-66E5-449D-867C-6321C83E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5357-C2E9-4F01-9EC8-EEB7F0E95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2B5-81EE-475A-B504-EF566141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7643-81E2-4247-81F0-D732BBFE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2F2-43C3-416E-89ED-EA11EA54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5B8-9858-4EE8-881F-FE5CDA17C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3EE5-3D58-42E2-96CB-08804048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BD86-CC88-4DE2-BCCD-289980DD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ACF5-EDD8-4F41-9C3F-2937EAE1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5320" y="1523880"/>
            <a:ext cx="7353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 TRANS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NDI WORD             FOR WHAT OBJECT TRANSLATES LITERALLY AS "LARYNX LOINCL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71640" y="762120"/>
            <a:ext cx="720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ANSKRIT WORD          FOR WHAT ACTIVITY TRANSLATES LITERALLY AS "DESIRE FOR CA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62080" y="762120"/>
            <a:ext cx="6819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ETNAMESE WORD FOR WHAT ANIMAL TRANSLATES LITERALLY AS "RAT POCK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FRIG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52360" y="762120"/>
            <a:ext cx="6839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NTONESE WORD FOR WHAT OBJECT TRANSLATES LITERALLY AS "SNOW CUPBO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RTUGUESE, FRENCH, AND ARABIC WORDS FOR  WHAT OBJECTS TRANSLATE LITERALLY AS "FOOT FI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47680" y="762120"/>
            <a:ext cx="6846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FRIKAANS WORD FOR WHAT OBJECT TRANSLATES LITERALLY AS "PAPER VAMP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0640" y="762120"/>
            <a:ext cx="73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ABIC WORD FOR WHAT CREATURE TRANSLATES LITERALLY AS "CANCER OF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52360" y="762120"/>
            <a:ext cx="6839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  FOR WHAT CREATURE TRANSLATES LITERALLY AS "NAKED SN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FOR WHAT MUSICAL INSTRUMENT TRANSLATES LITERALLY AS "HIT STUF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ETNAMESE WORD FOR WHAT ANIMAL TRANSLATES LITERALLY AS "RAT POCK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39800" y="4876920"/>
            <a:ext cx="586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ER  CO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OATIAN WORD FOR WHAT OBJECT TRANSLATES LITERALLY AS "TRAIN OF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CK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71640" y="762120"/>
            <a:ext cx="7200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NDI WORD            FOR WHAT OBJECT TRANSLATES LITERALLY AS "LARYNX LOINCL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ANSKRIT WORD          FOR WHAT ACTIVITY TRANSLATES LITERALLY AS "DESIRE FOR CA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NTONESE WORD FOR WHAT OBJECT TRANSLATES LITERALLY AS "SNOW CUPBO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RTUGUESE, FRENCH, AND ARABIC WORDS FOR  WHAT OBJECTS TRANSLATE LITERALLY AS "FOOT FI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57320" y="762120"/>
            <a:ext cx="702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FRIKAANS WORD FOR WHAT OBJECT TRANSLATES LITERALLY AS "PAPER VAMP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ABIC WORD FOR WHAT CREATURE TRANSLATES LITERALLY AS "CANCER OF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38320" y="761760"/>
            <a:ext cx="6867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  FOR WHAT CREATURE TRANSLATES LITERALLY AS "NAKED SN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FOR WHAT MUSICAL INSTRUMENT TRANSLATES LITERALLY AS "HIT STUF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OATIAN WORD FOR WHAT OBJECT TRANSLATES LITERALLY AS "TRAIN OF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1-12-18T19:26:30Z</dcterms:modified>
  <cp:revision>363</cp:revision>
  <dc:subject/>
  <dc:title>Slide 1</dc:title>
</cp:coreProperties>
</file>