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707F-95DC-4653-9233-C83A2E1D6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6411-66EF-404C-B6F8-5630265C3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3B63-7073-46C9-A19A-CE6E94C48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8EFA-B2F4-4A76-9802-3A43FC247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AA86-12FE-492B-9B39-F4FEBB38B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C54B-6ECD-42FC-BCDA-8FA1605B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7982-4010-4C8F-8202-01883A67F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C76C-98A5-438A-B157-5F849B8F7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7532-1105-453F-89CB-A1CD2A987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D505-6F7F-45E8-A12E-EDCDE033F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8384-4A3B-46F9-89F4-0F7776914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C464-0C95-4B06-9E80-BAFA4EEED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EFBB-D8C7-45AC-9052-6AEFB9324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284B-B8A2-4B91-A76E-C251EA644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3576-E007-4D6B-B106-92448E47A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8D22-D7F7-4449-AC6D-6873452F8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0E58-892D-431E-B719-DED1EA8AB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8F88-4AD1-43B3-A8CD-69A6CD16D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D093-EAFC-485B-9284-4D409C174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1542-4DA7-415A-B357-9464A2BED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5C93-4749-4930-AA5F-B5D48D5EE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7CC5-054C-40F4-88E6-C574C78C1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6241-B83D-4847-A5D8-616125448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ENGLISH WORDS THAT END IN "DOUS".  WHAT ARE THEY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MALE FORMS OF WORDS (ACTOR) ARE SHORTER THAN THE FEMALE FORMS (ACTRESS).  WHAT FEMALE FORM IS SHORTER THAN ITS MALE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IN THE ENGLISH LANGUAGE THAT ENDS IN THE LETTERS "M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NG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9-LETTER WORD THAT CONTAINS ONLY ONE VOW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809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WORDS "FLUMMOX" AND "BOREDOM"?  WILLIAM SHAKESPEARE, CHARLES DICKENS, OR   LEWIS CARRO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9-LETTER WORD HAVING TO DO WITH FINANCE IS COMPRISED ENTIRELY OF LETTERS WITH HORIZONTAL SYMMETRY WHEN WRITTEN IN UPPER-C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STARTING WITH "S" HAS THE MOST DEFINITIONS IN THE OXFORD ENGLISH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LETTER WORD STARTS AND ENDS WITH "A", BUT HAS NO OTHER VOWEL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G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2-SYLLABLE, 6-LETTER WORD THAT BECOMES A 1-SYLLABLE WORD IF "SH" IS ADDED TO THE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IN THE ENGLISH LANGUAGE THAT ENDS IN THE LETTERS "M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PRONOUNCED THE SAME IF THE LAST 4 LETTERS ARE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2670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MENDOUS,  HAZARDOUS, HORRENDOUS,  &amp;  STUPEND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ENGLISH WORDS THAT END IN "DOUS".  WHAT ARE THEY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MALE FORMS OF WORDS (ACTOR) ARE SHORTER THAN THE FEMALE FORMS (ACTRESS).  WHAT FEMALE FORM IS SHORTER THAN ITS MALE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9-LETTER WORD THAT CONTAINS ONLY ONE VOW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WORDS "FLUMMOX" AND "BOREDOM"?  WILLIAM SHAKESPEARE, CHARLES DICKENS, OR   LEWIS CARRO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9-LETTER WORD HAVING TO DO WITH FINANCE IS COMPRISED ENTIRELY OF LETTERS WITH HORIZONTAL SYMMETRY WHEN WRITTEN IN UPPER-CA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28600" y="72396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STARTING WITH "S" HAS THE MOST DEFINITIONS IN THE OXFORD ENGLISH DICTION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LETTER WORD STARTS AND ENDS WITH "A", BUT HAS NO OTHER VOWELS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2-SYLLABLE, 6-LETTER WORD THAT BECOMES A 1-SYLLABLE WORD IF "SH" IS ADDED TO THE BEGI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PRONOUNCED THE SAME IF THE LAST 4 LETTERS ARE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14:14:03Z</dcterms:created>
  <dc:creator>Jennifer Budzinski</dc:creator>
  <dc:description/>
  <dc:language>en-US</dc:language>
  <cp:lastModifiedBy>Erich Friedman</cp:lastModifiedBy>
  <dcterms:modified xsi:type="dcterms:W3CDTF">2020-09-01T16:56:57Z</dcterms:modified>
  <cp:revision>293</cp:revision>
  <dc:subject/>
  <dc:title>Slide 1</dc:title>
</cp:coreProperties>
</file>