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C6F5-81AC-4C39-B941-A608D07A0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086C-7D6B-4C8F-9709-D1B91A9EA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19BC-9714-4612-814B-3ADF4C5F4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937D-AE31-4781-A295-337A03E5C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EF35-8906-428F-ADCA-07AF5B4DD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582E-C609-4840-B6AB-D88B532F8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3905-B098-4651-97C3-D0662235D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BF5A-F1C1-4D60-AF27-507A500A1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27B4-768E-4CCF-AA74-A77A2AF8C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6B4F-4935-4A8D-9233-8AD891ABC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9386-CEC2-4006-ABDE-11250465D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81FA-5E7C-4EE6-8BDF-5321452F5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5036-17AB-47DF-9BF8-18F430939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9E50-250C-49A9-9D07-D63700B3E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9EB8-20E8-4A0E-93A9-3F367028E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B2E1-BA96-4D42-AD30-DD67CE7C4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EF57-593F-40F4-AC24-6EAAA7F24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3D0F-ABC5-4C37-9411-3EFDE383E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5F11-3C2D-45C8-A574-6971B7109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4F8F-8B7E-4103-9A4C-9AC3D5D62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7416-20D2-43C8-AD29-76CDAC73D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E4F0-9F6A-45DB-BA93-777D5F393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D7CC-79CA-4FBD-9F79-5FA225761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ENGLISH WORDS THAT END IN "DOUS".  WHAT ARE THEY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MALE FORMS OF WORDS (ACTOR) ARE SHORTER THAN THE FEMALE FORMS (ACTRESS).  WHAT FEMALE FORM IS SHORTER THAN ITS MALE F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AM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IN THE ENGLISH LANGUAGE THAT ENDS IN THE LETTERS "M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NGT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9-LETTER WORD THAT CONTAINS ONLY ONE VOW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809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IC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WORDS "FLUMMOX" AND "BOREDOM"?  WILLIAM SHAKESPEARE, CHARLES DICKENS, OR   LEWIS CARRO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9-LETTER WORD HAVING TO DO WITH FINANCE IS COMPRISED ENTIRELY OF LETTERS WITH HORIZONTAL SYMMETRY WHEN WRITTEN IN UPPER-C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STARTING WITH "S" HAS THE MOST DEFINITIONS IN THE OXFORD ENGLISH DICTION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-LETTER WORD STARTS AND ENDS WITH "A", BUT HAS NO OTHER VOWELS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G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2-SYLLABLE, 6-LETTER WORD THAT BECOMES A 1-SYLLABLE WORD IF "SH" IS ADDED TO THE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IN THE ENGLISH LANGUAGE THAT ENDS IN THE LETTERS "M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PRONOUNCED THE SAME IF THE LAST 4 LETTERS ARE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2670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MENDOUS,  HAZARDOUS, HORRENDOUS,  &amp;  STUPEND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ENGLISH WORDS THAT END IN "DOUS".  WHAT ARE THEY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ST MALE FORMS OF WORDS (ACTOR) ARE SHORTER THAN THE FEMALE FORMS (ACTRESS).  WHAT FEMALE FORM IS SHORTER THAN ITS MALE FOR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9-LETTER WORD THAT CONTAINS ONLY ONE VOW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WORDS "FLUMMOX" AND "BOREDOM"?  WILLIAM SHAKESPEARE, CHARLES DICKENS, OR   LEWIS CARRO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9-LETTER WORD HAVING TO DO WITH FINANCE IS COMPRISED ENTIRELY OF LETTERS WITH HORIZONTAL SYMMETRY WHEN WRITTEN IN UPPER-CAS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28600" y="72396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STARTING WITH "S" HAS THE MOST DEFINITIONS IN THE OXFORD ENGLISH DICTION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6-LETTER WORD STARTS AND ENDS WITH "A", BUT HAS NO OTHER VOWELS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2-SYLLABLE, 6-LETTER WORD THAT BECOMES A 1-SYLLABLE WORD IF "SH" IS ADDED TO THE BEGIN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PRONOUNCED THE SAME IF THE LAST 4 LETTERS ARE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14:14:03Z</dcterms:created>
  <dc:creator>Jennifer Budzinski</dc:creator>
  <dc:description/>
  <dc:language>en-US</dc:language>
  <cp:lastModifiedBy>Erich Friedman</cp:lastModifiedBy>
  <dcterms:modified xsi:type="dcterms:W3CDTF">2020-09-01T16:56:57Z</dcterms:modified>
  <cp:revision>293</cp:revision>
  <dc:subject/>
  <dc:title>Slide 1</dc:title>
</cp:coreProperties>
</file>