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F0568-F4C1-49D2-824D-5945F1FC97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9A18C-A537-443A-AB28-04E40C2CC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28957-A79A-4FA9-AA43-716320A86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899F-DC6A-4DBA-BDB9-82B2143ED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395D7-CB31-49F8-B351-6980BE3C1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EDB74-7604-4E53-8E1D-3DA9A79CF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891DC-8D54-430E-93D2-93CF8B864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119F5-8797-4A38-A311-0CA7E5C8F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62279-9B9E-416A-8FE8-77D012D39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65FC6-29DA-4953-B7F5-C267E3C5C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A307B-F50A-44F1-94F9-1D1CE8CDF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B0005-8A7C-4CAE-8DD8-F01758753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16E06-FA97-459A-98CE-91D115480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18A4A-1958-4685-ADD7-1C1F2C50E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64FF7-DAD9-45F8-9B7D-35D115A52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BD9EB-AD3C-4AD1-BBAB-04D005F67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A64BD-1BBD-41F4-821D-F5553E65C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377E6-C413-4329-8245-8FA606E8C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E3DFA-2595-4E79-86F2-42FA2EF50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A2D9C-36D2-44C6-97EE-7EBC100BF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B1EA0-56F6-49D2-BD6C-0D7C38442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9DFC2-DBF2-4350-80EF-0C58C1626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BFCC8-7008-4D8F-878C-13345B629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OR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66720" y="761760"/>
            <a:ext cx="7810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ARE 4 ENGLISH WORDS THAT END IN "DOUS".  WHAT ARE THEY?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ST MALE FORMS OF WORDS (ACTOR) ARE SHORTER THAN THE FEMALE FORMS (ACTRESS).  WHAT FEMALE FORM IS SHORTER THAN ITS MALE FOR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457200" y="4876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EAM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380880" y="762120"/>
            <a:ext cx="83822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WORD IN THE ENGLISH LANGUAGE THAT ENDS IN THE LETTERS "M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RENGT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57200" y="76212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9-LETTER WORD THAT CONTAINS ONLY ONE VOW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8096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ES  DICK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NVENTED THE WORDS "FLUMMOX" AND "BOREDOM"?  WILLIAM SHAKESPEARE, CHARLES DICKENS, OR   LEWIS CARROLL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836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CK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9-LETTER WORD HAVING TO DO WITH FINANCE IS COMPRISED ENTIRELY OF LETTERS WITH HORIZONTAL SYMMETRY WHEN WRITTEN IN UPPER-CA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90440" y="762120"/>
            <a:ext cx="8763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-LETTER WORD STARTING WITH "S" HAS THE MOST DEFINITIONS IN THE OXFORD ENGLISH DICTIONA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STH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62120"/>
            <a:ext cx="82296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6-LETTER WORD STARTS AND ENDS WITH "A", BUT HAS NO OTHER VOWELS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GG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2-SYLLABLE, 6-LETTER WORD THAT BECOMES A 1-SYLLABLE WORD IF "SH" IS ADDED TO THE BEGINN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WORD IN THE ENGLISH LANGUAGE THAT ENDS IN THE LETTERS "M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E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PRONOUNCED THE SAME IF THE LAST 4 LETTERS ARE REMOV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57200" y="42670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EMENDOUS,  HAZARDOUS, HORRENDOUS,  &amp;  STUPEND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38080" y="762120"/>
            <a:ext cx="74678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ARE 4 ENGLISH WORDS THAT END IN "DOUS".  WHAT ARE THEY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D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57200" y="76212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ST MALE FORMS OF WORDS (ACTOR) ARE SHORTER THAN THE FEMALE FORMS (ACTRESS).  WHAT FEMALE FORM IS SHORTER THAN ITS MALE FOR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9-LETTER WORD THAT CONTAINS ONLY ONE VOWE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NVENTED THE WORDS "FLUMMOX" AND "BOREDOM"?  WILLIAM SHAKESPEARE, CHARLES DICKENS, OR   LEWIS CARROLL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9-LETTER WORD HAVING TO DO WITH FINANCE IS COMPRISED ENTIRELY OF LETTERS WITH HORIZONTAL SYMMETRY WHEN WRITTEN IN UPPER-CAS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228600" y="72396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-LETTER WORD STARTING WITH "S" HAS THE MOST DEFINITIONS IN THE OXFORD ENGLISH DICTIONA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6-LETTER WORD STARTS AND ENDS WITH "A", BUT HAS NO OTHER VOWELS?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2-SYLLABLE, 6-LETTER WORD THAT BECOMES A 1-SYLLABLE WORD IF "SH" IS ADDED TO THE BEGINN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PRONOUNCED THE SAME IF THE LAST 4 LETTERS ARE REMOV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14:14:03Z</dcterms:created>
  <dc:creator>Jennifer Budzinski</dc:creator>
  <dc:description/>
  <dc:language>en-US</dc:language>
  <cp:lastModifiedBy>Erich Friedman</cp:lastModifiedBy>
  <dcterms:modified xsi:type="dcterms:W3CDTF">2020-09-01T16:56:57Z</dcterms:modified>
  <cp:revision>293</cp:revision>
  <dc:subject/>
  <dc:title>Slide 1</dc:title>
</cp:coreProperties>
</file>