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03A7-7464-4A8A-B686-DBD10C34F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21AD-20C9-4CAC-836E-E6FB80471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6AFD-923B-41C9-962E-AD14D2FD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B8A9-CFB1-4AE2-8809-5AD0AC0C9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1B99-2511-4580-8EE5-A7BEDC523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44B6-E3DB-4743-841E-69C9A0D2B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CA7C-2CEA-4BDF-8939-5420542F6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C6DD-3805-4D5D-B6EF-39E09FFA1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8ABF-213E-478B-BC36-4EE2F6ECB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D1EE-5C14-4D62-9357-44043C4C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EF2B-EE69-460E-96F5-CE947302D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7778-F441-4253-80B4-150E9D49C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E3DE-E3BE-4FF6-82EE-86FCEDA62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C4A2-4A9D-454E-80E1-339678342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A782-9D2F-486B-A8B0-2BAFE5611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2AF9-DB68-41B1-944E-8108A6FA8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5EFA-59B3-499D-81C8-D341EB9B4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4286-5C5E-4E17-933E-37695C9B6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799C-6745-49CF-8CA4-00EAC7A20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B5B-3D71-41E8-9E7D-078366D3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4BA2-64F8-4568-8416-38B0C241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496E-6839-4089-8A55-2EA5DAAD5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D210-D4AD-4714-B1DE-EE00928EB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IOM TRANS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64960" y="761760"/>
            <a:ext cx="861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NDARIN, DOES "HUG BUDDHA'S FOOT" MEAN "PROCRASTINATE", "USE RELIGION AS AN EXCUSE", OR "EXPERIENCE GOOD LU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LTESE, DOES "HE CAN SMELL MELONS" MEAN "HE IS VERY LUCKY", "HE HAS A BIG NOSE", OR "HE HAS AN ACTIVE IMAGIN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  OF  A  B!*&amp;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7720" y="762120"/>
            <a:ext cx="8186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LIPINO TAGALOG, DOES  "CHILD OF A TOFU", MEAN "ADOPTED", "VEGETARIAN", OR "SON OF A B!*&amp;#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ARE  SO  C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12800" y="762120"/>
            <a:ext cx="771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ERSIAN, DOES "I WANT TO EAT YOUR LIVER" MEAN "I'M STARVING", "YOU ARE SO CUTE", OR "I'M EXTREMELY ANGRY WITH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LL  BEAT  YOU 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47720" y="762120"/>
            <a:ext cx="7648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, DOES "I'LL CHANGE YOUR LIGHTS" MEAN "I'LL BEAT YOU UP", "I'LL BE A GOOD LOVER", OR "I'LL SHARE A CIGAR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ARE  DOO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93760" y="762120"/>
            <a:ext cx="8556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EXICAN SPANISH, DOES "THE CLOWN HAS PICKED YOU UP" MEAN "YOU ARE VERY FUNNY", "YOU ARE DOOMED", OR "YOU SEEM IN A GOOD M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GLY  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AZILIAN PORTUGUESE, DOES "SHRIMP WOMAN" MEAN "UGLY LADY", "SMALL LADY", OR "YOUNG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ET  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4960" y="762120"/>
            <a:ext cx="807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CELANDIC, DOES "UNPLOWED FIELD" MEAN "VIRGIN", "HOME FOR SALE", OR "MARKET OPPORTUN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IGNING  INNOC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6680" y="762120"/>
            <a:ext cx="827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PANESE, DOES "WEARING A CAT" MEAN "ASKING TOO MANY QUESTIONS", "FEIGNING INNOCENCE", OR "WEARING OUTRAGEOUS CLO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19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LIPINO TAGALOG, DOES "CHILD OF A TOFU", MEAN "ADOPTED", "VEGETARIAN", OR "SON OF A B!*&amp;#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EXPRESSED  MY  FEEL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UTCH, DOES "I LOST MY EGG" MEAN "I MADE A BAD INVESTMENT", "I EXPRESSED MY FEELINGS", OR "I GOT DEMOTED AT WO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CRAST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NDARIN, DOES "HUG BUDDHA'S FOOT" MEAN "PROCRASTINATE", "USE RELIGION AS AN EXCUSE", OR "EXPERIENCE GOOD LU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76280" y="4952880"/>
            <a:ext cx="819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  HAS  A  BIG  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47640" y="762120"/>
            <a:ext cx="784872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LTESE, DOES "HE CAN SMELL MELONS" MEAN "HE IS VERY LUCKY", "HE HAS A BIG NOSE", OR "HE HAS AN ACTIVE IMAGIN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ERSIAN, DOES "I WANT TO EAT YOUR LIVER" MEAN "I'M STARVING", "YOU ARE SO CUTE", OR "I'M EXTREMELY ANGRY WITH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2640" y="762120"/>
            <a:ext cx="7577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, DOES "I'LL CHANGE YOUR LIGHTS" MEAN "I'LL BEAT YOU UP", "I'LL BE A GOOD LOVER", OR "I'LL SHARE A CIGAR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4040" y="762120"/>
            <a:ext cx="857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EXICAN SPANISH, DOES "THE CLOWN HAS PICKED YOU UP" MEAN "YOU ARE VERY FUNNY", "YOU ARE DOOMED", OR "YOU SEEM IN A GOOD M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AZILIAN PORTUGUESE, DOES "SHRIMP WOMAN" MEAN "UGLY LADY", "SMALL LADY", OR "YOUNG L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2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CELANDIC, DOES "UNPLOWED FIELD" MEAN "VIRGIN", "HOME FOR SALE", OR "MARKET OPPORTUN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8440" y="761760"/>
            <a:ext cx="852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PANESE, DOES "WEARING A CAT" MEAN "ASKING TOO MANY QUESTIONS", "FEIGNING INNOCENCE", OR "WEARING OUTRAGEOUS CLO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UTCH, DOES "I LOST MY EGG" MEAN "I MADE A BAD INVESTMENT", "I EXPRESSED MY FEELINGS", OR "I GOT DEMOTED AT WO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25:39Z</dcterms:modified>
  <cp:revision>468</cp:revision>
  <dc:subject/>
  <dc:title>Slide 1</dc:title>
</cp:coreProperties>
</file>