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383B-9B52-44D2-A4B4-29F6EC3FA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C783-FDFC-4FCF-8D70-051C00221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E657-4B9A-45B3-885D-1AB343713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33A0-A466-48FF-B981-D46C80CE8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1EC5-CC63-4658-9C2C-0961DE333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BCD3-D97A-4299-93DB-A9E7B01D7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94BA-79A5-41C9-A593-918E8248F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FE9A-A87B-4318-912B-E59C7B240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7290-54A7-44A5-8627-FE7B128A2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5BF1-5734-4D30-A825-8C1F97280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ABD8-E5AD-4C9F-9F64-0A759BAD9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C9A5-0ED4-4A58-8B1B-FACBF3834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18BE-5F29-401F-BFDA-99220BCE5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A3FF-6A7E-4360-A758-E6F4D139E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6B70-0233-44E5-8FAE-C24DD414E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351E-AFF2-41E6-B2E4-70ADF773F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E2BD-2F4E-44FD-8E29-9EEAA2B99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9062-0276-43EE-90A0-1BB4105AA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E63E-3B36-4EBF-886C-6B06DF497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41DF-0C81-4EA2-B4E5-25DD91326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C5CF-3189-4838-BEC8-7BF3C2FF1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26B2-4C12-4E2E-A582-7EE42526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5BE6-953F-4953-90C4-9C1E600DF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IOM TRANS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64960" y="761760"/>
            <a:ext cx="861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NDARIN, DOES "HUG BUDDHA'S FOOT" MEAN "PROCRASTINATE", "USE RELIGION AS AN EXCUSE", OR "EXPERIENCE GOOD LU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LTESE, DOES "HE CAN SMELL MELONS" MEAN "HE IS VERY LUCKY", "HE HAS A BIG NOSE", OR "HE HAS AN ACTIVE IMAGIN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  OF  A  B!*&amp;#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7720" y="762120"/>
            <a:ext cx="8186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LIPINO TAGALOG, DOES  "CHILD OF A TOFU", MEAN "ADOPTED", "VEGETARIAN", OR "SON OF A B!*&amp;#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790640" y="495288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ARE  SO  C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12800" y="762120"/>
            <a:ext cx="771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ERSIAN, DOES "I WANT TO EAT YOUR LIVER" MEAN "I'M STARVING", "YOU ARE SO CUTE", OR "I'M EXTREMELY ANGRY WITH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LL  BEAT  YOU 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47720" y="762120"/>
            <a:ext cx="7648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, DOES "I'LL CHANGE YOUR LIGHTS" MEAN "I'LL BEAT YOU UP", "I'LL BE A GOOD LOVER", OR "I'LL SHARE A CIGAR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ARE  DOO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93760" y="762120"/>
            <a:ext cx="8556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EXICAN SPANISH, DOES "THE CLOWN HAS PICKED YOU UP" MEAN "YOU ARE VERY FUNNY", "YOU ARE DOOMED", OR "YOU SEEM IN A GOOD M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GLY  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AZILIAN PORTUGUESE, DOES "SHRIMP WOMAN" MEAN "UGLY LADY", "SMALL LADY", OR "YOUNG L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ET  OPPORTUN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4960" y="762120"/>
            <a:ext cx="807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CELANDIC, DOES "UNPLOWED FIELD" MEAN "VIRGIN", "HOME FOR SALE", OR "MARKET OPPORTUN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IGNING  INNOC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6680" y="762120"/>
            <a:ext cx="827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PANESE, DOES "WEARING A CAT" MEAN "ASKING TOO MANY QUESTIONS", "FEIGNING INNOCENCE", OR "WEARING OUTRAGEOUS CLO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193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ILIPINO TAGALOG, DOES "CHILD OF A TOFU", MEAN "ADOPTED", "VEGETARIAN", OR "SON OF A B!*&amp;#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EXPRESSED  MY  FEEL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4000" y="762120"/>
            <a:ext cx="8496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UTCH, DOES "I LOST MY EGG" MEAN "I MADE A BAD INVESTMENT", "I EXPRESSED MY FEELINGS", OR "I GOT DEMOTED AT WO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CRASTI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95200" y="762120"/>
            <a:ext cx="8553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NDARIN, DOES "HUG BUDDHA'S FOOT" MEAN "PROCRASTINATE", "USE RELIGION AS AN EXCUSE", OR "EXPERIENCE GOOD LU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76280" y="4952880"/>
            <a:ext cx="8191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  HAS  A  BIG  N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47640" y="762120"/>
            <a:ext cx="7848720" cy="35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LTESE, DOES "HE CAN SMELL MELONS" MEAN "HE IS VERY LUCKY", "HE HAS A BIG NOSE", OR "HE HAS AN ACTIVE IMAGIN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ERSIAN, DOES "I WANT TO EAT YOUR LIVER" MEAN "I'M STARVING", "YOU ARE SO CUTE", OR "I'M EXTREMELY ANGRY WITH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2640" y="762120"/>
            <a:ext cx="7577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, DOES "I'LL CHANGE YOUR LIGHTS" MEAN "I'LL BEAT YOU UP", "I'LL BE A GOOD LOVER", OR "I'LL SHARE A CIGARET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4040" y="762120"/>
            <a:ext cx="857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EXICAN SPANISH, DOES "THE CLOWN HAS PICKED YOU UP" MEAN "YOU ARE VERY FUNNY", "YOU ARE DOOMED", OR "YOU SEEM IN A GOOD M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3560" y="761760"/>
            <a:ext cx="7615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AZILIAN PORTUGUESE, DOES "SHRIMP WOMAN" MEAN "UGLY LADY", "SMALL LADY", OR "YOUNG LA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6520" y="761760"/>
            <a:ext cx="8129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CELANDIC, DOES "UNPLOWED FIELD" MEAN "VIRGIN", "HOME FOR SALE", OR "MARKET OPPORTUN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8440" y="761760"/>
            <a:ext cx="852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PANESE, DOES "WEARING A CAT" MEAN "ASKING TOO MANY QUESTIONS", "FEIGNING INNOCENCE", OR "WEARING OUTRAGEOUS CLO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3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UTCH, DOES "I LOST MY EGG" MEAN "I MADE A BAD INVESTMENT", "I EXPRESSED MY FEELINGS", OR "I GOT DEMOTED AT WO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1-30T19:25:39Z</dcterms:modified>
  <cp:revision>468</cp:revision>
  <dc:subject/>
  <dc:title>Slide 1</dc:title>
</cp:coreProperties>
</file>