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A9C4-B66D-4B27-A521-76C95A770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77BF-493C-4298-869E-945BD8676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F4A3-7847-4DCF-AF50-4D26C9292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B116-DCC8-4DA3-8C72-6E7B6DDED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6F89-9880-4A75-BC9D-A4FB0BE91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8718-D7BA-4B11-9F61-C22A522DD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5FA5-3665-434E-8354-C8C87349A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6B4A-1446-4ED5-84C4-E4FBE4AF9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2991-1D51-4314-8B01-8309213E2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054F-E6D0-4631-9B65-5AB6746BE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FFA3-B394-4CF1-AA4A-26D3CD97D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C2D6-2F92-47DB-B773-76D5EB39F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EF07-E74C-4B6C-8171-3311B97FF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0313-1A17-470D-8F7D-C2521EF68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B481-FA4B-4786-B019-6095C00B2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05D5-77CA-4675-896E-1F576A031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2C71-93A9-4471-8900-2F6CF7CD1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D200-85A4-4D57-9743-985BB4B5F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3AF0-9A31-4F60-8A72-DB0C7E9F1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B03C-8763-42B7-AB69-3D8009D58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E157-85C2-437A-9F92-6A55DDDE8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6473-DBA6-4CE7-837B-EE1E36CF5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A6F6-B857-486F-A676-17E844B01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LANGUAGE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ffffff"/>
                </a:solidFill>
                <a:latin typeface="Arial"/>
              </a:rPr>
              <a:t>NGÔN NGỮ LÀ GÌ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यह कौनसी भाषा है</a:t>
            </a: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ffffff"/>
                </a:solidFill>
                <a:latin typeface="Arial"/>
              </a:rPr>
              <a:t>КАКОЙ ЯЗЫК Э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B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איזו שפה זו</a:t>
            </a: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28880" y="75240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ΤΙ ΓΛΩΣΣΑ ΕΙΝΑΙ ΑΥΤΗ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54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04840" y="73980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這是什麼語言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66760" y="762120"/>
            <a:ext cx="861048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นี่คือภาษาอะไร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D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D FÖR SPRÅK ÄR DET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AB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ffffff"/>
                </a:solidFill>
                <a:latin typeface="Arial"/>
              </a:rPr>
              <a:t>ما هذه اللغة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ffffff"/>
                </a:solidFill>
                <a:latin typeface="Arial"/>
              </a:rPr>
              <a:t>КАКОЙ ЯЗЫК ЭТ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00240" y="762120"/>
            <a:ext cx="6743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これは何の言語です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TNAM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ffffff"/>
                </a:solidFill>
                <a:latin typeface="Arial"/>
              </a:rPr>
              <a:t>NGÔN NGỮ LÀ GÌ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N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371600" y="762120"/>
            <a:ext cx="6400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यह कौनसी भाषा है</a:t>
            </a: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איזו שפה זו</a:t>
            </a: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ΤΙ ΓΛΩΣΣΑ ΕΙΝΑΙ ΑΥΤΗ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040" y="7621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這是什麼語言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66760" y="7236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นี่คือภาษาอะไร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D FÖR SPRÅK ÄR DET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ffffff"/>
                </a:solidFill>
                <a:latin typeface="Arial"/>
              </a:rPr>
              <a:t>ما هذه اللغة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これは何の言語ですか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2-03-02T12:57:03Z</dcterms:modified>
  <cp:revision>337</cp:revision>
  <dc:subject/>
  <dc:title>Slide 1</dc:title>
</cp:coreProperties>
</file>