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8126-4DDF-4FEB-9BC2-B9F1AED14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A2A8-49F9-42DA-BFA4-3A83CD123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0644-1484-41B6-B494-C6CCA5C47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0A80-548D-46A2-8F1A-8C01FCE59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1CFA-A0C4-4F45-9451-948A5AE3F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4E8-71FD-44BC-9A76-4B8033E21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4B8A-19FE-44EC-96BC-02DFED25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90D4-5FFB-47F5-930F-6D2642F7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1A0C-3297-4032-9E94-97C295841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F730-D00C-4F97-BE27-3422914E4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DB45-FF4E-4F12-B76A-57EB89D06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1838-6110-4A7B-AD36-CB87256A7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685F-C2BB-456D-AEF9-FC35D805C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D384-EBAB-4CBA-BFCB-D0186AD4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34C8-2E17-4C98-89C6-AB7498C2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CCB8-2CD8-4838-A96F-C9050D354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1D3A-B667-411F-A4D4-CAF16FB4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98C5-28DF-44E3-9534-59F16AB4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3FA5-2019-4DCA-9CC1-AD4A9A1E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BA9-81F7-4C47-A743-6AEFA8454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EE40-36DA-47D4-83EB-5C568DBAE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1602-F9CE-4B07-8A0F-64A027D93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2F8E-7861-460C-AAC7-EF1BFC342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ANGUAGE IS THI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ffffff"/>
                </a:solidFill>
                <a:latin typeface="Arial"/>
              </a:rPr>
              <a:t>NGÔN NGỮ LÀ GÌ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यह कौनसी भाषा है</a:t>
            </a: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ffffff"/>
                </a:solidFill>
                <a:latin typeface="Arial"/>
              </a:rPr>
              <a:t>КАКОЙ ЯЗЫК ЭТ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B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איזו שפה זו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52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ΤΙ ΓΛΩΣΣΑ ΕΙΝΑΙ ΑΥΤΗ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398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這是什麼語言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6760" y="762120"/>
            <a:ext cx="861048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นี่คือภาษาอะไร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D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D FÖR SPRÅK ÄR DET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AB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ffffff"/>
                </a:solidFill>
                <a:latin typeface="Arial"/>
              </a:rPr>
              <a:t>ما هذه اللغة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Cyrl-AZ" sz="4000" spc="-1" strike="noStrike">
                <a:solidFill>
                  <a:srgbClr val="ffffff"/>
                </a:solidFill>
                <a:latin typeface="Arial"/>
              </a:rPr>
              <a:t>КАКОЙ ЯЗЫК Э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これは何の言語です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>
                <a:solidFill>
                  <a:srgbClr val="ffffff"/>
                </a:solidFill>
                <a:latin typeface="Arial"/>
              </a:rPr>
              <a:t>NGÔN NGỮ LÀ GÌ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N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यह कौनसी भाषा है</a:t>
            </a:r>
            <a:r>
              <a:rPr b="0" lang="hi-IN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איזו שפה זו</a:t>
            </a:r>
            <a:r>
              <a:rPr b="0" lang="he-IL" sz="4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ΤΙ ΓΛΩΣΣΑ ΕΙΝΑΙ ΑΥΤΗ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Arial"/>
              </a:rPr>
              <a:t>這是什麼語言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760" y="723600"/>
            <a:ext cx="861048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นี่คือภาษาอะไร</a:t>
            </a:r>
            <a:r>
              <a:rPr b="0" lang="th-TH" sz="4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D FÖR SPRÅK ÄR DET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6000" spc="-1" strike="noStrike">
                <a:solidFill>
                  <a:srgbClr val="ffffff"/>
                </a:solidFill>
                <a:latin typeface="Arial"/>
              </a:rPr>
              <a:t>ما هذه اللغة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これは何の言語ですか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3-02T12:57:03Z</dcterms:modified>
  <cp:revision>337</cp:revision>
  <dc:subject/>
  <dc:title>Slide 1</dc:title>
</cp:coreProperties>
</file>