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15C6-9184-4D6F-9BA7-B3A06CDB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20B7-7691-40A9-9922-750F9BAD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60E4-D07D-4953-9240-921E20F5C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E518-65C1-4C5B-832C-7C505B57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AE0-04C0-4DAA-9538-9BB62B20C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6372-A78C-46D3-836A-F7BBF101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C9C3-5611-4F4A-8CCC-0E330EA9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C9DB-DB95-4A05-B902-3D6A4BC9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9E62-2535-4BD6-A137-568530D2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5FB6-AC81-4B21-8466-828D0A87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85C8-B95A-4F86-96A6-9937FC58C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91F1-0EE3-4854-807B-4214D7110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F8EF-FC7F-4780-9100-7FFA43BC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655A-FFD1-4D79-A11A-518715028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6106-249C-43A0-910E-444B47971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86AE-BE2E-4CE2-AA2F-E58CBAE5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A9A4-B7D4-413C-B5CF-099A77FB9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5710-E7D5-4BB6-A38A-5B3556ABD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B8CA-A8DB-4931-84FB-2D19A318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316A-AD62-4F6D-B62F-A46A5955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F3D6-8C8C-4369-86C1-888DCDA2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822C-153B-4F89-B87D-F0C12425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503A-1D2A-442D-830A-22099B03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 MEANINGS OF ENGLISH WORDS WITH FRENCH ORIG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P" MEANS "PROTECTION AGAINST A FALL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96880" y="762120"/>
            <a:ext cx="795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R" LITERALLY MEANS "PRESENT YOURSELVES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IQ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9600" y="762120"/>
            <a:ext cx="852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E" MEANT "LITTLE CARD THAT COURTIERS USED TO REMEMBER THE NIT-PICKY RULES OF THE COU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47560" y="762120"/>
            <a:ext cx="804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C" MEANS "PIECE CUT OFF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9120" y="762120"/>
            <a:ext cx="756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C" MEANS "LITTLE HOOK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AISS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63720" y="762120"/>
            <a:ext cx="72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IOD OF HISTORY IN ENGLISH MEANS "REBIRTH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  D'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52520" y="762120"/>
            <a:ext cx="6438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FOOD IN ENGLISH LITERALLY MEANS "OUTSIDE THE WORK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FF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FRENCH FOOD LITERALLY MEANS "BR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6680" y="762120"/>
            <a:ext cx="88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BLING GAME IN ENGLISH MEANS "LITTLE WHEEL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2000" y="762120"/>
            <a:ext cx="8637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E" MEANT "LITTLE CARD THAT COURTIERS USED TO REMEMBER THE NIT-PICKY RULES OF THE COU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ÎTRE  D  ('HÔT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IS SHORT FOR "MASTER OF THE HOTEL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ACH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P" MEANS "PROTECTION AGAINST A FALL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DEZ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19120" y="762120"/>
            <a:ext cx="8105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R" LITERALLY MEANS "PRESENT YOURSELVES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C" MEANS "PIECE CUT OFF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C" MEANS "LITTLE HOOK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6880" y="762120"/>
            <a:ext cx="741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IOD OF HISTORY IN ENGLISH MEANS "REBIRTH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2440" y="762120"/>
            <a:ext cx="6639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FOOD IN ENGLISH LITERALLY MEANS "OUTSIDE THE WORK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04760" y="761760"/>
            <a:ext cx="713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FRENCH FOOD LITERALLY MEANS "BR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9000" y="761760"/>
            <a:ext cx="876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BLING GAME IN ENGLISH MEANS "LITTLE WHEEL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IS SHORT FOR "MASTER OF THE HOTEL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6-27T17:55:47Z</dcterms:modified>
  <cp:revision>378</cp:revision>
  <dc:subject/>
  <dc:title>Slide 1</dc:title>
</cp:coreProperties>
</file>