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815A-E1B7-42D8-B148-D7A9D3E0B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C70E-4F75-4386-B065-EA5D8362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C79E-DEEE-42F8-9B94-1D156F8A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1136-2D2F-408A-A222-C271DE564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963D-7539-4C6C-8549-C010CFB17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42B7-740B-4E5C-8B52-1084DD4DD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C1B2-E1B1-46C1-9CC4-E6E2BE31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B39C-A0B3-4F53-99E0-326F480AC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65560-71A5-4D84-B53D-DD593C6B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2F30-991D-4AD2-A8AD-3B594AA01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9D56-0285-4C15-B370-D66ABEF57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C739-C486-4E9C-8473-C1A19BDA4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E3C1-A306-427C-B775-D65C6AB6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D7B8-29E0-4230-848F-F6D8AC1F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BD2B-FE92-45C0-AD6F-E5191712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CE5E-DCC6-4625-AC66-73E92BAEA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8C7C-54E4-4747-B26D-AE9F595A2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1BF6-8501-41DF-98FE-C734128AE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6FD3-0A73-49AA-87A5-0839EF191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257A-29D9-4713-BEA3-7D3D7327A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EEDC-B391-4E09-81C4-62A5825D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9F18-43CD-4BE6-A375-32793D105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526C-4E2F-439F-8FC6-E89902F19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 MEANINGS OF ENGLISH WORDS WITH FRENCH ORIG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P" MEANS "PROTECTION AGAINST A FALL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96880" y="762120"/>
            <a:ext cx="795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R" LITERALLY MEANS "PRESENT YOURSELVES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IQU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9600" y="762120"/>
            <a:ext cx="852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E" MEANT "LITTLE CARD THAT COURTIERS USED TO REMEMBER THE NIT-PICKY RULES OF THE COU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47560" y="762120"/>
            <a:ext cx="804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C" MEANS "PIECE CUT OFF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H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9120" y="762120"/>
            <a:ext cx="756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C" MEANS "LITTLE HOOK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AISS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63720" y="762120"/>
            <a:ext cx="72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IOD OF HISTORY IN ENGLISH MEANS "REBIRTH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  D'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52520" y="762120"/>
            <a:ext cx="6438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FOOD IN ENGLISH LITERALLY MEANS "OUTSIDE THE WORK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FF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FRENCH FOOD LITERALLY MEANS "BREA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6680" y="762120"/>
            <a:ext cx="88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BLING GAME IN ENGLISH MEANS "LITTLE WHEEL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2000" y="762120"/>
            <a:ext cx="8637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E" MEANT "LITTLE CARD THAT COURTIERS USED TO REMEMBER THE NIT-PICKY RULES OF THE COU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ÎTRE  D  ('HÔT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IS SHORT FOR "MASTER OF THE HOTEL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ACH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P" MEANS "PROTECTION AGAINST A FALL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DEZ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19120" y="762120"/>
            <a:ext cx="8105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R" LITERALLY MEANS "PRESENT YOURSELVES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C" MEANS "PIECE CUT OFF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8960" y="762120"/>
            <a:ext cx="742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STARTING WITH "C" MEANS "LITTLE HOOK"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6880" y="762120"/>
            <a:ext cx="741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IOD OF HISTORY IN ENGLISH MEANS "REBIRTH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52440" y="762120"/>
            <a:ext cx="6639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FOOD IN ENGLISH LITERALLY MEANS "OUTSIDE THE WORK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04760" y="761760"/>
            <a:ext cx="713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FRENCH FOOD LITERALLY MEANS "BREA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9000" y="761760"/>
            <a:ext cx="8764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BLING GAME IN ENGLISH MEANS "LITTLE WHEEL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4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IS SHORT FOR "MASTER OF THE HOTEL"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6-27T17:55:47Z</dcterms:modified>
  <cp:revision>378</cp:revision>
  <dc:subject/>
  <dc:title>Slide 1</dc:title>
</cp:coreProperties>
</file>