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1AFF-8EA2-429E-B91B-54A009889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1589-6E25-41F1-BED9-BB990992A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896B-8765-449A-A58D-4AD6B4FD0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ED36-BF07-4C51-9635-060796EA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95DB-8629-41E6-906C-6D74B69C0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20C9-7DF3-4C9C-9130-F83538930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8C90-EA16-4E5F-A03A-7118DC7F3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50C9-DE5F-4421-B5E0-BAD76CC10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B11F-9A0E-45CB-9C42-63EB15FA3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3FEF-07DB-4D66-A0EA-FD8F8FA80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5329-C54A-44ED-B222-EB006CE10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706A-CFBF-4897-85CC-9F6DA3A09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E866-131D-4561-9B9B-2BB665C28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E3E2-3CBF-4C66-8C33-AA8FBC622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0FBD-3D16-4D21-8C66-8EAA7165C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5B9C-756D-490B-8757-FC26348F1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D737-FA19-44B3-B29D-53EF11712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D847-9087-4828-A3FF-85BCAC19F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2057-F116-43C4-B313-3526E97D7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1AF8-B8C9-4EAB-84D7-1DF55BFB3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9027-5457-4AC6-B001-DA91051CF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5DB9-245B-46C0-873D-F2B92A66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E20B-B144-4DFF-B558-BC8BFCE4D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TS WITH Q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1280" y="761760"/>
            <a:ext cx="900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 MORE ADVANCED LIBERAL ARTS (ARITHMETIC, GEOMETRY, MUSIC, AND ASTRONOMY) ARE TOGETHER KNOWN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25400" y="762120"/>
            <a:ext cx="7693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OUNTRY IN THE WORLD WHOSE NAME STARTS WITH A "Q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2280" y="762120"/>
            <a:ext cx="883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IGUANA FROM "FOXTR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3486240" y="2666880"/>
            <a:ext cx="2171520" cy="22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42880" y="762120"/>
            <a:ext cx="8058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-KNOWN TYPE OF PARTICLE, THAT EVEN NEUTRONS AND PROTONS ARE MAD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T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2400" y="762120"/>
            <a:ext cx="88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IS THE NAME OF 1,000,000,000,000,0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57040" y="762120"/>
            <a:ext cx="862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DENOMINATION IS ASSOCIATED WITH BRYN MAWR, SWATHMORE, AND EARLHAM COLLE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69880" y="762120"/>
            <a:ext cx="800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OROUGH OF NYC BY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LITY,  VALUE,  CONVEN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71560" y="762120"/>
            <a:ext cx="739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INITIALS OF THE SHOPPING CHANNEL QVC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R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20680" y="762120"/>
            <a:ext cx="8702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THE PAPER SIZE SLIGHTLY SMALLER THAN LETTER (8½⨯11) AND SLIGHTLY LARGER THAN GOVERNMENT LETTER (8⨯1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8000" y="762120"/>
            <a:ext cx="8745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IGUANA FROM "FOXTR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486240" y="2666880"/>
            <a:ext cx="217152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IS TYPICALLY USED TO TREAT MALAR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DRIV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2680" y="762120"/>
            <a:ext cx="8918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 MORE ADVANCED LIBERAL ARTS (ARITHMETIC, GEOMETRY, MUSIC, AND ASTRONOMY) ARE TOGETHER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A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19280" y="762120"/>
            <a:ext cx="770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OUNTRY IN THE WORLD WHOSE NAME STARTS WITH A "Q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-KNOWN TYPE OF PARTICLE, THAT EVEN NEUTRONS AND PROTONS ARE MAD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36680" y="762120"/>
            <a:ext cx="827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IS THE NAME OF 1,000,000,000,000,0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96920" y="762120"/>
            <a:ext cx="8750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DENOMINATION IS ASSOCIATED WITH BRYN MAWR, SWATHMORE, AND EARLHAM COLLE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66640" y="761760"/>
            <a:ext cx="8010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OROUGH OF NYC BY A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8480" y="761760"/>
            <a:ext cx="754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INITIALS OF THE SHOPPING CHANNEL QVC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6520" y="761760"/>
            <a:ext cx="8670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THE PAPER SIZE SLIGHTLY SMALLER THAN LETTER (8½⨯11) AND SLIGHTLY LARGER THAN GOVERNMENT LETTER (8⨯1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85720" y="761760"/>
            <a:ext cx="797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IS TYPICALLY USED TO TREAT MALAR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6-27T17:39:55Z</dcterms:modified>
  <cp:revision>405</cp:revision>
  <dc:subject/>
  <dc:title>Slide 1</dc:title>
</cp:coreProperties>
</file>