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3E18-8EC3-4C62-A350-9632F8609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D065-9A28-403B-B078-23EC0AA85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9C09-EADF-4478-925A-CC75253E4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F0F4-5595-499A-93C8-67DDBE300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E5D9-00F7-4553-9D08-B04D22B7C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D4D3-75D2-49D7-BCB8-DD143CE07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2883-2C43-4691-9C3A-6358A5F0A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90A8-0687-47D0-BC69-C1536CED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3573-B81E-4E81-AAB1-9BFE731C0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1760-6844-457D-A4F2-3365ACE43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F902-0EE3-47FC-BA71-C3B01465B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6FE-2E16-48D3-B9B2-2AACEA194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BA55F-79E6-466E-B05E-FC57BA1C4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AE9B-3FB5-4452-83AA-CA62BCE0C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1A33D-624A-4347-BDCE-71F052586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C2CC-2C0B-4D55-8467-A3ED7E5C5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B551-D11B-47A9-A8CF-E09124F54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6B1E-99B8-42F8-95A5-187223E3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8339-ECB4-4CDE-8D7E-FF7285E05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742B-5E4F-4000-A941-27B9CB0B8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F8FC-293D-4535-AB05-C99B98E64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00F7-FBCF-4DB0-8FEE-761066EAD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8EF1-CC45-41A9-AEAD-B2BA8CE24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S WITH Q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1280" y="761760"/>
            <a:ext cx="900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MORE ADVANCED LIBERAL ARTS (ARITHMETIC, GEOMETRY, MUSIC, AND ASTRONOMY) ARE TOGETHER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25400" y="762120"/>
            <a:ext cx="769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UNTRY IN THE WORLD WHOSE NAME STARTS WITH A "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52280" y="76212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IGUANA FROM "FOXTR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3486240" y="2666880"/>
            <a:ext cx="2171520" cy="225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42880" y="762120"/>
            <a:ext cx="8058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-KNOWN TYPE OF PARTICLE, THAT EVEN NEUTRONS AND PROTONS ARE MAD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T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2400" y="762120"/>
            <a:ext cx="88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IS THE NAME OF 1,000,000,000,000,0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57040" y="762120"/>
            <a:ext cx="862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DENOMINATION IS ASSOCIATED WITH BRYN MAWR, SWATHMORE, AND EARLHAM COLLE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69880" y="762120"/>
            <a:ext cx="8004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OROUGH OF NYC BY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LITY,  VALUE,  CONVEN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71560" y="762120"/>
            <a:ext cx="739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INITIALS OF THE SHOPPING CHANNEL QVC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R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0680" y="762120"/>
            <a:ext cx="870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THE PAPER SIZE SLIGHTLY SMALLER THAN LETTER (8½⨯11) AND SLIGHTLY LARGER THAN GOVERNMENT LETTER (8⨯1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98000" y="762120"/>
            <a:ext cx="8745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IGUANA FROM "FOXTR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486240" y="2666880"/>
            <a:ext cx="217152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IS TYPICALLY USED TO TREAT MALA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ADRIV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2680" y="762120"/>
            <a:ext cx="8918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4 MORE ADVANCED LIBERAL ARTS (ARITHMETIC, GEOMETRY, MUSIC, AND ASTRONOMY) ARE TOGETHER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719280" y="762120"/>
            <a:ext cx="770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OUNTRY IN THE WORLD WHOSE NAME STARTS WITH A "Q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-KNOWN TYPE OF PARTICLE, THAT EVEN NEUTRONS AND PROTONS ARE MAD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36680" y="762120"/>
            <a:ext cx="827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, WHAT IS THE NAME OF 1,000,000,000,000,0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6920" y="762120"/>
            <a:ext cx="8750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GIOUS DENOMINATION IS ASSOCIATED WITH BRYN MAWR, SWATHMORE, AND EARLHAM COLLE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66640" y="761760"/>
            <a:ext cx="8010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BOROUGH OF NYC BY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98480" y="761760"/>
            <a:ext cx="7547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INITIALS OF THE SHOPPING CHANNEL QVC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6520" y="761760"/>
            <a:ext cx="8670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FOR THE PAPER SIZE SLIGHTLY SMALLER THAN LETTER (8½⨯11) AND SLIGHTLY LARGER THAN GOVERNMENT LETTER (8⨯1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85720" y="761760"/>
            <a:ext cx="797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IS TYPICALLY USED TO TREAT MALAR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6-27T17:39:55Z</dcterms:modified>
  <cp:revision>405</cp:revision>
  <dc:subject/>
  <dc:title>Slide 1</dc:title>
</cp:coreProperties>
</file>