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81FB-0103-4204-974F-9EBB0A83C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FE8A-FDF2-471A-9AB0-8A454D6A6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C3A3-E0F1-4764-BB62-C9AEAE05E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013E-1426-428E-9F71-9070A82E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CE7D-313A-414E-87DC-F6281E05F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36C6-5B5B-4FE2-A314-1E27C8AF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642A-2F39-4E5B-8599-BBF7F8B0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2CAD-1AC3-475C-BF00-288CB12F0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0D18-BD39-442A-9876-4AD15E43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6BC9-1251-485A-BF2B-07789BBD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A7C6-8E7C-43DC-9BEE-79B9B92B4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481A-BA2C-4B02-A8A8-E45F4D9F3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6FF7-A272-43A1-BBBA-F1F1767C4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3E83-22E6-48A4-A195-77E89731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C677-C1F7-4561-ACD2-71DAD096F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5B1C-FDEC-400A-8D74-2E8E982B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4DA8-6DDE-4D48-9A02-9739D56A8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7AE-4F2F-4288-B745-7741F33C6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849D-6F1D-4396-9B7E-0761F3E9B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CCA1-F8E0-4A6E-8085-6CB673220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35D3-8FCC-426A-A9BE-42E59486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D7FAF-3030-4C7E-B94C-7BD01BEE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3B6E-A700-467C-AD43-69ADF114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ING SOME LETTERS TO MAKE OPPOSI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63040" y="761760"/>
            <a:ext cx="80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I" TO "W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N" TO "F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D  (SA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2360" y="762120"/>
            <a:ext cx="809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GL" TO "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CK  (TH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CK" TO "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AR  (F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35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NE" TO "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  (PU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9880" y="771480"/>
            <a:ext cx="800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SH" TO "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S  (THA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IS" TO "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 (WE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EA" TO "W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X  (WA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5120" y="762120"/>
            <a:ext cx="821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X" TO "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1360" y="762120"/>
            <a:ext cx="826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GL" TO "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E  (THE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H" TO "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  (WE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I" TO "W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00600"/>
            <a:ext cx="87854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(OF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N" TO "F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CK" TO "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0800" y="762120"/>
            <a:ext cx="804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NE" TO "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SH" TO "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87440" y="762120"/>
            <a:ext cx="8169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S "IS" TO "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364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S "EA" TO "W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FINAL LETTER "X" TO "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6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ITS OPPOSITE BY CHANGING THE INITIAL LETTER "H" TO "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53:30Z</dcterms:modified>
  <cp:revision>433</cp:revision>
  <dc:subject/>
  <dc:title>Slide 1</dc:title>
</cp:coreProperties>
</file>