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996D-4A6F-4696-BC51-75850EE8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BB6-AB0D-4083-A0CC-DA1B89CB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E55-532E-4CC3-9146-6FE85A4E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3C1-23D7-45CD-8EC7-A15092E5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CCA7-200F-46A4-9200-B5434BC2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F11-9CF0-441D-A737-8DFBF435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31D-DA77-4CF8-9C55-7E4B327C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EA5A-CA7D-46AE-B05B-EDD8619B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604-F4AE-4BA8-BC44-A59BCEB6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503-99F3-4091-96B7-ABBACC71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F3A-C676-4B84-8327-AA2A09BA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C4B-D6BA-4A81-9E87-1E9E5835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CB3A-BE8E-4291-9102-C6A02EF1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422-6F2A-4E1E-998B-1BA20428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587-E97C-41E7-932D-2667039E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FC2-C322-4C7F-A189-401BA2E2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D60-592E-4909-9ED4-05A081D92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01A-DA07-4F29-840B-F717A16A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72B2-02D5-4315-86C6-A6D8E0C1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BE9-EFF0-4FEB-94A1-17B7F3B4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443-1391-43F7-9C9C-7ECB8C07A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0B5C-EFDC-460E-B02E-945494B1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9B5-CD6D-45E0-9443-1462ACEF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ING SOME LETTERS TO MAKE OPPOSI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3040" y="761760"/>
            <a:ext cx="80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I" TO "W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N" TO "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D  (S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2360" y="762120"/>
            <a:ext cx="809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GL" TO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CK  (TH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CK" TO "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AR  (F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35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NE" TO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  (P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9880" y="771480"/>
            <a:ext cx="800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SH" TO "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(TH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IS" TO "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(WE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EA" TO "W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X  (WA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X" TO "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1360" y="762120"/>
            <a:ext cx="826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GL" TO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  (THE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H" TO "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  (W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I" TO "W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(O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N" TO "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CK" TO "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0800" y="762120"/>
            <a:ext cx="804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NE" TO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SH" TO "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9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IS" TO "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EA" TO "W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X" TO "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6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H" TO "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53:30Z</dcterms:modified>
  <cp:revision>433</cp:revision>
  <dc:subject/>
  <dc:title>Slide 1</dc:title>
</cp:coreProperties>
</file>