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539D-D0C8-41AF-A95F-1AD8D3A2F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C3A2-7BF6-4B0E-9E22-64278D25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FF77-AD1A-4ECE-AC94-33FAEA33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0923-F0C0-4ED6-81AE-117CDA06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44F2-879A-4552-ACEA-66FE21A95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3E93-0299-48A4-902D-D2DF2C29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902-BF8F-4DE4-A80C-5A2EF126E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25CF-99E0-4596-8C12-5AC24D6B8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046C-7AA6-48C6-BFA1-6078039AF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2AC3-C921-41EA-B349-9E9F75A5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829-E8AE-4E58-85D0-5E0D922E5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B8D6-E91C-4C1F-9F46-D6DB8E86C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BC1C-654E-48F5-A260-AA7FE8029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E076-8F97-4F0E-925D-072C1189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FED0-93F7-41CB-8878-E48DD1DDA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532C-D70F-4AB2-A1C9-47465BEB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576-2551-42B7-8AD8-45CAA4868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6912-ED03-4DE4-A31D-1C0D4EA6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133D-ED79-4C6A-9F18-8D7D69AB5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975-AD3A-42B8-A6E8-BDF25980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31A6-61D7-481A-8332-5D652D1F7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60C6-FF97-4578-BB57-DE444316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F9B5-A7D4-4105-B611-6BABEE65B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81120" y="990360"/>
            <a:ext cx="5981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NG LETTERS TO CHANGE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ER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A 5-LETTER WORD STARTING WITH "G" IS ADDED TO THE END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6760" y="762120"/>
            <a:ext cx="8610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MASCULINE WORDS (SUCH AS "STEWARD" AND "HOST") BECOME FEMININE WHEN "ESS" IS ADDED AT THE END.  WHAT WORD SWITCHES GENDERS WHEN "SS" IS AD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&amp;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61920" y="762120"/>
            <a:ext cx="7220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WORDS SWITCH GENDERS IF YOU ADD "WO" AT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04840" y="78264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IF YOU ADD "FE" AT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INE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MALE CHILD SWITCHES GENDERS WHEN  "Y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NOUN SWITCHES GENDERS IF "S" IS ADDED AT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ANC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D GENDERS WHEN "E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9240" y="762120"/>
            <a:ext cx="8705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MASCULINE WORDS (SUCH AS "STEWARD" AND "HOST") BECOME FEMININE WHEN "ESS" IS ADDED AT THE END.  WHAT WORD SWITCHES GENDERS WHEN "SS" IS AD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INA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ER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3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E(GROO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A 5-LETTER WORD STARTING WITH "G" IS ADDED TO THE END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WORDS SWITCH GENDERS IF YOU ADD "WO" AT THE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IF YOU ADD "FE" AT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INE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MALE CHILD SWITCHES GENDERS WHEN  "Y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NOUN SWITCHES GENDERS IF "S" IS ADDED AT THE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S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INA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3:42:13Z</dcterms:created>
  <dc:creator>Jennifer Budzinski</dc:creator>
  <dc:description/>
  <dc:language>en-US</dc:language>
  <cp:lastModifiedBy>Erich Friedman</cp:lastModifiedBy>
  <dcterms:modified xsi:type="dcterms:W3CDTF">2022-11-22T09:53:09Z</dcterms:modified>
  <cp:revision>339</cp:revision>
  <dc:subject/>
  <dc:title>Slide 1</dc:title>
</cp:coreProperties>
</file>