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0A5BB-0B78-457C-803E-62C6E2DB2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5C6B6-0D75-4DB4-94DC-C6B16D6F5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02EAF-B204-4A59-986F-DA84F5C4A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AFAAE-C23B-4892-92E7-1F38216A3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B2E7D-EB91-48C2-9101-D8826CE3A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A802F-A93E-43CD-93E3-A8B5AF8F4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EB341-0B31-4760-96BD-359767DAE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3E5E-2DB0-4194-A937-8F783303C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E2DE7-CA7A-4088-8A1A-77B88E48C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74C87-73F9-489A-AE44-F929C3DAF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02AE1-5E12-47FD-9754-684072E17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D6C64-2022-4BD4-A36B-791D3E937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73A77-D801-4156-8D4D-327F6D7EC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1F19B-19A3-400E-A551-911639788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F5A0E-EBF5-4667-BDA0-3F11449E0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C99F1-04CF-4605-9462-85507D3FF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15BA6-BC21-4C68-91B7-C5888BB30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62CEC-3A70-4119-93D4-7A418A83A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00A5D-D363-4285-9189-6FDA8C32C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64C98-0FEC-4A3B-B094-E010CF6F5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46668-7AF5-4E1E-9D4A-EEFD2318C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6EE89-117B-4082-9D13-CD9DA9AB7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50EF9-9640-4973-BAC2-06E930CDC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581120" y="990360"/>
            <a:ext cx="59817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DDING LETTERS TO CHANGE GEND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SWITCHES GENDERS WHEN "ER" IS ADDED AT THE E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990720" y="762120"/>
            <a:ext cx="7162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SWITCHES GENDERS WHEN A 5-LETTER WORD STARTING WITH "G" IS ADDED TO THE END OF THE WO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I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266760" y="762120"/>
            <a:ext cx="86104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NY MASCULINE WORDS (SUCH AS "STEWARD" AND "HOST") BECOME FEMININE WHEN "ESS" IS ADDED AT THE END.  WHAT WORD SWITCHES GENDERS WHEN "SS" IS ADD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N  &amp;  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961920" y="762120"/>
            <a:ext cx="72201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 WORDS SWITCH GENDERS IF YOU ADD "WO" AT THE BEGINN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19040" y="4952880"/>
            <a:ext cx="8305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104840" y="782640"/>
            <a:ext cx="6934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SWITCHES GENDERS IF YOU ADD "FE" AT THE BEGINN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295280" y="762120"/>
            <a:ext cx="6553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SWITCHES GENDERS WHEN "INE" IS ADDED AT THE E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533520" y="49528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43080" y="762120"/>
            <a:ext cx="8458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FOR A MALE CHILD SWITCHES GENDERS WHEN  "Y" IS ADDED AT THE E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NOUN SWITCHES GENDERS IF "S" IS ADDED AT THE BEGINN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ANC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723960" y="762120"/>
            <a:ext cx="7696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SWITCHED GENDERS WHEN "E" IS ADDED AT THE E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19240" y="762120"/>
            <a:ext cx="8705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NY MASCULINE WORDS (SUCH AS "STEWARD" AND "HOST") BECOME FEMININE WHEN "ESS" IS ADDED AT THE END.  WHAT WORD SWITCHES GENDERS WHEN "SS" IS ADDE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952880"/>
            <a:ext cx="8382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Z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80028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SWITCHES GENDERS WHEN "INA" IS ADDED AT THE E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D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952560" y="762120"/>
            <a:ext cx="7238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SWITCHES GENDERS WHEN "ER" IS ADDED AT THE E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388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IDE(GROO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028880" y="762120"/>
            <a:ext cx="7086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SWITCHES GENDERS WHEN A 5-LETTER WORD STARTING WITH "G" IS ADDED TO THE END OF THE WO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 WORDS SWITCH GENDERS IF YOU ADD "WO" AT THE BEGINN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143000" y="762120"/>
            <a:ext cx="6858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SWITCHES GENDERS IF YOU ADD "FE" AT THE BEGINN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57120" y="762120"/>
            <a:ext cx="6629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SWITCHES GENDERS WHEN "INE" IS ADDED AT THE E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FOR A MALE CHILD SWITCHES GENDERS WHEN  "Y" IS ADDED AT THE E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NOUN SWITCHES GENDERS IF "S" IS ADDED AT THE BEGINN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SWITCHES GENDERS WHEN "S" IS ADDED AT THE E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SWITCHES GENDERS WHEN "INA" IS ADDED AT THE E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08T13:42:13Z</dcterms:created>
  <dc:creator>Jennifer Budzinski</dc:creator>
  <dc:description/>
  <dc:language>en-US</dc:language>
  <cp:lastModifiedBy>Erich Friedman</cp:lastModifiedBy>
  <dcterms:modified xsi:type="dcterms:W3CDTF">2022-11-22T09:53:09Z</dcterms:modified>
  <cp:revision>339</cp:revision>
  <dc:subject/>
  <dc:title>Slide 1</dc:title>
</cp:coreProperties>
</file>