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C934-00DB-4F2D-A162-7EA228264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913D-D003-41A9-A7CF-839DC0510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32D4-9261-4486-97E8-A626352F1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E54D-A950-46D2-B602-BFFA7E529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2CD7-9AA0-4081-BED6-B18F6CB0D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87D4-1C13-4FBD-ACFB-AFB1C9A27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0C59-075D-45A0-8818-CE0560648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277E-BFB3-4019-A5CD-E72A9AE48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2710-2D67-497C-A74B-ECA61E922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9A56-8FAE-469B-B077-17A96847E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8D62-9C04-4559-AB1D-B77331CAD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0857-D938-4281-ADCB-C723B8136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0605-152F-45A4-9ABC-5C61713E3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D709-9249-4DAC-A3FC-25F9667FA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FAD9-B62D-4A9C-8562-0813CA102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DE02-9104-4059-9348-BFC743955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99F1-DCED-48B3-8D79-2DF5F5895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527F-D52A-41CF-8DC2-4AF199360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088C-D28D-4E94-BA7A-70EFD94E9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E43B-644E-4039-AC75-AFB107CCF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76A9-B7AA-44C1-8E08-E232FCEE3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44AF-5948-4E1C-861A-6C639E99D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0298-409D-45CE-A7B7-FE853CEB8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UNION COUNTRY HAS LICENSE PLATES CONTAINING THIS SYMB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EU-section-with-B.svg.png"/>
          <p:cNvPicPr/>
          <p:nvPr/>
        </p:nvPicPr>
        <p:blipFill>
          <a:blip r:embed="rId1"/>
          <a:stretch/>
        </p:blipFill>
        <p:spPr>
          <a:xfrm>
            <a:off x="7086600" y="838080"/>
            <a:ext cx="16272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FAMOUS WOMEN'S RIGHTS ACTIVIST WITH MIDDLE INITIAL B IS ONE OF FOUR WOMEN TO APPEAR ON U.S. MONE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14400" y="4952880"/>
            <a:ext cx="7162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 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A  (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LETTER LOOKS LIKE AND SOUNDS LIKE 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RNING  AFTER  P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RE COMMON NAME FOR THE DRUG "PLAN 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CIL  B.  DEM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MAKER, WITH MIDDLE INITIAL B, WAS THE MOST COMMERCIALLY SUCCESSFUL PRODUCER &amp; DIRECTOR IN FILM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TO PHONETIC WORD FOR THE LETTER 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33520" y="762120"/>
            <a:ext cx="80769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FLATS DOES THE KEY OF B FLAT MAJOR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PEOPLE HAVE BLOOD TYPE B?   10%, 20%, OR 30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 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351000" y="4419720"/>
            <a:ext cx="838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  (B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, B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, B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, AND B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Arial"/>
              </a:rPr>
              <a:t>11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ARE  NO LONGER  CONSIDERED  VITAMI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 VITAMINS ARE THERE?  4, 8, OR 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304920" y="762120"/>
            <a:ext cx="6553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UNION COUNTRY HAS LICENSE PLATES CONTAINING THIS SYMB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EU-section-with-B.svg.png"/>
          <p:cNvPicPr/>
          <p:nvPr/>
        </p:nvPicPr>
        <p:blipFill>
          <a:blip r:embed="rId1"/>
          <a:stretch/>
        </p:blipFill>
        <p:spPr>
          <a:xfrm>
            <a:off x="7086600" y="838080"/>
            <a:ext cx="16272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762120" y="4952880"/>
            <a:ext cx="761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SAN  B.  ANTHON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685800" y="7621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FAMOUS WOMEN'S RIGHTS ACTIVIST WITH MIDDLE INITIAL B IS ONE OF FOUR WOMEN TO APPEAR ON U.S. MONE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LETTER LOOKS LIKE AND SOUNDS LIKE 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RE COMMON NAME FOR THE DRUG "PLAN 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MAKER, WITH MIDDLE INITIAL B, WAS THE MOST COMMERCIALLY SUCCESSFUL PRODUCER &amp; DIRECTOR IN FILM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TO PHONETIC WORD FOR THE LETTER 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FLATS DOES THE KEY OF B FLAT MAJOR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PEOPLE HAVE BLOOD TYPE B?   10%, 20%, OR 30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 VITAMINS ARE THERE?  4, 8, OR 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4T16:12:00Z</dcterms:created>
  <dc:creator>Jennifer Budzinski</dc:creator>
  <dc:description/>
  <dc:language>en-US</dc:language>
  <cp:lastModifiedBy>Erich Friedman</cp:lastModifiedBy>
  <dcterms:modified xsi:type="dcterms:W3CDTF">2020-09-01T17:07:27Z</dcterms:modified>
  <cp:revision>313</cp:revision>
  <dc:subject/>
  <dc:title>Slide 1</dc:title>
</cp:coreProperties>
</file>