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233A-FD5D-4ED8-BFAD-9EAA739AA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1C3C-979E-4A4F-9682-C147FA8C3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29EC-EB46-4E18-9CB8-6B330A1D0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275A-46B2-4554-904A-DC6DC70AD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8412-6BEA-4800-B303-F73BACCE2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6163-AA82-46AC-88C0-35175DC94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8396-577C-47F6-A427-2388D3874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C9CB-E2FD-446A-BB21-C5C4B5458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07F1-C6D5-4D44-A153-E604F560D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B9A1-71D4-4919-A061-25A4B7C6F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8ED4-6316-4DB0-A60B-8002DE448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B666-BB99-4AB8-BA4B-71E4B3BFD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4E27-9214-44A6-AA17-14B1F83A2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5A5A-8279-4A6B-8A7C-7ABC90D7E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DFD2-561A-40DA-B555-A7E3648D7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62DC-3EEE-407B-80C8-AA3CE2A23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B7CD-EEF5-48F5-B3D5-1D12D9A3C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2756-71B6-4B4B-853A-3BF080FCA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A901-302A-4C40-8D4B-A6EDD5FC8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EC2E4-E6C5-4BCC-920D-899FB455E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B0EE-871A-4144-ADA5-0B2B86D80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D159-33A3-4148-8F71-87CC8F171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1C8B-36F7-4195-8E48-7D1195FA6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04560" y="761760"/>
            <a:ext cx="6553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UNION COUNTRY HAS LICENSE PLATES CONTAINING THIS SYMB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EU-section-with-B.svg.png"/>
          <p:cNvPicPr/>
          <p:nvPr/>
        </p:nvPicPr>
        <p:blipFill>
          <a:blip r:embed="rId1"/>
          <a:stretch/>
        </p:blipFill>
        <p:spPr>
          <a:xfrm>
            <a:off x="7086600" y="838080"/>
            <a:ext cx="16272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FAMOUS WOMEN'S RIGHTS ACTIVIST WITH MIDDLE INITIAL B IS ONE OF FOUR WOMEN TO APPEAR ON U.S. MONE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14400" y="4952880"/>
            <a:ext cx="7162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CHEMICAL SYMBOL 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TA  (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85800" y="76212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EEK LETTER LOOKS LIKE AND SOUNDS LIKE 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RNING  AFTER  P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1295280" y="762120"/>
            <a:ext cx="6553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RE COMMON NAME FOR THE DRUG "PLAN 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CIL  B.  DEMI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MAKER, WITH MIDDLE INITIAL B, WAS THE MOST COMMERCIALLY SUCCESSFUL PRODUCER &amp; DIRECTOR IN FILM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9528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TO PHONETIC WORD FOR THE LETTER 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W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533520" y="762120"/>
            <a:ext cx="80769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FLATS DOES THE KEY OF B FLAT MAJOR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PEOPLE HAVE BLOOD TYPE B?   10%, 20%, OR 30%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LEMENT HAS CHEMICAL SYMBOL 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351000" y="4419720"/>
            <a:ext cx="8381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  (B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, B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Arial"/>
              </a:rPr>
              <a:t>8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, B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Arial"/>
              </a:rPr>
              <a:t>10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, AND B</a:t>
            </a:r>
            <a:r>
              <a:rPr b="0" i="1" lang="en-US" sz="3600" spc="-1" strike="noStrike" baseline="-25000">
                <a:solidFill>
                  <a:srgbClr val="ffffff"/>
                </a:solidFill>
                <a:latin typeface="Arial"/>
              </a:rPr>
              <a:t>11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ARE  NO LONGER  CONSIDERED  VITAMI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 VITAMINS ARE THERE?  4, 8, OR 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LG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304920" y="762120"/>
            <a:ext cx="6553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UNION COUNTRY HAS LICENSE PLATES CONTAINING THIS SYMB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EU-section-with-B.svg.png"/>
          <p:cNvPicPr/>
          <p:nvPr/>
        </p:nvPicPr>
        <p:blipFill>
          <a:blip r:embed="rId1"/>
          <a:stretch/>
        </p:blipFill>
        <p:spPr>
          <a:xfrm>
            <a:off x="7086600" y="838080"/>
            <a:ext cx="16272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762120" y="4952880"/>
            <a:ext cx="76197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SAN  B.  ANTHON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685800" y="762120"/>
            <a:ext cx="77724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FAMOUS WOMEN'S RIGHTS ACTIVIST WITH MIDDLE INITIAL B IS ONE OF FOUR WOMEN TO APPEAR ON U.S. MONE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EEK LETTER LOOKS LIKE AND SOUNDS LIKE 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RE COMMON NAME FOR THE DRUG "PLAN 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LMMAKER, WITH MIDDLE INITIAL B, WAS THE MOST COMMERCIALLY SUCCESSFUL PRODUCER &amp; DIRECTOR IN FILM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2396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TO PHONETIC WORD FOR THE LETTER 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FLATS DOES THE KEY OF B FLAT MAJOR H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 OF PEOPLE HAVE BLOOD TYPE B?   10%, 20%, OR 30%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B VITAMINS ARE THERE?  4, 8, OR 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4T16:12:00Z</dcterms:created>
  <dc:creator>Jennifer Budzinski</dc:creator>
  <dc:description/>
  <dc:language>en-US</dc:language>
  <cp:lastModifiedBy>Erich Friedman</cp:lastModifiedBy>
  <dcterms:modified xsi:type="dcterms:W3CDTF">2020-09-01T17:07:27Z</dcterms:modified>
  <cp:revision>313</cp:revision>
  <dc:subject/>
  <dc:title>Slide 1</dc:title>
</cp:coreProperties>
</file>