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855F-5A1F-46E0-991F-01AFC0D76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D59E-6F6B-49F1-9E9D-518E8577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4199-6C2A-43C4-996F-E74FA2BD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75B6-B6AF-447C-B9F6-EE6A196F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19C0-CEB5-4F33-B136-405120E68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2C6C-5CB5-4B05-B198-3C2D85263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BCE9-569C-4614-93DD-7FEDC04BF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8009-7BD8-4AFC-914F-1CE87D925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C6897-CE6A-4C68-81AC-9B5AAAAAD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7080-7306-4699-B108-9A144DC9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911-BE19-4B3D-8C24-290BDA2E6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9AF4-2923-415C-9AEB-3C9A79225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108C-75A0-4563-ADAA-E7D3DAD79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6570-20C7-4A04-BC4F-0D48C7DF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FB9C-509F-4A1A-B698-C39EA98D6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B46-5826-4420-8F39-7EAA59F0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8573-6D13-48E1-B4CE-22F0AD425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CA34-16BC-4341-9B18-BB04A3715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459C-39D3-4C3B-8BCD-ED9546778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75DC-88EB-4DF4-AB5A-460348FC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BDFE-B444-4D69-B8FC-11935158A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25CB-7A65-4EE1-857C-AA468E446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6E62-718E-4693-924E-CF6BDE72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716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ST-SELLING AUTH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62120"/>
            <a:ext cx="6629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CART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LE  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S  SIME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NEY  SHEL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R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MISS MARPLE AND HERCULE PEROT MYS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  GEI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  TOLST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WAR AND PE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KOON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OF SUSPENSE THRILLERS HAS A LAST NAME THAT ENDS IN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LAYS ARE PERFORMED MORE OFTEN THAN ANY OTHER PLAYW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CE NOVELIST WROTE 723 BOOKS BEFORE SHE DIED AT AGE 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AUTHOR ALIVE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AUTHOR WROTE 26 NOVELS AND 28 SHORT STORIES ABOUT FRENCH DETECTIVE JULES MAIGR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AUTHOR ALSO CREATED THE SHOWS "I DREAM OF JEANNIE" AND "HART TO HAR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BEST-SELLING BOOK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DR. SEUSS (WHOSE MIDDLE NAME REALLY WAS SEUS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5:02:29Z</dcterms:created>
  <dc:creator>Jennifer Budzinski</dc:creator>
  <dc:description/>
  <dc:language>en-US</dc:language>
  <cp:lastModifiedBy>Erich Friedman</cp:lastModifiedBy>
  <dcterms:modified xsi:type="dcterms:W3CDTF">2020-09-01T17:11:19Z</dcterms:modified>
  <cp:revision>330</cp:revision>
  <dc:subject/>
  <dc:title>Slide 1</dc:title>
</cp:coreProperties>
</file>