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FA78-449A-42E4-83EE-FF677F850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E214-9663-4375-9463-8CB06BE1F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3CA2-6C2E-4DFC-8EB7-84A995902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4297-D8C7-431B-809C-AB5FE9BD7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9826-D93B-439E-BE13-02F12B83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F75C-73C9-405D-90ED-16F07DA0A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D9B0-DB43-488E-AFA9-EFED2E675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AB86-E9E9-42DB-BBDF-3F40AB7F1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5820-258D-454B-AB4C-7246AFEE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B73A-DC94-4FF3-B23D-4A4BA99E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3A49-C364-4984-9249-8D5E219C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D24E-28E4-43DE-94CE-440E4DF5B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39EC-8B05-485C-B320-281FC6BBA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3D77-5FE1-4C33-B5DB-D96F8E0C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380E-66E2-4591-99C4-67220241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C229-BE87-444C-A763-F6C709C1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7A7F-D0E0-407F-8E01-73C982B18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CFA9-B622-4F8E-B1D7-F2384DE3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2F9F-53B5-4A96-A598-EC31F8BE3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3F0E-9150-405D-B88C-5DDF8D102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7F11-2EA1-4E02-BA50-69ED8D1AB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B59C-4293-402F-ADC3-6F09F0CD8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9C0-AF96-46D5-A618-57A6B021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3716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ST-SELLING AUTH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WAR AND PE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OF SUSPENSE THRILLERS HAS A LAST NAME THAT ENDS IN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ISS MARPLE AND HERCULE PEROT MYST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SHAKESPE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57480" y="762120"/>
            <a:ext cx="6629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LAYS ARE PERFORMED MORE OFTEN THAN ANY OTHER PLAYW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CAR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MANCE NOVELIST WROTE 723 BOOKS BEFORE SHE DIED AT AGE 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LE  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AUTHOR ALIVE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S  SIME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AUTHOR WROTE 26 NOVELS AND 28 SHORT STORIES ABOUT FRENCH DETECTIVE JULES MAIGR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NEY  SHEL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ALSO CREATED THE SHOWS "I DREAM OF JEANNIE" AND "HART TO HAR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K. R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BEST-SELLING BOOK SERIE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ISS MARPLE AND HERCULE PEROT MYST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  GEI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DR. SEUSS (WHOSE MIDDLE NAME REALLY WAS SEUS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  TOLST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WAR AND PE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N  KOON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OF SUSPENSE THRILLERS HAS A LAST NAME THAT ENDS IN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LAYS ARE PERFORMED MORE OFTEN THAN ANY OTHER PLAYW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MANCE NOVELIST WROTE 723 BOOKS BEFORE SHE DIED AT AGE 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AUTHOR ALIVE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AUTHOR WROTE 26 NOVELS AND 28 SHORT STORIES ABOUT FRENCH DETECTIVE JULES MAIGR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ALSO CREATED THE SHOWS "I DREAM OF JEANNIE" AND "HART TO HART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BEST-SELLING BOOK SERIE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DR. SEUSS (WHOSE MIDDLE NAME REALLY WAS SEUS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5:02:29Z</dcterms:created>
  <dc:creator>Jennifer Budzinski</dc:creator>
  <dc:description/>
  <dc:language>en-US</dc:language>
  <cp:lastModifiedBy>Erich Friedman</cp:lastModifiedBy>
  <dcterms:modified xsi:type="dcterms:W3CDTF">2020-09-01T17:11:19Z</dcterms:modified>
  <cp:revision>330</cp:revision>
  <dc:subject/>
  <dc:title>Slide 1</dc:title>
</cp:coreProperties>
</file>