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CE79-4174-434A-8327-58E7E92C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AE3-D537-4291-8E8C-2A4E56982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29C-5DC2-492F-877B-3748EFA5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EEC9-2E6B-49ED-9718-ADA01F4E8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39B-F766-4095-BE1F-5E542868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42C1-B273-42A8-AC3C-D96C82D7A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312F-F117-4A65-8289-FD121AAB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65D1-0489-4545-BFDB-A64CAE0BE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6479-F8E6-4035-BD33-C2A71264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202D-B360-433E-9147-DABCB76D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B6A0-4AB4-4107-BE85-4F4A56814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D4E8-742D-4EEA-8583-BD106F15A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FC65-AA00-42E8-8B1E-ED585BDA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E672-6C8C-48AC-BE35-78717CC1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9AE5-5A32-4FBC-8155-7894A8025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BB5A-9EF6-4B5F-9946-CF6275B9D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8A72-65A9-4C77-B327-E9FCF458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C3AB-714F-4D64-A1F1-6ACE622A5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3942-2F91-48E5-B87C-3C74DA8DF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6103-D70B-412C-BC5D-7A744DAEF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A403-BA19-4DBB-AD21-35D083C4A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E036-3052-44CB-AAE8-A9A930C7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4EDC-6FC6-443E-9A95-5C3A8488B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3716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ST-SELLING AUTH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AR AND PE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OF SUSPENSE THRILLERS HAS A LAST NAME THAT ENDS IN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ISS MARPLE AND HERCULE PEROT MYST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HAKESPE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7480" y="762120"/>
            <a:ext cx="6629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LAYS ARE PERFORMED MORE OFTEN THAN ANY OTHER PLAYW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CAR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CE NOVELIST WROTE 723 BOOKS BEFORE SHE DIED AT AGE 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LE  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AUTHOR ALIVE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S  SIME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AUTHOR WROTE 26 NOVELS AND 28 SHORT STORIES ABOUT FRENCH DETECTIVE JULES MAIGR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NEY  SHEL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ALSO CREATED THE SHOWS "I DREAM OF JEANNIE" AND "HART TO HAR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K. R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BEST-SELLING BOOK SERIE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ISS MARPLE AND HERCULE PEROT MYST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  GEI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DR. SEUSS (WHOSE MIDDLE NAME REALLY WAS SEUS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  TOLST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AR AND PE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N  KOON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OF SUSPENSE THRILLERS HAS A LAST NAME THAT ENDS IN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LAYS ARE PERFORMED MORE OFTEN THAN ANY OTHER PLAYW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CE NOVELIST WROTE 723 BOOKS BEFORE SHE DIED AT AGE 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AUTHOR ALIVE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AUTHOR WROTE 26 NOVELS AND 28 SHORT STORIES ABOUT FRENCH DETECTIVE JULES MAIGR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ALSO CREATED THE SHOWS "I DREAM OF JEANNIE" AND "HART TO HART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BEST-SELLING BOOK SERIE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DR. SEUSS (WHOSE MIDDLE NAME REALLY WAS SEUS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5:02:29Z</dcterms:created>
  <dc:creator>Jennifer Budzinski</dc:creator>
  <dc:description/>
  <dc:language>en-US</dc:language>
  <cp:lastModifiedBy>Erich Friedman</cp:lastModifiedBy>
  <dcterms:modified xsi:type="dcterms:W3CDTF">2020-09-01T17:11:19Z</dcterms:modified>
  <cp:revision>330</cp:revision>
  <dc:subject/>
  <dc:title>Slide 1</dc:title>
</cp:coreProperties>
</file>