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tif" ContentType="image/tif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C978-647E-4E4D-B918-3E03EE3C8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C253-1B2D-43F6-A3F6-63053E7DD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C777-5228-45B3-B08C-52F8DFC40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C69F-F8B5-420A-AF55-246075A0E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0921-D7DF-4124-A243-924689CC0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EC4E-8EB5-4165-BCB6-E4B05380F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3536-289D-4CF2-B162-9384AC98B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48B8-FBFD-4EFA-B983-18DF0760F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3C84-5017-4414-B0C5-00EE42AF1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5E02-99F0-43CE-B0CA-9D265B317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688E-CB2D-49F9-9652-96BAD67BA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FA87-BB2B-499B-AA12-A26C545E0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6C3E-84ED-4E7B-A0AC-F407FE29E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FE1E-87FE-4FF2-A64D-AE315DFF9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2F5E-C036-471C-889B-6238E5265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4B3B-2918-473F-8C25-DEF20B176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6E38-B6D7-4A8C-9A3B-2A4F0CE1E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232E-9623-40C1-9E9B-BA74EAEE3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F243-EDC4-4ECF-BB3F-D76631D30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0F25-54B7-473F-B66F-C6204A3D2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8657-67A3-4A53-A359-33831C239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EF3A-E43B-400C-AE77-B3B57040E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E530-559D-4FD6-8940-6E2AFFD7D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t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t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828800" y="1676160"/>
            <a:ext cx="5486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BOOK BY ITS CO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496960" y="1295280"/>
            <a:ext cx="4150080" cy="36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2836800" y="1295280"/>
            <a:ext cx="34704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RASSIC 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3289320" y="1295280"/>
            <a:ext cx="256536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CLOCKWORK  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3078000" y="1295280"/>
            <a:ext cx="29880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LOR  PUR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2871720" y="1295280"/>
            <a:ext cx="340056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APES  OF  WR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200400" cy="352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T  IN  THE  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3298680" y="1295280"/>
            <a:ext cx="25466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L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579760" y="1295280"/>
            <a:ext cx="3984480" cy="365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AT  GAT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2773440" y="1295280"/>
            <a:ext cx="35971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5" descr=""/>
          <p:cNvPicPr/>
          <p:nvPr/>
        </p:nvPicPr>
        <p:blipFill>
          <a:blip r:embed="rId1"/>
          <a:stretch/>
        </p:blipFill>
        <p:spPr>
          <a:xfrm>
            <a:off x="3289320" y="1295280"/>
            <a:ext cx="256536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  KILL  A  MOCKING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2552760" y="1347840"/>
            <a:ext cx="4038480" cy="32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LAS  SHRUGG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2496960" y="1295280"/>
            <a:ext cx="4150080" cy="36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TCHER  IN  THE  R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2836800" y="1295280"/>
            <a:ext cx="34704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1"/>
          <a:stretch/>
        </p:blipFill>
        <p:spPr>
          <a:xfrm>
            <a:off x="3078000" y="1295280"/>
            <a:ext cx="2988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1" descr=""/>
          <p:cNvPicPr/>
          <p:nvPr/>
        </p:nvPicPr>
        <p:blipFill>
          <a:blip r:embed="rId1"/>
          <a:stretch/>
        </p:blipFill>
        <p:spPr>
          <a:xfrm>
            <a:off x="2871720" y="1295280"/>
            <a:ext cx="340056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200400" cy="35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3298680" y="1295280"/>
            <a:ext cx="25466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2579760" y="1295280"/>
            <a:ext cx="3984480" cy="36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773440" y="1295280"/>
            <a:ext cx="35971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tretch/>
        </p:blipFill>
        <p:spPr>
          <a:xfrm>
            <a:off x="2552760" y="1347840"/>
            <a:ext cx="4038480" cy="322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4:33:29Z</dcterms:created>
  <dc:creator>Jennifer Budzinski</dc:creator>
  <dc:description/>
  <dc:language>en-US</dc:language>
  <cp:lastModifiedBy>Erich Friedman</cp:lastModifiedBy>
  <dcterms:modified xsi:type="dcterms:W3CDTF">2020-09-01T17:59:48Z</dcterms:modified>
  <cp:revision>302</cp:revision>
  <dc:subject/>
  <dc:title>Slide 1</dc:title>
</cp:coreProperties>
</file>