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tif" ContentType="image/tif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0C35-C020-4BDA-AADE-42CD6C492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597D-E8AD-4F98-850F-36C1D1A5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856E-4D7D-4ED9-A2EE-EBC2581A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368E-FD69-4B0D-B8DE-3F1BED121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354E-4DF9-4359-94DF-A4F83CAE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0E6C-95BF-445B-AF1E-5A0F2F6A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4244-A409-4DBF-894C-53571FCC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450-C7C6-4771-8285-D9C153A0B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B0DA-E31B-4F96-9CE6-948C07E7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65AF-6DB0-4551-A41D-83707D1E0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851E-533B-4321-B93F-C7E0D53BB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7ED-C4BB-4F46-9C4B-638916A3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E55-C95D-4E58-8CA8-FF8198CE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A79D-45E1-467B-BBA1-A03D6AC8B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0B9-5863-4A9D-8401-14317A04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3DDB-52A1-4C1B-AE96-7B913C25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8E8-CD19-4847-BF64-79528D701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2028-F236-46E2-AA62-E6B85C81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2EF-F93B-498F-9B84-5BDBD151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A2A7-35ED-49FB-930F-3F4F71ED7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D55B-0F56-448B-B860-F285C210A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8953-69C4-4792-BD6B-CBCFAD8EF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BD9-766F-4B5F-875C-5FB31DFD3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t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t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BOOK BY ITS C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496960" y="1295280"/>
            <a:ext cx="415008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836800" y="1295280"/>
            <a:ext cx="3470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ASSIC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3289320" y="1295280"/>
            <a:ext cx="256536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078000" y="1295280"/>
            <a:ext cx="2988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OR  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2871720" y="1295280"/>
            <a:ext cx="34005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298680" y="1295280"/>
            <a:ext cx="25466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L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579760" y="1295280"/>
            <a:ext cx="398448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GAT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2773440" y="1295280"/>
            <a:ext cx="3597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289320" y="1295280"/>
            <a:ext cx="25653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KILL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552760" y="1347840"/>
            <a:ext cx="403848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S  SHRUG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2496960" y="1295280"/>
            <a:ext cx="41500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CHER  IN  THE  R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836800" y="1295280"/>
            <a:ext cx="3470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3078000" y="1295280"/>
            <a:ext cx="2988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1" descr=""/>
          <p:cNvPicPr/>
          <p:nvPr/>
        </p:nvPicPr>
        <p:blipFill>
          <a:blip r:embed="rId1"/>
          <a:stretch/>
        </p:blipFill>
        <p:spPr>
          <a:xfrm>
            <a:off x="2871720" y="1295280"/>
            <a:ext cx="34005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3298680" y="1295280"/>
            <a:ext cx="25466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579760" y="1295280"/>
            <a:ext cx="398448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73440" y="1295280"/>
            <a:ext cx="3597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2552760" y="1347840"/>
            <a:ext cx="4038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4:33:29Z</dcterms:created>
  <dc:creator>Jennifer Budzinski</dc:creator>
  <dc:description/>
  <dc:language>en-US</dc:language>
  <cp:lastModifiedBy>Erich Friedman</cp:lastModifiedBy>
  <dcterms:modified xsi:type="dcterms:W3CDTF">2020-09-01T17:59:48Z</dcterms:modified>
  <cp:revision>302</cp:revision>
  <dc:subject/>
  <dc:title>Slide 1</dc:title>
</cp:coreProperties>
</file>