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tif" ContentType="image/tif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66B7-6E26-41F5-9447-B21BB25E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044-B378-49E6-86DD-1808599F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90D3-7A06-4F50-9822-BD433ED2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D58C-4D2A-4FD7-BDE1-C0C3FAC2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619-77A4-4D86-A881-92F4D31B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628-6FE5-444A-B866-5BC117C6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CE0-85E8-49C1-A73E-C0FC5512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54F-7978-452B-A362-D37E4702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1FF8-236D-46AA-8AA9-144E9CF3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FF6F-2981-410E-9BDA-9C533D96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E3EE-3CA7-48F0-B46D-D2E03F03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E3ED-2E1D-49AE-A8C6-738B3228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CD0-9C57-4A81-A67D-53FFB2B2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3A3-8C7D-41DF-BC76-73ECC37C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67E-63A2-4E16-9F16-4687F3A89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3FE-BF3A-45F6-B4C6-B7DB7313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5B62-A2EC-4D52-9D36-15E08400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C27B-C909-4DA9-9A85-930E84E4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FB57-1C9D-4AE9-8093-887EF79A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983-F947-4554-AFA7-384BC4155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27E5-E1E0-4223-82BE-FA9F3BCA6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3232-1122-4AA2-90F5-204C22C1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E442-BFD6-4402-BE33-0E9956495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OOK BY ITS C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496960" y="1295280"/>
            <a:ext cx="415008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36800" y="1295280"/>
            <a:ext cx="3470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3289320" y="1295280"/>
            <a:ext cx="256536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078000" y="1295280"/>
            <a:ext cx="2988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R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871720" y="1295280"/>
            <a:ext cx="34005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298680" y="1295280"/>
            <a:ext cx="25466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579760" y="1295280"/>
            <a:ext cx="398448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GAT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289320" y="1295280"/>
            <a:ext cx="2565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KILL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552760" y="134784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  SHRUG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2496960" y="1295280"/>
            <a:ext cx="41500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CHER  IN  THE  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36800" y="1295280"/>
            <a:ext cx="3470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3078000" y="1295280"/>
            <a:ext cx="2988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2871720" y="1295280"/>
            <a:ext cx="34005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3298680" y="1295280"/>
            <a:ext cx="2546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579760" y="1295280"/>
            <a:ext cx="398448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2552760" y="134784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4:33:29Z</dcterms:created>
  <dc:creator>Jennifer Budzinski</dc:creator>
  <dc:description/>
  <dc:language>en-US</dc:language>
  <cp:lastModifiedBy>Erich Friedman</cp:lastModifiedBy>
  <dcterms:modified xsi:type="dcterms:W3CDTF">2020-09-01T17:59:48Z</dcterms:modified>
  <cp:revision>302</cp:revision>
  <dc:subject/>
  <dc:title>Slide 1</dc:title>
</cp:coreProperties>
</file>