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BD03-A17E-45E4-B6B1-1D463E05F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C9C85-AE79-457A-8B92-5BBD5BD91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88FD-069A-475D-9F1E-A932FAF70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AF94-006C-4E2B-894F-4F24E797D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43BE-DAD5-484D-94C4-6F1BD83E1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89C2-BB6E-424E-9240-621A9F54C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73C2-EBFB-4254-AD64-6A4C2F667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1B32-B0D4-4D4D-A067-14C6BEE3A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F500-925D-48DE-8857-6CF4448C4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5F38-1BBF-47A4-997B-98A0E1E9E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5601-874A-4C37-A870-9905C3311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C6A6-448F-4EDD-9D54-D5DBE01D3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7D2B-EF4B-417A-8A0F-18BE60D3B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143A-4F06-4291-890D-D7117168B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4CCE-12EA-467D-81D4-E516BE91B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090D-D912-4563-9C94-8EE40E618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5C5F-C4FC-4275-8704-3001ADDAF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033C-203E-49AB-9FA2-C47498842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44CB-46CA-45F8-8728-28FAD4B0F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6D60-D2BF-435D-ADA0-8FC6DBE33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D8FD-A990-4F98-9218-D2402342A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C0E5-08E6-4251-BDF9-AB7561815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172F-83EC-4909-B487-90F8AD9BB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NOVEL FROM THE OPENING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IS A TRUTH UNIVERSALLY ACKNOWLEDGED, THAT A SINGLE MAN IN POSSESSION OF A GOOD FORTUNE, MUST BE IN WANT OF A W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 WERE SOMEWHERE AROUND BARSTOW ON THE EDGE OF THE DESERT WHEN THE DRUGS BEGAN TO TAKE H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BY  D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LL ME ISHMAE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WAS A BRIGHT COLD DAY IN APRIL, AND THE CLOCKS WERE STRIKING THIRT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TALE  OF  TWO 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WAS THE BEST OF TIMES, IT WAS THE WORST OF TIM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MEONE MUST HAVE SLANDERED JOSEF K., FOR ONE MORNING, WITHOUT HAVING DONE ANYTHING TRULY WRONG, HE WAS ARRES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CH–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714680" y="762120"/>
            <a:ext cx="5715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WAS LOVE AT FIRST S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LOR  PUR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800280"/>
            <a:ext cx="701064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BETTER NOT NEVER TELL NOBODY BUT G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A  KAREN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PPY FAMILIES ARE ALL ALIKE.  EVERY UNHAPPY FAMILY IS UNHAPPY IN ITS OWN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LL ME ISHMAE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5748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CHILDREN, EXCEPT ONE, GROW 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DE  AND  PREJUD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IS A TRUTH UNIVERSALLY ACKNOWLEDGED, THAT A SINGLE MAN IN POSSESSION OF A GOOD FORTUNE, MUST BE IN WANT OF A W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AR  AND  LOATHING  IN   LAS  V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 WERE SOMEWHERE AROUND BARSTOW ON THE EDGE OF THE DESERT WHEN THE DRUGS BEGAN TO TAKE H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WAS A BRIGHT COLD DAY IN APRIL, AND THE CLOCKS WERE STRIKING THIRTE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WAS THE BEST OF TIMES, IT WAS THE WORST OF TIM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MEONE MUST HAVE SLANDERED JOSEF K., FOR ONE MORNING, WITHOUT HAVING DONE ANYTHING TRULY WRONG, HE WAS ARRES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828800" y="76212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WAS LOVE AT FIRST S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BETTER NOT NEVER TELL NOBODY BUT G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PPY FAMILIES ARE ALL ALIKE.  EVERY UNHAPPY FAMILY IS UNHAPPY IN ITS OWN 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CHILDREN, EXCEPT ONE, GROW U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3T23:30:50Z</dcterms:created>
  <dc:creator>Jennifer Budzinski</dc:creator>
  <dc:description/>
  <dc:language>en-US</dc:language>
  <cp:lastModifiedBy>Erich Friedman</cp:lastModifiedBy>
  <dcterms:modified xsi:type="dcterms:W3CDTF">2020-09-01T18:01:39Z</dcterms:modified>
  <cp:revision>349</cp:revision>
  <dc:subject/>
  <dc:title>Slide 1</dc:title>
</cp:coreProperties>
</file>