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8414-7E66-4FE3-A73D-C18039C36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7752-89E3-4A52-8FB0-E7609FB16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54F4-C42B-4A22-8A03-6F26C9EED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0632-4E0F-449B-B86F-2C9EC9AA6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BE48-8364-4377-B1EB-81CF0F338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FB25-B1BE-41CF-AC5D-E0C19B8F5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1F85-CB52-4AAE-9865-37D48A0C5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6451-30EF-48FB-BDAB-7FD510BEA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4545-63EA-459F-9DC0-2FABEA534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31F6-CDAE-4C98-A137-1A4D8F337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78CD-FAE4-455F-8934-7E8E25880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7AE8-9488-41B3-B425-DD485FE1D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1408-1C2A-40B3-82DB-7598508CC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4A9A-79F0-4340-8D33-97DACF107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279E-FD25-40B1-9FDD-42EF07AE1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A411-8D7A-4781-9A23-DE99A908C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5C95-B7AC-46A6-A0A2-FCE0111A1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8CBF-AAD2-4FED-8271-00DCC8487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C64B-4C20-4A52-BBFB-CF72C983E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163B-41FA-4A76-85AE-0B175FBE1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2E40-4A9B-47FE-BA69-10695F3EA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8E31-C923-4A6C-991E-ADDF3A679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6BA8-D109-45EC-BC92-31D069F07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NOVEL FROM THE OPENING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IS A TRUTH UNIVERSALLY ACKNOWLEDGED, THAT A SINGLE MAN IN POSSESSION OF A GOOD FORTUNE, MUST BE IN WANT OF A W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 WERE SOMEWHERE AROUND BARSTOW ON THE EDGE OF THE DESERT WHEN THE DRUGS BEGAN TO TAKE H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BY  D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LL ME ISHMAE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WAS A BRIGHT COLD DAY IN APRIL, AND THE CLOCKS WERE STRIKING THIRT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TALE  OF  TWO 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WAS THE BEST OF TIMES, IT WAS THE WORST OF TIM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MEONE MUST HAVE SLANDERED JOSEF K., FOR ONE MORNING, WITHOUT HAVING DONE ANYTHING TRULY WRONG, HE WAS ARRES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CH–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714680" y="762120"/>
            <a:ext cx="5715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WAS LOVE AT FIRST S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LOR  PUR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800280"/>
            <a:ext cx="701064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BETTER NOT NEVER TELL NOBODY BUT G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A  KAREN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APPY FAMILIES ARE ALL ALIKE.  EVERY UNHAPPY FAMILY IS UNHAPPY IN ITS OWN 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LL ME ISHMAE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5748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CHILDREN, EXCEPT ONE, GROW U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DE  AND  PREJUD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IS A TRUTH UNIVERSALLY ACKNOWLEDGED, THAT A SINGLE MAN IN POSSESSION OF A GOOD FORTUNE, MUST BE IN WANT OF A W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AR  AND  LOATHING  IN   LAS  VE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 WERE SOMEWHERE AROUND BARSTOW ON THE EDGE OF THE DESERT WHEN THE DRUGS BEGAN TO TAKE H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WAS A BRIGHT COLD DAY IN APRIL, AND THE CLOCKS WERE STRIKING THIRTE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WAS THE BEST OF TIMES, IT WAS THE WORST OF TIM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MEONE MUST HAVE SLANDERED JOSEF K., FOR ONE MORNING, WITHOUT HAVING DONE ANYTHING TRULY WRONG, HE WAS ARREST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828800" y="76212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WAS LOVE AT FIRST S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BETTER NOT NEVER TELL NOBODY BUT G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APPY FAMILIES ARE ALL ALIKE.  EVERY UNHAPPY FAMILY IS UNHAPPY IN ITS OWN 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CHILDREN, EXCEPT ONE, GROW U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3T23:30:50Z</dcterms:created>
  <dc:creator>Jennifer Budzinski</dc:creator>
  <dc:description/>
  <dc:language>en-US</dc:language>
  <cp:lastModifiedBy>Erich Friedman</cp:lastModifiedBy>
  <dcterms:modified xsi:type="dcterms:W3CDTF">2020-09-01T18:01:39Z</dcterms:modified>
  <cp:revision>349</cp:revision>
  <dc:subject/>
  <dc:title>Slide 1</dc:title>
</cp:coreProperties>
</file>