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D52D2-843B-4435-8289-B8BDF4BFAF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E5550-493E-401C-9699-D22C6468DC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E94DD-ADFB-49C8-AF87-51260F80DB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E1660-120C-4E2E-A575-015FC3DE45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80E6F-3797-4D03-A6E0-64E0FAF296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E1B99-A5B3-403E-87DB-6780FA7EF3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73439-96BD-4156-99D7-8D35BE6347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537E8-348A-4ED0-928B-F78AA766F7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77289-689D-476A-B978-E7DF3390CB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72FD5-C9F6-476F-9D78-2E1C5A757C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B188A-EDC2-4A60-9234-7603B4670B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41C32-A142-4436-86F3-D585D62E4D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A347B-2564-4ACA-B1FD-C9E45C1965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DB309-DF14-486A-A9BE-3D01E27B00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28145-5AA3-4BA0-B3B1-8FD67E6C77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FEEF7-68F4-4C8F-B498-79FD512624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80CB5-E12D-4048-B199-B802A8C5A9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F73A7-3462-492D-AB9E-ED81A2E9E7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BD47B-9FD5-42F1-92B5-30B18B0A21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2EFB4-3504-4722-B17B-DF3A8C8944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1A3B6-ADFA-48D7-B948-E6FB009001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0D428-47F3-4003-A29A-4E709A3E8A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72A62-4C27-468B-9DC2-028D962C6A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DENTIFY THE NOVEL FROM THE OPENING LIN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IT IS A TRUTH UNIVERSALLY ACKNOWLEDGED, THAT A SINGLE MAN IN POSSESSION OF A GOOD FORTUNE, MUST BE IN WANT OF A WIF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838080" y="762120"/>
            <a:ext cx="74678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WE WERE SOMEWHERE AROUND BARSTOW ON THE EDGE OF THE DESERT WHEN THE DRUGS BEGAN TO TAKE HOL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OBY  DI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09480" y="762120"/>
            <a:ext cx="79250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CALL ME ISHMAEL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98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647640" y="762120"/>
            <a:ext cx="78487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IT WAS A BRIGHT COLD DAY IN APRIL, AND THE CLOCKS WERE STRIKING THIRTEE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53352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  TALE  OF  TWO  C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181160" y="762120"/>
            <a:ext cx="6781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IT WAS THE BEST OF TIMES, IT WAS THE WORST OF TIME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TR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228600" y="762120"/>
            <a:ext cx="8686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SOMEONE MUST HAVE SLANDERED JOSEF K., FOR ONE MORNING, WITHOUT HAVING DONE ANYTHING TRULY WRONG, HE WAS ARRESTE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380880" y="4876920"/>
            <a:ext cx="8305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TCH–2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714680" y="762120"/>
            <a:ext cx="57150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IT WAS LOVE AT FIRST SIGH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COLOR  PUR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066680" y="800280"/>
            <a:ext cx="7010640" cy="31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YOU BETTER NOT NEVER TELL NOBODY BUT GO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52280" y="4876920"/>
            <a:ext cx="8839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NA  KARENI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380880" y="762120"/>
            <a:ext cx="83822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HAPPY FAMILIES ARE ALL ALIKE.  EVERY UNHAPPY FAMILY IS UNHAPPY IN ITS OWN WA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95360" y="762120"/>
            <a:ext cx="81532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CALL ME ISHMAEL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TER  P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257480" y="762120"/>
            <a:ext cx="66294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ALL CHILDREN, EXCEPT ONE, GROW UP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0" y="4876920"/>
            <a:ext cx="91440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marL="267480" indent="-267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RIDE  AND  PREJUD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533520" y="762120"/>
            <a:ext cx="80769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IT IS A TRUTH UNIVERSALLY ACKNOWLEDGED, THAT A SINGLE MAN IN POSSESSION OF A GOOD FORTUNE, MUST BE IN WANT OF A WIF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0" y="487692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EAR  AND  LOATHING  IN   LAS  VEG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685800" y="762120"/>
            <a:ext cx="77724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WE WERE SOMEWHERE AROUND BARSTOW ON THE EDGE OF THE DESERT WHEN THE DRUGS BEGAN TO TAKE HOL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IT WAS A BRIGHT COLD DAY IN APRIL, AND THE CLOCKS WERE STRIKING THIRTEE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523880" y="762120"/>
            <a:ext cx="6096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IT WAS THE BEST OF TIMES, IT WAS THE WORST OF TIME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228600" y="762120"/>
            <a:ext cx="86868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SOMEONE MUST HAVE SLANDERED JOSEF K., FOR ONE MORNING, WITHOUT HAVING DONE ANYTHING TRULY WRONG, HE WAS ARRESTE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828800" y="762120"/>
            <a:ext cx="54864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IT WAS LOVE AT FIRST SIGH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066680" y="761760"/>
            <a:ext cx="70106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YOU BETTER NOT NEVER TELL NOBODY BUT GO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266760" y="761760"/>
            <a:ext cx="86104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HAPPY FAMILIES ARE ALL ALIKE.  EVERY UNHAPPY FAMILY IS UNHAPPY IN ITS OWN WA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181160" y="762120"/>
            <a:ext cx="67816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ALL CHILDREN, EXCEPT ONE, GROW UP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3T23:30:50Z</dcterms:created>
  <dc:creator>Jennifer Budzinski</dc:creator>
  <dc:description/>
  <dc:language>en-US</dc:language>
  <cp:lastModifiedBy>Erich Friedman</cp:lastModifiedBy>
  <dcterms:modified xsi:type="dcterms:W3CDTF">2020-09-01T18:01:39Z</dcterms:modified>
  <cp:revision>349</cp:revision>
  <dc:subject/>
  <dc:title>Slide 1</dc:title>
</cp:coreProperties>
</file>