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0D69-9986-4D8C-B91D-BAE7ED7A0D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D962-653E-44E7-B477-CB49086ED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5B77-6C50-4CAD-8C3F-2C5CA5854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CC4E-C345-472B-9180-97158BAB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2FD4-B90D-41CC-AA34-E1F4646E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37D6-1FD5-4590-B7B4-449B17CD8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E8F0-E8E6-4FE5-B5B6-8417B920F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CFCB-083A-4ECD-9501-8567126FA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E4A5-E655-42CE-986C-333CF25FF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593D-F387-49D2-B6D4-EE1606FB4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77E7-6580-4CA6-805E-89951A7FF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556D-AF6E-4564-8B29-2279076E5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2C79-2A3C-4E23-A29D-06C16B37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D451-CC5C-4952-8BA2-261B98C8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DC02-0DCE-49BB-B9FC-B42C1A06D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91DB-D11B-4791-9872-8AC2F4D0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3EC7-B71F-48A9-9C05-FA1719C3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4963-1306-4B2C-ADBA-0AC50ED12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B25A-3AC9-49D1-B436-959DB739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6C33-1276-4F02-8FDA-FF1A4605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513-D984-43AD-840E-25CD9799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759-127F-43F4-8C40-9547FFB3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C68F-F8D2-491B-8B4F-79E3554FD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09720" y="1676160"/>
            <a:ext cx="5524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OOK BY ITS CO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lord of the flies.jpeg"/>
          <p:cNvPicPr/>
          <p:nvPr/>
        </p:nvPicPr>
        <p:blipFill>
          <a:blip r:embed="rId1"/>
          <a:stretch/>
        </p:blipFill>
        <p:spPr>
          <a:xfrm>
            <a:off x="3084480" y="1295280"/>
            <a:ext cx="2975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  THE  WILD  THINGS 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1703520" y="1295280"/>
            <a:ext cx="5736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2992320" y="1295280"/>
            <a:ext cx="315936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CTURE  OF  DORIAN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2073240" y="1295280"/>
            <a:ext cx="4997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Moby dick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ASUR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703520" y="1295280"/>
            <a:ext cx="5736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930400" y="1295280"/>
            <a:ext cx="328320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E  NEW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D  OF  THE  F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lord of the flies.jpeg"/>
          <p:cNvPicPr/>
          <p:nvPr/>
        </p:nvPicPr>
        <p:blipFill>
          <a:blip r:embed="rId1"/>
          <a:stretch/>
        </p:blipFill>
        <p:spPr>
          <a:xfrm>
            <a:off x="3048120" y="1295280"/>
            <a:ext cx="2973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992320" y="1295280"/>
            <a:ext cx="315936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073240" y="1295280"/>
            <a:ext cx="4997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Moby dick.jpg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8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tretch/>
        </p:blipFill>
        <p:spPr>
          <a:xfrm>
            <a:off x="2930400" y="1295280"/>
            <a:ext cx="3283200" cy="3632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2:25:32Z</dcterms:created>
  <dc:creator>Jennifer Budzinski</dc:creator>
  <dc:description/>
  <dc:language>en-US</dc:language>
  <cp:lastModifiedBy>Erich Friedman</cp:lastModifiedBy>
  <dcterms:modified xsi:type="dcterms:W3CDTF">2020-09-01T18:35:39Z</dcterms:modified>
  <cp:revision>296</cp:revision>
  <dc:subject/>
  <dc:title>Slide 1</dc:title>
</cp:coreProperties>
</file>