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12EF-84C9-48BF-9693-1422CABA0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C95D-08AD-4724-8066-E5CCFAF9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2F04-C7DC-4712-9BEF-FC1784BD8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6DA1-AE60-437E-8DC1-6F8E6D229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98FD-78FD-4791-B214-14A30A04E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D903-0B03-4689-85B3-FD1ED13E6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6090-1A39-4E79-914F-7EC84010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D2BA-0342-4513-A412-6C68DAF38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BDD1-4688-4A80-B314-BE9FED971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CB6D-7519-4169-BB01-BDB4C86E9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A9A2-9638-406B-A11F-98671ABA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AFF4-F4B3-4D6A-B3A0-6C8169DAF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B8F2-34AD-4097-9786-5A0E9572C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75CA-4A23-4FBC-ADBE-624CF959B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D628-11B7-48C7-87DC-836F85933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101C-A78A-4185-B8BD-C2A064F77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243E-5F8E-499D-A06D-3F6FB46A7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ACF4-2402-4ED3-9883-59AAD90E3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9D9E-964E-43DC-93BF-24008A562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D4A2-C189-45E8-A926-C93A8F9B5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FA94-23DE-4181-943D-5BCCD82FA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3318-8660-40CD-9F84-1B225FAA6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525C-0270-4DF2-94CF-96771F727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09720" y="1676160"/>
            <a:ext cx="5524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BOOK BY ITS C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2800440" y="1295280"/>
            <a:ext cx="35431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lord of the flies.jpeg"/>
          <p:cNvPicPr/>
          <p:nvPr/>
        </p:nvPicPr>
        <p:blipFill>
          <a:blip r:embed="rId1"/>
          <a:stretch/>
        </p:blipFill>
        <p:spPr>
          <a:xfrm>
            <a:off x="3084480" y="1295280"/>
            <a:ext cx="2975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RE  THE  WILD  THINGS 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1703520" y="1295280"/>
            <a:ext cx="5736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6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TTLE  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2992320" y="1295280"/>
            <a:ext cx="315936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705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E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ICTURE  OF  DORIAN  G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2073240" y="1295280"/>
            <a:ext cx="4997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Y  D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Moby dick.jpg"/>
          <p:cNvPicPr/>
          <p:nvPr/>
        </p:nvPicPr>
        <p:blipFill>
          <a:blip r:embed="rId1"/>
          <a:stretch/>
        </p:blipFill>
        <p:spPr>
          <a:xfrm>
            <a:off x="2971800" y="1295280"/>
            <a:ext cx="327672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ASURE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703520" y="1295280"/>
            <a:ext cx="5736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2930400" y="1295280"/>
            <a:ext cx="3283200" cy="363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VE  NEW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800440" y="1295280"/>
            <a:ext cx="35431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D  OF  THE  F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lord of the flies.jpeg"/>
          <p:cNvPicPr/>
          <p:nvPr/>
        </p:nvPicPr>
        <p:blipFill>
          <a:blip r:embed="rId1"/>
          <a:stretch/>
        </p:blipFill>
        <p:spPr>
          <a:xfrm>
            <a:off x="3048120" y="1295280"/>
            <a:ext cx="2973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6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992320" y="1295280"/>
            <a:ext cx="315936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073240" y="1295280"/>
            <a:ext cx="4997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Moby dick.jpg"/>
          <p:cNvPicPr/>
          <p:nvPr/>
        </p:nvPicPr>
        <p:blipFill>
          <a:blip r:embed="rId1"/>
          <a:stretch/>
        </p:blipFill>
        <p:spPr>
          <a:xfrm>
            <a:off x="2971800" y="1295280"/>
            <a:ext cx="3276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tretch/>
        </p:blipFill>
        <p:spPr>
          <a:xfrm>
            <a:off x="2930400" y="1295280"/>
            <a:ext cx="3283200" cy="363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22:25:32Z</dcterms:created>
  <dc:creator>Jennifer Budzinski</dc:creator>
  <dc:description/>
  <dc:language>en-US</dc:language>
  <cp:lastModifiedBy>Erich Friedman</cp:lastModifiedBy>
  <dcterms:modified xsi:type="dcterms:W3CDTF">2020-09-01T18:35:39Z</dcterms:modified>
  <cp:revision>296</cp:revision>
  <dc:subject/>
  <dc:title>Slide 1</dc:title>
</cp:coreProperties>
</file>