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C198-55B3-428D-A833-9B893143C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0319-A7B7-44C4-92CE-DE143460F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F229-0E9C-4464-BDEE-C5D286723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3E08-BDF3-469A-96A8-CB8E2B955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93EC-35A9-4FBF-A342-EC99ED37C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93DB-0492-434B-8989-8CEE24AF9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BC4B-C188-49B0-8F23-3A8710D78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C8FC-3A4D-4079-B71B-1E4332388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1F5E-DCB5-4D07-8401-96026E885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CB13-D5A2-4657-A0AF-A486FFBF4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1D0F-5967-4057-B379-AE9D2C2B4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6448-478F-42EE-92AF-A48B6E19F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E710-3E64-4BF7-97DC-5D794006C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DC14-BFD5-4E64-96E6-EFD018846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7750-5996-4561-8468-DBC27DAA7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AF95-775F-4648-B017-67EE69012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73E7-7277-4743-90AD-1EA4EB166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12E6-7A3E-4757-BD61-332F66876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FA5D-C771-4472-B533-36CE60A2E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3CAE-52A7-4996-8909-379FB80ED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B74B-4B17-4ADB-8308-F3AE37419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1A81-AA07-4B66-916C-027BA7A18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E900-DC82-4567-A818-D839ABBBC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714320" y="1066680"/>
            <a:ext cx="5715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IOM ORIGINS TRUE OR FAL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KELETON IN THE CLOSET" COMES FROM A FAMILY WHO HID THEIR VERY ILL CHILD IN THE CLOSET WHEN COMPANY VISI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HIP ON YOUR SHOULDER" COMES FROM A GAME IN WHICH ONE CHILD TRIED TO KNOCK A CHIP OFF THE SHOULDER OF AN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T THE CAT OUT OF THE BAG" COMES FROM THE FRAUD OF REPLACING VALUABLE PIGS FOR SALE IN BAGS WITH LESS VALUABLE CA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UTTER SOMEONE UP" COMES FROM BUTTER BEING USED AS A LUBRICANT TO ENSURE THINGS GO SMOOTH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INNING HANDS DOWN" COMES FROM BOXERS BEING SO FAR AHEAD IN A MATCH THAT THEY COULD WIN WITHOUT DEFEN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OST AN ARM AND A LEG" COMES FROM PORTRAITS ORIGINALLY COSTING MORE IF THEY INCLUDED LIM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87624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RMED TO THE TEETH" COMES FROM HAVING SO MANY WEAPONS, SOME WOULD NEED TO BE CARRIED IN THE MOU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ET ONE'S GOAT" COMES FROM STEALING A GOAT USED TO RELAX YOUR OPPONENT'S RACEHOR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68580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EELING UNDER THE  WEATHER" COMES FROM AILMENTS THOUGHT TO BE CAUSED BY BEING RAINED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T THE CAT OUT OF THE BAG" COMES FROM THE FRAUD OF REPLACING VALUABLE PIGS FOR SALE IN BAGS WITH LESS VALUABLE CA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AINING CATS AND DOGS" COMES FROM EGYPTIAN MYTHOLOGY WHERE          CAT AND DOG GODS CONTROLLED THE WEA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KELETON IN THE CLOSET" COMES FROM A FAMILY WHO HID THEIR VERY ILL CHILD IN THE CLOSET WHEN COMPANY VISI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HIP ON YOUR SHOULDER" COMES FROM A GAME IN WHICH ONE CHILD TRIED TO KNOCK A CHIP OFF THE SHOULDER OF AN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UTTER SOMEONE UP" COMES FROM BUTTER BEING USED AS A LUBRICANT TO ENSURE THINGS GO SMOOTH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INNING HANDS DOWN" COMES FROM BOXERS BEING SO FAR AHEAD IN A MATCH THAT THEY COULD WIN WITHOUT DEFEN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OST AN ARM AND A LEG" COMES FROM PORTRAITS ORIGINALLY COSTING MORE IF THEY INCLUDED LIMB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RMED TO THE TEETH" COMES FROM HAVING SO MANY WEAPONS, SOME WOULD NEED TO BE CARRIED IN THE MOU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ET ONE'S GOAT" COMES FROM STEALING A GOAT USED TO RELAX YOUR OPPONENT'S RACEHORS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EELING UNDER THE WEATHER" COMES FROM AILMENTS THOUGHT TO BE CAUSED BY BEING RAINED 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AINING CATS AND DOGS" COMES FROM EGYPTIAN MYTHOLOGY WHERE          CAT AND DOG GODS CONTROLLED THE WEA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6T12:38:17Z</dcterms:created>
  <dc:creator>Jennifer Budzinski</dc:creator>
  <dc:description/>
  <dc:language>en-US</dc:language>
  <cp:lastModifiedBy>Erich Friedman</cp:lastModifiedBy>
  <dcterms:modified xsi:type="dcterms:W3CDTF">2020-09-01T18:38:30Z</dcterms:modified>
  <cp:revision>339</cp:revision>
  <dc:subject/>
  <dc:title>Slide 1</dc:title>
</cp:coreProperties>
</file>