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2CAF-A27C-418B-B885-FBCB4A311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5693-5DAE-494F-8BFD-CC32E9D83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C828-2221-4724-8CDF-7DBAB37AC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DFF8-485B-4C13-ACAA-610DEB286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6D93-2A33-4939-9092-3D198F430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7161-1196-4742-A78E-2B66504A5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8773-0614-4168-BCB8-406C55C6E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17CF-8472-40DD-8498-2693886AF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1930-43DC-4729-8F70-0537A8E74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4321-0609-4D6F-A829-9A0BF8D2D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55D8-30C4-4FB0-AB67-2D82EB590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2C8A-C7B0-495E-92FC-66480A2C3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2134-7F9B-49D1-9E4E-D60271DD9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B756-F858-4A55-AB57-98FB6BF39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095A-304D-4D40-A130-445C9FED8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7B66-7C58-4537-A25C-EF88EA63E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22BE-5673-48A9-A225-E6CF10BB2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1F30-1303-4C20-AEB1-48399F382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08FC-704E-4E21-981E-BDD75DF91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FF3A-C842-4F92-92B5-0CC1353FB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8DA0-6B2A-4245-8C01-4ED0E7BFC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8445-0F2B-4D63-AACA-5FAD04EF3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FEC1-3824-4E3E-A10A-32D85A613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714320" y="1066680"/>
            <a:ext cx="5715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IOM ORIGINS TRUE OR FAL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KELETON IN THE CLOSET" COMES FROM A FAMILY WHO HID THEIR VERY ILL CHILD IN THE CLOSET WHEN COMPANY VISI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HIP ON YOUR SHOULDER" COMES FROM A GAME IN WHICH ONE CHILD TRIED TO KNOCK A CHIP OFF THE SHOULDER OF AN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T THE CAT OUT OF THE BAG" COMES FROM THE FRAUD OF REPLACING VALUABLE PIGS FOR SALE IN BAGS WITH LESS VALUABLE CA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UTTER SOMEONE UP" COMES FROM BUTTER BEING USED AS A LUBRICANT TO ENSURE THINGS GO SMOOTH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INNING HANDS DOWN" COMES FROM BOXERS BEING SO FAR AHEAD IN A MATCH THAT THEY COULD WIN WITHOUT DEFEN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OST AN ARM AND A LEG" COMES FROM PORTRAITS ORIGINALLY COSTING MORE IF THEY INCLUDED LIM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87624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RMED TO THE TEETH" COMES FROM HAVING SO MANY WEAPONS, SOME WOULD NEED TO BE CARRIED IN THE M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ET ONE'S GOAT" COMES FROM STEALING A GOAT USED TO RELAX YOUR OPPONENT'S RACEHOR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68580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EELING UNDER THE  WEATHER" COMES FROM AILMENTS THOUGHT TO BE CAUSED BY BEING RAINED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T THE CAT OUT OF THE BAG" COMES FROM THE FRAUD OF REPLACING VALUABLE PIGS FOR SALE IN BAGS WITH LESS VALUABLE CA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INING CATS AND DOGS" COMES FROM EGYPTIAN MYTHOLOGY WHERE          CAT AND DOG GODS CONTROLLED THE WEA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KELETON IN THE CLOSET" COMES FROM A FAMILY WHO HID THEIR VERY ILL CHILD IN THE CLOSET WHEN COMPANY VISI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HIP ON YOUR SHOULDER" COMES FROM A GAME IN WHICH ONE CHILD TRIED TO KNOCK A CHIP OFF THE SHOULDER OF AN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UTTER SOMEONE UP" COMES FROM BUTTER BEING USED AS A LUBRICANT TO ENSURE THINGS GO SMOOTH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INNING HANDS DOWN" COMES FROM BOXERS BEING SO FAR AHEAD IN A MATCH THAT THEY COULD WIN WITHOUT DEFEN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OST AN ARM AND A LEG" COMES FROM PORTRAITS ORIGINALLY COSTING MORE IF THEY INCLUDED LIMB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RMED TO THE TEETH" COMES FROM HAVING SO MANY WEAPONS, SOME WOULD NEED TO BE CARRIED IN THE MOU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ET ONE'S GOAT" COMES FROM STEALING A GOAT USED TO RELAX YOUR OPPONENT'S RACEHORS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EELING UNDER THE WEATHER" COMES FROM AILMENTS THOUGHT TO BE CAUSED BY BEING RAINED 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INING CATS AND DOGS" COMES FROM EGYPTIAN MYTHOLOGY WHERE          CAT AND DOG GODS CONTROLLED THE WEA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6T12:38:17Z</dcterms:created>
  <dc:creator>Jennifer Budzinski</dc:creator>
  <dc:description/>
  <dc:language>en-US</dc:language>
  <cp:lastModifiedBy>Erich Friedman</cp:lastModifiedBy>
  <dcterms:modified xsi:type="dcterms:W3CDTF">2020-09-01T18:38:30Z</dcterms:modified>
  <cp:revision>339</cp:revision>
  <dc:subject/>
  <dc:title>Slide 1</dc:title>
</cp:coreProperties>
</file>